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739880" y="1414440"/>
            <a:ext cx="4078440" cy="34704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1331640" y="5114520"/>
            <a:ext cx="4892760" cy="41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 quizá la parte más importante de la planificación y depende totalmente de la información dispon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6040" cy="682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9560" y="1467000"/>
            <a:ext cx="860760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9560" y="3953520"/>
            <a:ext cx="860760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6040" cy="682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9560" y="1467000"/>
            <a:ext cx="42004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0280" y="1467000"/>
            <a:ext cx="42004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9560" y="3953520"/>
            <a:ext cx="42004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0280" y="3953520"/>
            <a:ext cx="42004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6040" cy="682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9560" y="1467000"/>
            <a:ext cx="27712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9800" y="1467000"/>
            <a:ext cx="27712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0040" y="1467000"/>
            <a:ext cx="27712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9560" y="3953520"/>
            <a:ext cx="27712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9800" y="3953520"/>
            <a:ext cx="27712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0040" y="3953520"/>
            <a:ext cx="27712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6040" cy="682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09560" y="1467000"/>
            <a:ext cx="8607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6040" cy="682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09560" y="1467000"/>
            <a:ext cx="8607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6040" cy="682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09560" y="1467000"/>
            <a:ext cx="420048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0280" y="1467000"/>
            <a:ext cx="420048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6040" cy="682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10076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7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6040" cy="682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09560" y="1467000"/>
            <a:ext cx="42004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0280" y="1467000"/>
            <a:ext cx="420048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09560" y="3953520"/>
            <a:ext cx="42004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6040" cy="682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9560" y="1467000"/>
            <a:ext cx="8607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6040" cy="682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09560" y="1467000"/>
            <a:ext cx="420048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0280" y="1467000"/>
            <a:ext cx="42004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0280" y="3953520"/>
            <a:ext cx="42004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6040" cy="682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09560" y="1467000"/>
            <a:ext cx="42004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0280" y="1467000"/>
            <a:ext cx="42004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09560" y="3953520"/>
            <a:ext cx="860760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6040" cy="682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9560" y="1467000"/>
            <a:ext cx="860760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09560" y="3953520"/>
            <a:ext cx="860760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6040" cy="682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09560" y="1467000"/>
            <a:ext cx="42004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0280" y="1467000"/>
            <a:ext cx="42004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09560" y="3953520"/>
            <a:ext cx="42004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20280" y="3953520"/>
            <a:ext cx="42004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6040" cy="682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09560" y="1467000"/>
            <a:ext cx="27712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19800" y="1467000"/>
            <a:ext cx="27712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30040" y="1467000"/>
            <a:ext cx="27712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09560" y="3953520"/>
            <a:ext cx="27712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19800" y="3953520"/>
            <a:ext cx="27712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30040" y="3953520"/>
            <a:ext cx="27712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6040" cy="682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9560" y="1467000"/>
            <a:ext cx="8607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6040" cy="682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9560" y="1467000"/>
            <a:ext cx="420048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0280" y="1467000"/>
            <a:ext cx="420048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6040" cy="682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10076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7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6040" cy="682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9560" y="1467000"/>
            <a:ext cx="42004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0280" y="1467000"/>
            <a:ext cx="420048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9560" y="3953520"/>
            <a:ext cx="42004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6040" cy="682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9560" y="1467000"/>
            <a:ext cx="420048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0280" y="1467000"/>
            <a:ext cx="42004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0280" y="3953520"/>
            <a:ext cx="42004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6040" cy="682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9560" y="1467000"/>
            <a:ext cx="42004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0280" y="1467000"/>
            <a:ext cx="420048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9560" y="3953520"/>
            <a:ext cx="8607600" cy="22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80720" cy="14032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000080"/>
              </a:gs>
              <a:gs pos="100000">
                <a:srgbClr val="e6e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68360"/>
            <a:ext cx="743040" cy="6197760"/>
          </a:xfrm>
          <a:custGeom>
            <a:avLst/>
            <a:gdLst>
              <a:gd name="textAreaLeft" fmla="*/ 360 w 743040"/>
              <a:gd name="textAreaRight" fmla="*/ 742680 w 743040"/>
              <a:gd name="textAreaTop" fmla="*/ 360 h 6197760"/>
              <a:gd name="textAreaBottom" fmla="*/ 6197400 h 6197760"/>
            </a:gdLst>
            <a:ahLst/>
            <a:rect l="textAreaLeft" t="textAreaTop" r="textAreaRight" b="textAreaBottom"/>
            <a:pathLst>
              <a:path w="21600" h="180091">
                <a:moveTo>
                  <a:pt x="46" y="0"/>
                </a:moveTo>
                <a:arcTo wR="46" hR="46" stAng="16200000" swAng="-5400000"/>
                <a:lnTo>
                  <a:pt x="0" y="180045"/>
                </a:lnTo>
                <a:arcTo wR="46" hR="46" stAng="10800000" swAng="-5400000"/>
                <a:lnTo>
                  <a:pt x="21554" y="180091"/>
                </a:lnTo>
                <a:arcTo wR="46" hR="46" stAng="5400000" swAng="-5400000"/>
                <a:lnTo>
                  <a:pt x="21600" y="46"/>
                </a:lnTo>
                <a:arcTo wR="46" hR="46" stAng="0" swAng="-5400000"/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e6e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6200000">
            <a:off x="-636480" y="4160880"/>
            <a:ext cx="204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uro-Par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9960" y="0"/>
            <a:ext cx="9318600" cy="1371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71480" y="1881360"/>
            <a:ext cx="8607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32364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31640" indent="-32364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25560"/>
            <a:ext cx="10080720" cy="712800"/>
          </a:xfrm>
          <a:prstGeom prst="roundRect">
            <a:avLst>
              <a:gd name="adj" fmla="val 222"/>
            </a:avLst>
          </a:prstGeom>
          <a:gradFill rotWithShape="0">
            <a:gsLst>
              <a:gs pos="0">
                <a:srgbClr val="000080"/>
              </a:gs>
              <a:gs pos="100000">
                <a:srgbClr val="e6e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40" y="7196040"/>
            <a:ext cx="10077480" cy="60480"/>
          </a:xfrm>
          <a:prstGeom prst="roundRect">
            <a:avLst>
              <a:gd name="adj" fmla="val 2630"/>
            </a:avLst>
          </a:prstGeom>
          <a:gradFill rotWithShape="0">
            <a:gsLst>
              <a:gs pos="0">
                <a:srgbClr val="000080"/>
              </a:gs>
              <a:gs pos="100000">
                <a:srgbClr val="e6e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6560" y="7238520"/>
            <a:ext cx="497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366cc"/>
                </a:solidFill>
                <a:latin typeface="Arial"/>
              </a:rPr>
              <a:t>Grid Resource Selection for Opportunistic Job Mi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76200" y="7238520"/>
            <a:ext cx="13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808080"/>
                </a:solidFill>
                <a:latin typeface="Arial"/>
              </a:rPr>
              <a:t>Euro-Par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6040" cy="6825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09560" y="1467000"/>
            <a:ext cx="86076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hyperlink" Target="mailto:huedoce@inta.es" TargetMode="Externa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009880" y="3301920"/>
            <a:ext cx="1668240" cy="1846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7960" y="5243400"/>
            <a:ext cx="4721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tributed Systems Architecture and Security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pto. de Arquitectura de Computadores y Auto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versidad Complutense de Mad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73840" y="3308400"/>
            <a:ext cx="1892160" cy="1838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021440" y="6534000"/>
            <a:ext cx="673200" cy="938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02320" y="5383080"/>
            <a:ext cx="444168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anced Computing Labor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ro de Astrobi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ociated to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ASA Astrobiology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SIC – I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400480" y="6529320"/>
            <a:ext cx="903240" cy="947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912080" y="658188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6200" y="82440"/>
            <a:ext cx="9280440" cy="13226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rid Resource Selection for Opportunistic Job Migr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54800" y="1801800"/>
            <a:ext cx="6835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bén Santiago Mont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duardo Huedo Cuesta (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uedoce@inta.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nacio Martín Llo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66680" y="835200"/>
            <a:ext cx="9744120" cy="3006720"/>
          </a:xfrm>
          <a:prstGeom prst="roundRect">
            <a:avLst>
              <a:gd name="adj" fmla="val 9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6600" y="900000"/>
            <a:ext cx="8953560" cy="30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cc"/>
                </a:solidFill>
                <a:latin typeface="Arial"/>
              </a:rPr>
              <a:t>Adaptation to changing conditions is achieved through 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dynamic rescheduling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</a:rPr>
              <a:t> of job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-181080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Periodically, to discover </a:t>
            </a:r>
            <a:r>
              <a:rPr b="1" i="1" lang="en-GB" sz="1800" spc="-1" strike="noStrike">
                <a:solidFill>
                  <a:srgbClr val="ff6800"/>
                </a:solidFill>
                <a:latin typeface="Arial"/>
                <a:ea typeface="HG Mincho Light J"/>
              </a:rPr>
              <a:t>better</a:t>
            </a:r>
            <a:r>
              <a:rPr b="1" lang="en-GB" sz="1800" spc="-1" strike="noStrike">
                <a:solidFill>
                  <a:srgbClr val="ff6800"/>
                </a:solidFill>
                <a:latin typeface="Arial"/>
                <a:ea typeface="HG Mincho Light J"/>
              </a:rPr>
              <a:t> resources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(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opportunistic migr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) </a:t>
            </a:r>
            <a:r>
              <a:rPr b="1" lang="en-GB" sz="1800" spc="-1" strike="noStrike">
                <a:solidFill>
                  <a:srgbClr val="f078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-181080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When a resource or its network connection </a:t>
            </a:r>
            <a:r>
              <a:rPr b="1" lang="en-GB" sz="1800" spc="-1" strike="noStrike">
                <a:solidFill>
                  <a:srgbClr val="ff6800"/>
                </a:solidFill>
                <a:latin typeface="Arial"/>
                <a:ea typeface="HG Mincho Light J"/>
              </a:rPr>
              <a:t>f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-181080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When the job is </a:t>
            </a:r>
            <a:r>
              <a:rPr b="1" lang="en-GB" sz="1800" spc="-1" strike="noStrike">
                <a:solidFill>
                  <a:srgbClr val="ff6800"/>
                </a:solidFill>
                <a:latin typeface="Arial"/>
                <a:ea typeface="HG Mincho Light J"/>
              </a:rPr>
              <a:t>cance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-181080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When the job remains </a:t>
            </a:r>
            <a:r>
              <a:rPr b="1" lang="en-GB" sz="1800" spc="-1" strike="noStrike">
                <a:solidFill>
                  <a:srgbClr val="ff6800"/>
                </a:solidFill>
                <a:latin typeface="Arial"/>
                <a:ea typeface="HG Mincho Light J"/>
              </a:rPr>
              <a:t>suspend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PEND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 state) too much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-181080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When a </a:t>
            </a:r>
            <a:r>
              <a:rPr b="1" lang="en-GB" sz="1800" spc="-1" strike="noStrike">
                <a:solidFill>
                  <a:srgbClr val="ff6800"/>
                </a:solidFill>
                <a:latin typeface="Arial"/>
                <a:ea typeface="HG Mincho Light J"/>
              </a:rPr>
              <a:t>performance degrad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 is det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-181080">
              <a:lnSpc>
                <a:spcPct val="107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When the application </a:t>
            </a:r>
            <a:r>
              <a:rPr b="1" lang="en-GB" sz="1800" spc="-1" strike="noStrike">
                <a:solidFill>
                  <a:srgbClr val="ff6800"/>
                </a:solidFill>
                <a:latin typeface="Arial"/>
                <a:ea typeface="HG Mincho Light J"/>
              </a:rPr>
              <a:t>demands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  <a:ea typeface="HG Mincho Light J"/>
              </a:rPr>
              <a:t> </a:t>
            </a:r>
            <a:r>
              <a:rPr b="1" lang="en-GB" sz="1800" spc="-1" strike="noStrike">
                <a:solidFill>
                  <a:srgbClr val="ff6800"/>
                </a:solidFill>
                <a:latin typeface="Arial"/>
                <a:ea typeface="HG Mincho Light J"/>
              </a:rPr>
              <a:t>chan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 (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self-migr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Job rescheduling can lead to its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migration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to a more suitable resour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064360" y="1403280"/>
            <a:ext cx="319320" cy="1260720"/>
          </a:xfrm>
          <a:custGeom>
            <a:avLst/>
            <a:gdLst/>
            <a:ahLst/>
            <a:rect l="l" t="t" r="r" b="b"/>
            <a:pathLst>
              <a:path w="886" h="3501">
                <a:moveTo>
                  <a:pt x="0" y="0"/>
                </a:moveTo>
                <a:cubicBezTo>
                  <a:pt x="220" y="0"/>
                  <a:pt x="442" y="144"/>
                  <a:pt x="442" y="290"/>
                </a:cubicBezTo>
                <a:lnTo>
                  <a:pt x="442" y="1457"/>
                </a:lnTo>
                <a:cubicBezTo>
                  <a:pt x="442" y="1602"/>
                  <a:pt x="664" y="1749"/>
                  <a:pt x="885" y="1749"/>
                </a:cubicBezTo>
                <a:cubicBezTo>
                  <a:pt x="664" y="1749"/>
                  <a:pt x="442" y="1895"/>
                  <a:pt x="442" y="2040"/>
                </a:cubicBezTo>
                <a:lnTo>
                  <a:pt x="442" y="3208"/>
                </a:lnTo>
                <a:cubicBezTo>
                  <a:pt x="442" y="3353"/>
                  <a:pt x="220" y="3500"/>
                  <a:pt x="0" y="35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389080" y="18604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64360" y="2664000"/>
            <a:ext cx="319320" cy="671400"/>
          </a:xfrm>
          <a:custGeom>
            <a:avLst/>
            <a:gdLst/>
            <a:ahLst/>
            <a:rect l="l" t="t" r="r" b="b"/>
            <a:pathLst>
              <a:path w="886" h="1867">
                <a:moveTo>
                  <a:pt x="0" y="0"/>
                </a:moveTo>
                <a:cubicBezTo>
                  <a:pt x="220" y="0"/>
                  <a:pt x="442" y="76"/>
                  <a:pt x="442" y="154"/>
                </a:cubicBezTo>
                <a:lnTo>
                  <a:pt x="442" y="776"/>
                </a:lnTo>
                <a:cubicBezTo>
                  <a:pt x="442" y="854"/>
                  <a:pt x="664" y="932"/>
                  <a:pt x="885" y="932"/>
                </a:cubicBezTo>
                <a:cubicBezTo>
                  <a:pt x="664" y="932"/>
                  <a:pt x="442" y="1009"/>
                  <a:pt x="442" y="1088"/>
                </a:cubicBezTo>
                <a:lnTo>
                  <a:pt x="442" y="1709"/>
                </a:lnTo>
                <a:cubicBezTo>
                  <a:pt x="442" y="1788"/>
                  <a:pt x="220" y="1866"/>
                  <a:pt x="0" y="18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78280" y="28195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040360" y="4295880"/>
            <a:ext cx="4871880" cy="2571480"/>
          </a:xfrm>
          <a:prstGeom prst="roundRect">
            <a:avLst>
              <a:gd name="adj" fmla="val 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40360" y="4356000"/>
            <a:ext cx="4871880" cy="25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5056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Migration 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</a:rPr>
              <a:t>proc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5056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b </a:t>
            </a:r>
            <a:r>
              <a:rPr b="1" lang="en-GB" sz="1800" spc="-1" strike="noStrike">
                <a:solidFill>
                  <a:srgbClr val="ff6800"/>
                </a:solidFill>
                <a:latin typeface="Arial"/>
              </a:rPr>
              <a:t>cancell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if it is still runn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5056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en-GB" sz="1800" spc="-1" strike="noStrike">
                <a:solidFill>
                  <a:srgbClr val="ff6800"/>
                </a:solidFill>
                <a:latin typeface="Arial"/>
              </a:rPr>
              <a:t>Prol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bmission to the new host (transferring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heckpoint fi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5056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en-GB" sz="1800" spc="-1" strike="noStrike">
                <a:solidFill>
                  <a:srgbClr val="ff6800"/>
                </a:solidFill>
                <a:latin typeface="Arial"/>
              </a:rPr>
              <a:t>Epil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bmission to the old host (if it is still avail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5056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i="1" lang="en-GB" sz="1800" spc="-1" strike="noStrike">
                <a:solidFill>
                  <a:srgbClr val="ff6800"/>
                </a:solidFill>
                <a:latin typeface="Arial"/>
              </a:rPr>
              <a:t>Wrapp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bmission to the new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15880" y="4356000"/>
            <a:ext cx="4048200" cy="2300400"/>
            <a:chOff x="515880" y="4356000"/>
            <a:chExt cx="4048200" cy="2300400"/>
          </a:xfrm>
        </p:grpSpPr>
        <p:grpSp>
          <p:nvGrpSpPr>
            <p:cNvPr id="431" name=""/>
            <p:cNvGrpSpPr/>
            <p:nvPr/>
          </p:nvGrpSpPr>
          <p:grpSpPr>
            <a:xfrm>
              <a:off x="3452760" y="4356000"/>
              <a:ext cx="1111320" cy="612720"/>
              <a:chOff x="3452760" y="4356000"/>
              <a:chExt cx="1111320" cy="612720"/>
            </a:xfrm>
          </p:grpSpPr>
          <p:sp>
            <p:nvSpPr>
              <p:cNvPr id="432" name=""/>
              <p:cNvSpPr/>
              <p:nvPr/>
            </p:nvSpPr>
            <p:spPr>
              <a:xfrm>
                <a:off x="3452760" y="4356000"/>
                <a:ext cx="1111320" cy="612720"/>
              </a:xfrm>
              <a:prstGeom prst="roundRect">
                <a:avLst>
                  <a:gd name="adj" fmla="val 15023"/>
                </a:avLst>
              </a:prstGeom>
              <a:solidFill>
                <a:srgbClr val="f078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15920" y="449388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23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e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3452760" y="6043680"/>
              <a:ext cx="1111320" cy="612720"/>
              <a:chOff x="3452760" y="6043680"/>
              <a:chExt cx="1111320" cy="612720"/>
            </a:xfrm>
          </p:grpSpPr>
          <p:sp>
            <p:nvSpPr>
              <p:cNvPr id="435" name=""/>
              <p:cNvSpPr/>
              <p:nvPr/>
            </p:nvSpPr>
            <p:spPr>
              <a:xfrm>
                <a:off x="3452760" y="6043680"/>
                <a:ext cx="1111320" cy="612720"/>
              </a:xfrm>
              <a:prstGeom prst="roundRect">
                <a:avLst>
                  <a:gd name="adj" fmla="val 1502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60920" y="6183000"/>
                <a:ext cx="49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23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Ol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515880" y="5281560"/>
              <a:ext cx="1111320" cy="612720"/>
              <a:chOff x="515880" y="5281560"/>
              <a:chExt cx="1111320" cy="612720"/>
            </a:xfrm>
          </p:grpSpPr>
          <p:sp>
            <p:nvSpPr>
              <p:cNvPr id="438" name=""/>
              <p:cNvSpPr/>
              <p:nvPr/>
            </p:nvSpPr>
            <p:spPr>
              <a:xfrm>
                <a:off x="515880" y="5281560"/>
                <a:ext cx="1111320" cy="612720"/>
              </a:xfrm>
              <a:prstGeom prst="roundRect">
                <a:avLst>
                  <a:gd name="adj" fmla="val 15023"/>
                </a:avLst>
              </a:pr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90840" y="5402880"/>
                <a:ext cx="76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23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Cli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40" name=""/>
            <p:cNvCxnSpPr/>
            <p:nvPr/>
          </p:nvCxnSpPr>
          <p:spPr>
            <a:xfrm flipV="1">
              <a:off x="1626840" y="4698360"/>
              <a:ext cx="182628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1" name=""/>
            <p:cNvCxnSpPr/>
            <p:nvPr/>
          </p:nvCxnSpPr>
          <p:spPr>
            <a:xfrm>
              <a:off x="1626840" y="5748120"/>
              <a:ext cx="1826280" cy="764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42" name=""/>
            <p:cNvGrpSpPr/>
            <p:nvPr/>
          </p:nvGrpSpPr>
          <p:grpSpPr>
            <a:xfrm>
              <a:off x="2203560" y="6109200"/>
              <a:ext cx="317520" cy="337320"/>
              <a:chOff x="2203560" y="6109200"/>
              <a:chExt cx="317520" cy="337320"/>
            </a:xfrm>
          </p:grpSpPr>
          <p:sp>
            <p:nvSpPr>
              <p:cNvPr id="443" name=""/>
              <p:cNvSpPr/>
              <p:nvPr/>
            </p:nvSpPr>
            <p:spPr>
              <a:xfrm>
                <a:off x="2203560" y="6124680"/>
                <a:ext cx="317520" cy="306360"/>
              </a:xfrm>
              <a:prstGeom prst="ellipse">
                <a:avLst/>
              </a:prstGeom>
              <a:noFill/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215440" y="61092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3366cc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3768840" y="5127480"/>
              <a:ext cx="536400" cy="765360"/>
            </a:xfrm>
            <a:custGeom>
              <a:avLst/>
              <a:gdLst/>
              <a:ahLst/>
              <a:rect l="l" t="t" r="r" b="b"/>
              <a:pathLst>
                <a:path w="1489" h="2126">
                  <a:moveTo>
                    <a:pt x="432" y="2125"/>
                  </a:moveTo>
                  <a:lnTo>
                    <a:pt x="432" y="472"/>
                  </a:lnTo>
                  <a:lnTo>
                    <a:pt x="0" y="472"/>
                  </a:lnTo>
                  <a:lnTo>
                    <a:pt x="743" y="0"/>
                  </a:lnTo>
                  <a:lnTo>
                    <a:pt x="1488" y="472"/>
                  </a:lnTo>
                  <a:lnTo>
                    <a:pt x="1054" y="472"/>
                  </a:lnTo>
                  <a:lnTo>
                    <a:pt x="1054" y="2125"/>
                  </a:lnTo>
                  <a:lnTo>
                    <a:pt x="432" y="2125"/>
                  </a:lnTo>
                </a:path>
              </a:pathLst>
            </a:custGeom>
            <a:gradFill rotWithShape="0">
              <a:gsLst>
                <a:gs pos="0">
                  <a:srgbClr val="4b87c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2519280" y="5646960"/>
              <a:ext cx="317520" cy="337320"/>
              <a:chOff x="2519280" y="5646960"/>
              <a:chExt cx="317520" cy="337320"/>
            </a:xfrm>
          </p:grpSpPr>
          <p:sp>
            <p:nvSpPr>
              <p:cNvPr id="447" name=""/>
              <p:cNvSpPr/>
              <p:nvPr/>
            </p:nvSpPr>
            <p:spPr>
              <a:xfrm>
                <a:off x="2519280" y="5662440"/>
                <a:ext cx="317520" cy="304920"/>
              </a:xfrm>
              <a:prstGeom prst="ellipse">
                <a:avLst/>
              </a:prstGeom>
              <a:noFill/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31160" y="5646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3366cc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2341440" y="4509000"/>
              <a:ext cx="317520" cy="337320"/>
              <a:chOff x="2341440" y="4509000"/>
              <a:chExt cx="317520" cy="337320"/>
            </a:xfrm>
          </p:grpSpPr>
          <p:sp>
            <p:nvSpPr>
              <p:cNvPr id="450" name=""/>
              <p:cNvSpPr/>
              <p:nvPr/>
            </p:nvSpPr>
            <p:spPr>
              <a:xfrm>
                <a:off x="2341440" y="4524480"/>
                <a:ext cx="317520" cy="306360"/>
              </a:xfrm>
              <a:prstGeom prst="ellipse">
                <a:avLst/>
              </a:prstGeom>
              <a:noFill/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353680" y="4509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3366cc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52" name=""/>
            <p:cNvCxnSpPr/>
            <p:nvPr/>
          </p:nvCxnSpPr>
          <p:spPr>
            <a:xfrm>
              <a:off x="1618920" y="5586120"/>
              <a:ext cx="1826280" cy="76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3" name=""/>
            <p:cNvCxnSpPr/>
            <p:nvPr/>
          </p:nvCxnSpPr>
          <p:spPr>
            <a:xfrm flipV="1">
              <a:off x="1618920" y="4523760"/>
              <a:ext cx="182628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54" name=""/>
            <p:cNvGrpSpPr/>
            <p:nvPr/>
          </p:nvGrpSpPr>
          <p:grpSpPr>
            <a:xfrm>
              <a:off x="2706840" y="5042160"/>
              <a:ext cx="317520" cy="337320"/>
              <a:chOff x="2706840" y="5042160"/>
              <a:chExt cx="317520" cy="337320"/>
            </a:xfrm>
          </p:grpSpPr>
          <p:sp>
            <p:nvSpPr>
              <p:cNvPr id="455" name=""/>
              <p:cNvSpPr/>
              <p:nvPr/>
            </p:nvSpPr>
            <p:spPr>
              <a:xfrm>
                <a:off x="2706840" y="5057640"/>
                <a:ext cx="317520" cy="306360"/>
              </a:xfrm>
              <a:prstGeom prst="ellipse">
                <a:avLst/>
              </a:prstGeom>
              <a:noFill/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718720" y="5042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3366cc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077480" cy="757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id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y: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daptive Job Exec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444600" y="4648320"/>
            <a:ext cx="9209160" cy="2122200"/>
          </a:xfrm>
          <a:prstGeom prst="roundRect">
            <a:avLst>
              <a:gd name="adj" fmla="val 115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9560" y="2771640"/>
            <a:ext cx="9209160" cy="1511280"/>
          </a:xfrm>
          <a:prstGeom prst="roundRect">
            <a:avLst>
              <a:gd name="adj" fmla="val 162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34880" y="1038240"/>
            <a:ext cx="9209160" cy="1357200"/>
          </a:xfrm>
          <a:prstGeom prst="roundRect">
            <a:avLst>
              <a:gd name="adj" fmla="val 181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09720" y="1087560"/>
            <a:ext cx="82389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687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source is discovered, because eith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87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800" spc="-1" strike="noStrike">
                <a:solidFill>
                  <a:srgbClr val="ff6800"/>
                </a:solidFill>
                <a:latin typeface="Arial"/>
              </a:rPr>
              <a:t>ne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source is </a:t>
            </a:r>
            <a:r>
              <a:rPr b="1" lang="en-GB" sz="1800" spc="-1" strike="noStrike">
                <a:solidFill>
                  <a:srgbClr val="ff6800"/>
                </a:solidFill>
                <a:latin typeface="Arial"/>
              </a:rPr>
              <a:t>add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the 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87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800" spc="-1" strike="noStrike">
                <a:solidFill>
                  <a:srgbClr val="ff6800"/>
                </a:solidFill>
                <a:latin typeface="Arial"/>
              </a:rPr>
              <a:t>bus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source becomes </a:t>
            </a:r>
            <a:r>
              <a:rPr b="1" lang="en-GB" sz="1800" spc="-1" strike="noStrike">
                <a:solidFill>
                  <a:srgbClr val="ff6800"/>
                </a:solidFill>
                <a:latin typeface="Arial"/>
              </a:rPr>
              <a:t>id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cause an application completes its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1960" y="4826160"/>
            <a:ext cx="85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Migration g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tric to estimate the </a:t>
            </a:r>
            <a:r>
              <a:rPr b="1" lang="en-GB" sz="1800" spc="-1" strike="noStrike">
                <a:solidFill>
                  <a:srgbClr val="ff6800"/>
                </a:solidFill>
                <a:latin typeface="Arial"/>
              </a:rPr>
              <a:t>improve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btained with the mi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379520" y="5425920"/>
                <a:ext cx="4599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nk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nk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an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/>
          <p:nvPr/>
        </p:nvSpPr>
        <p:spPr>
          <a:xfrm>
            <a:off x="5838840" y="6173640"/>
            <a:ext cx="31158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¿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000" spc="-1" strike="noStrike" baseline="-33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&gt;=</a:t>
            </a: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6800"/>
                </a:solidFill>
                <a:latin typeface="Arial"/>
              </a:rPr>
              <a:t>user threshol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077480" cy="757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pportunistic Mig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23960" y="2962440"/>
            <a:ext cx="86281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87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Performance mod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87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imated </a:t>
            </a:r>
            <a:r>
              <a:rPr b="1" lang="en-GB" sz="1800" spc="-1" strike="noStrike">
                <a:solidFill>
                  <a:srgbClr val="ff6800"/>
                </a:solidFill>
                <a:latin typeface="Arial"/>
              </a:rPr>
              <a:t>execution time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he remaining work in the candidate re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87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imated </a:t>
            </a:r>
            <a:r>
              <a:rPr b="1" lang="en-GB" sz="1800" spc="-1" strike="noStrike">
                <a:solidFill>
                  <a:srgbClr val="ff6800"/>
                </a:solidFill>
                <a:latin typeface="Arial"/>
              </a:rPr>
              <a:t>transfer 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the needed files to the candidate re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849240"/>
            <a:ext cx="1008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Rank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culated with an 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estimated submission 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-Rank = T</a:t>
            </a:r>
            <a:r>
              <a:rPr b="1" lang="en-GB" sz="1800" spc="-1" strike="noStrike" baseline="-25000">
                <a:solidFill>
                  <a:srgbClr val="f07800"/>
                </a:solidFill>
                <a:latin typeface="Arial"/>
              </a:rPr>
              <a:t>sub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(h</a:t>
            </a:r>
            <a:r>
              <a:rPr b="1" lang="en-GB" sz="1800" spc="-1" strike="noStrike" baseline="-25000">
                <a:solidFill>
                  <a:srgbClr val="f07800"/>
                </a:solidFill>
                <a:latin typeface="Arial"/>
              </a:rPr>
              <a:t>n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,t</a:t>
            </a:r>
            <a:r>
              <a:rPr b="1" lang="en-GB" sz="1800" spc="-1" strike="noStrike" baseline="-25000">
                <a:solidFill>
                  <a:srgbClr val="f07800"/>
                </a:solidFill>
                <a:latin typeface="Arial"/>
              </a:rPr>
              <a:t>n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) = T</a:t>
            </a:r>
            <a:r>
              <a:rPr b="1" lang="en-GB" sz="1800" spc="-1" strike="noStrike" baseline="-25000">
                <a:solidFill>
                  <a:srgbClr val="f07800"/>
                </a:solidFill>
                <a:latin typeface="Arial"/>
              </a:rPr>
              <a:t>exe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(h</a:t>
            </a:r>
            <a:r>
              <a:rPr b="1" lang="en-GB" sz="1800" spc="-1" strike="noStrike" baseline="-25000">
                <a:solidFill>
                  <a:srgbClr val="f07800"/>
                </a:solidFill>
                <a:latin typeface="Arial"/>
              </a:rPr>
              <a:t>n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,t</a:t>
            </a:r>
            <a:r>
              <a:rPr b="1" lang="en-GB" sz="1800" spc="-1" strike="noStrike" baseline="-25000">
                <a:solidFill>
                  <a:srgbClr val="f07800"/>
                </a:solidFill>
                <a:latin typeface="Arial"/>
              </a:rPr>
              <a:t>n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) + T</a:t>
            </a:r>
            <a:r>
              <a:rPr b="1" lang="en-GB" sz="1800" spc="-1" strike="noStrike" baseline="-25000">
                <a:solidFill>
                  <a:srgbClr val="f07800"/>
                </a:solidFill>
                <a:latin typeface="Arial"/>
              </a:rPr>
              <a:t>xfr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(h</a:t>
            </a:r>
            <a:r>
              <a:rPr b="1" lang="en-GB" sz="1800" spc="-1" strike="noStrike" baseline="-25000">
                <a:solidFill>
                  <a:srgbClr val="f07800"/>
                </a:solidFill>
                <a:latin typeface="Arial"/>
              </a:rPr>
              <a:t>n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,t</a:t>
            </a:r>
            <a:r>
              <a:rPr b="1" lang="en-GB" sz="1800" spc="-1" strike="noStrike" baseline="-25000">
                <a:solidFill>
                  <a:srgbClr val="f07800"/>
                </a:solidFill>
                <a:latin typeface="Arial"/>
              </a:rPr>
              <a:t>n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49400" y="1362240"/>
            <a:ext cx="7860960" cy="2695320"/>
          </a:xfrm>
          <a:prstGeom prst="roundRect">
            <a:avLst>
              <a:gd name="adj" fmla="val 9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9360" y="1386000"/>
            <a:ext cx="3773880" cy="15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1080" indent="-181080">
              <a:lnSpc>
                <a:spcPts val="2324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Estimated execution ti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39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already perfor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39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39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ource 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dynamic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324080" y="2894040"/>
                <a:ext cx="66992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e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+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</m:t>
                                    </m:r>
                                  </m:sub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nary>
                      </m:e>
                    </m:d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e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163440" y="4208400"/>
            <a:ext cx="8972640" cy="2828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1600" y="4226040"/>
            <a:ext cx="903780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Estimated transfer ti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166680">
              <a:lnSpc>
                <a:spcPct val="139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Transfers already perfor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16668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Remaining transfers from 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  <a:ea typeface="HG Mincho Light J"/>
              </a:rPr>
              <a:t>client</a:t>
            </a:r>
            <a:r>
              <a:rPr b="0" lang="en-GB" sz="1800" spc="-1" strike="noStrike">
                <a:solidFill>
                  <a:srgbClr val="f07800"/>
                </a:solidFill>
                <a:latin typeface="Arial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(for submission and monitoring), 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  <a:ea typeface="HG Mincho Light J"/>
              </a:rPr>
              <a:t>fil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server</a:t>
            </a:r>
            <a:r>
              <a:rPr b="0" lang="en-GB" sz="1800" spc="-1" strike="noStrike">
                <a:solidFill>
                  <a:srgbClr val="f07800"/>
                </a:solidFill>
                <a:latin typeface="Arial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(for remote file transfers), and current 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  <a:ea typeface="HG Mincho Light J"/>
              </a:rPr>
              <a:t>execu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host (for restart file transf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166680">
              <a:lnSpc>
                <a:spcPct val="139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Resource 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  <a:ea typeface="HG Mincho Light J"/>
              </a:rPr>
              <a:t>dynamic proxim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314360" y="5900760"/>
                <a:ext cx="47959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fr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fr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t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w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4" name=""/>
          <p:cNvSpPr/>
          <p:nvPr/>
        </p:nvSpPr>
        <p:spPr>
          <a:xfrm>
            <a:off x="7808760" y="1185840"/>
            <a:ext cx="865440" cy="79560"/>
          </a:xfrm>
          <a:custGeom>
            <a:avLst/>
            <a:gdLst/>
            <a:ahLst/>
            <a:rect l="l" t="t" r="r" b="b"/>
            <a:pathLst>
              <a:path w="2405" h="220">
                <a:moveTo>
                  <a:pt x="2404" y="0"/>
                </a:moveTo>
                <a:cubicBezTo>
                  <a:pt x="2404" y="53"/>
                  <a:pt x="2305" y="108"/>
                  <a:pt x="2204" y="108"/>
                </a:cubicBezTo>
                <a:lnTo>
                  <a:pt x="1403" y="108"/>
                </a:lnTo>
                <a:cubicBezTo>
                  <a:pt x="1303" y="108"/>
                  <a:pt x="1202" y="163"/>
                  <a:pt x="1202" y="219"/>
                </a:cubicBezTo>
                <a:cubicBezTo>
                  <a:pt x="1202" y="163"/>
                  <a:pt x="1102" y="108"/>
                  <a:pt x="1002" y="108"/>
                </a:cubicBezTo>
                <a:lnTo>
                  <a:pt x="200" y="108"/>
                </a:lnTo>
                <a:cubicBezTo>
                  <a:pt x="99" y="108"/>
                  <a:pt x="0" y="53"/>
                  <a:pt x="0" y="0"/>
                </a:cubicBezTo>
              </a:path>
            </a:pathLst>
          </a:custGeom>
          <a:noFill/>
          <a:ln w="255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970840" y="1190520"/>
            <a:ext cx="892440" cy="79560"/>
          </a:xfrm>
          <a:custGeom>
            <a:avLst/>
            <a:gdLst/>
            <a:ahLst/>
            <a:rect l="l" t="t" r="r" b="b"/>
            <a:pathLst>
              <a:path w="2477" h="220">
                <a:moveTo>
                  <a:pt x="2476" y="0"/>
                </a:moveTo>
                <a:cubicBezTo>
                  <a:pt x="2476" y="53"/>
                  <a:pt x="2374" y="108"/>
                  <a:pt x="2270" y="108"/>
                </a:cubicBezTo>
                <a:lnTo>
                  <a:pt x="1445" y="108"/>
                </a:lnTo>
                <a:cubicBezTo>
                  <a:pt x="1343" y="108"/>
                  <a:pt x="1239" y="163"/>
                  <a:pt x="1239" y="219"/>
                </a:cubicBezTo>
                <a:cubicBezTo>
                  <a:pt x="1239" y="163"/>
                  <a:pt x="1136" y="108"/>
                  <a:pt x="1033" y="108"/>
                </a:cubicBezTo>
                <a:lnTo>
                  <a:pt x="207" y="108"/>
                </a:lnTo>
                <a:cubicBezTo>
                  <a:pt x="103" y="108"/>
                  <a:pt x="0" y="53"/>
                  <a:pt x="0" y="0"/>
                </a:cubicBezTo>
              </a:path>
            </a:pathLst>
          </a:custGeom>
          <a:noFill/>
          <a:ln w="255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4" idx="0"/>
            <a:endCxn id="468" idx="3"/>
          </p:cNvCxnSpPr>
          <p:nvPr/>
        </p:nvCxnSpPr>
        <p:spPr>
          <a:xfrm flipV="1" rot="10800000">
            <a:off x="8008200" y="1265040"/>
            <a:ext cx="232560" cy="1445040"/>
          </a:xfrm>
          <a:prstGeom prst="bentConnector3">
            <a:avLst>
              <a:gd name="adj1" fmla="val 49922"/>
            </a:avLst>
          </a:prstGeom>
          <a:ln w="2556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75" idx="0"/>
            <a:endCxn id="471" idx="3"/>
          </p:cNvCxnSpPr>
          <p:nvPr/>
        </p:nvCxnSpPr>
        <p:spPr>
          <a:xfrm flipV="1" rot="10800000">
            <a:off x="9135360" y="1269720"/>
            <a:ext cx="281520" cy="4355280"/>
          </a:xfrm>
          <a:prstGeom prst="bentConnector3">
            <a:avLst>
              <a:gd name="adj1" fmla="val 49935"/>
            </a:avLst>
          </a:prstGeom>
          <a:ln w="2556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757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erformance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361200" y="6272280"/>
            <a:ext cx="2425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j= client, file,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12680" y="922320"/>
            <a:ext cx="9690120" cy="2847960"/>
          </a:xfrm>
          <a:prstGeom prst="roundRect">
            <a:avLst>
              <a:gd name="adj" fmla="val 5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5440" y="1557360"/>
            <a:ext cx="12600" cy="144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57440" y="1557360"/>
            <a:ext cx="12600" cy="144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03680" y="1557360"/>
            <a:ext cx="12600" cy="144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53080" y="1557360"/>
            <a:ext cx="14040" cy="144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13000" y="3287880"/>
            <a:ext cx="12600" cy="14040"/>
          </a:xfrm>
          <a:custGeom>
            <a:avLst/>
            <a:gdLst>
              <a:gd name="textAreaLeft" fmla="*/ 360 w 12600"/>
              <a:gd name="textAreaRight" fmla="*/ 12240 w 12600"/>
              <a:gd name="textAreaTop" fmla="*/ 360 h 14040"/>
              <a:gd name="textAreaBottom" fmla="*/ 13680 h 14040"/>
            </a:gdLst>
            <a:ahLst/>
            <a:rect l="textAreaLeft" t="textAreaTop" r="textAreaRight" b="textAreaBottom"/>
            <a:pathLst>
              <a:path w="21600" h="24000">
                <a:moveTo>
                  <a:pt x="2700" y="0"/>
                </a:moveTo>
                <a:arcTo wR="2700" hR="2700" stAng="16200000" swAng="-5400000"/>
                <a:lnTo>
                  <a:pt x="0" y="21300"/>
                </a:lnTo>
                <a:arcTo wR="2700" hR="2700" stAng="10800000" swAng="-5400000"/>
                <a:lnTo>
                  <a:pt x="18900" y="24000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480" bIns="-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657840" y="3287880"/>
            <a:ext cx="14400" cy="14040"/>
          </a:xfrm>
          <a:prstGeom prst="roundRect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480" bIns="-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82480" y="10414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Testbed descrip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04760" y="4255920"/>
            <a:ext cx="9804240" cy="2541600"/>
            <a:chOff x="104760" y="4255920"/>
            <a:chExt cx="9804240" cy="2541600"/>
          </a:xfrm>
        </p:grpSpPr>
        <p:sp>
          <p:nvSpPr>
            <p:cNvPr id="489" name=""/>
            <p:cNvSpPr/>
            <p:nvPr/>
          </p:nvSpPr>
          <p:spPr>
            <a:xfrm>
              <a:off x="104760" y="4255920"/>
              <a:ext cx="9804240" cy="2541600"/>
            </a:xfrm>
            <a:prstGeom prst="roundRect">
              <a:avLst>
                <a:gd name="adj" fmla="val 151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2800" y="4414680"/>
              <a:ext cx="165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66cc"/>
                  </a:solidFill>
                  <a:latin typeface="Arial"/>
                </a:rPr>
                <a:t>Experime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6240" y="4986360"/>
              <a:ext cx="9426240" cy="15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just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SzPct val="75000"/>
                <a:buFont typeface="Times New Roman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FD code to solve the 3D incompressible Navier-Stokes equ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 algn="just">
                <a:lnSpc>
                  <a:spcPct val="107000"/>
                </a:lnSpc>
                <a:spcBef>
                  <a:spcPts val="1125"/>
                </a:spcBef>
                <a:buClr>
                  <a:srgbClr val="000000"/>
                </a:buClr>
                <a:buSzPct val="75000"/>
                <a:buFont typeface="Times New Roman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itially,  the application is submitted to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ra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 algn="just">
                <a:lnSpc>
                  <a:spcPct val="107000"/>
                </a:lnSpc>
                <a:spcBef>
                  <a:spcPts val="1125"/>
                </a:spcBef>
                <a:buClr>
                  <a:srgbClr val="000000"/>
                </a:buClr>
                <a:buSzPct val="75000"/>
                <a:buFont typeface="Times New Roman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cheduling is performed when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lumba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olea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ecome available on different iterations of the application running on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ra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8391600" y="203040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cc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366760" y="2316240"/>
            <a:ext cx="96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81520" y="2889360"/>
            <a:ext cx="101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07800"/>
                </a:solidFill>
                <a:latin typeface="Arial"/>
              </a:rPr>
              <a:t>Fil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778880" y="2055960"/>
            <a:ext cx="476280" cy="237960"/>
          </a:xfrm>
          <a:custGeom>
            <a:avLst/>
            <a:gdLst/>
            <a:ahLst/>
            <a:rect l="l" t="t" r="r" b="b"/>
            <a:pathLst>
              <a:path w="1323" h="662">
                <a:moveTo>
                  <a:pt x="0" y="164"/>
                </a:moveTo>
                <a:lnTo>
                  <a:pt x="991" y="164"/>
                </a:lnTo>
                <a:lnTo>
                  <a:pt x="991" y="0"/>
                </a:lnTo>
                <a:lnTo>
                  <a:pt x="1322" y="330"/>
                </a:lnTo>
                <a:lnTo>
                  <a:pt x="991" y="661"/>
                </a:lnTo>
                <a:lnTo>
                  <a:pt x="991" y="495"/>
                </a:lnTo>
                <a:lnTo>
                  <a:pt x="0" y="495"/>
                </a:lnTo>
                <a:lnTo>
                  <a:pt x="0" y="164"/>
                </a:lnTo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778880" y="2340000"/>
            <a:ext cx="476280" cy="237960"/>
          </a:xfrm>
          <a:custGeom>
            <a:avLst/>
            <a:gdLst/>
            <a:ahLst/>
            <a:rect l="l" t="t" r="r" b="b"/>
            <a:pathLst>
              <a:path w="1323" h="662">
                <a:moveTo>
                  <a:pt x="0" y="164"/>
                </a:moveTo>
                <a:lnTo>
                  <a:pt x="991" y="164"/>
                </a:lnTo>
                <a:lnTo>
                  <a:pt x="991" y="0"/>
                </a:lnTo>
                <a:lnTo>
                  <a:pt x="1322" y="330"/>
                </a:lnTo>
                <a:lnTo>
                  <a:pt x="991" y="661"/>
                </a:lnTo>
                <a:lnTo>
                  <a:pt x="991" y="495"/>
                </a:lnTo>
                <a:lnTo>
                  <a:pt x="0" y="495"/>
                </a:lnTo>
                <a:lnTo>
                  <a:pt x="0" y="164"/>
                </a:lnTo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78880" y="2894040"/>
            <a:ext cx="476280" cy="237960"/>
          </a:xfrm>
          <a:custGeom>
            <a:avLst/>
            <a:gdLst/>
            <a:ahLst/>
            <a:rect l="l" t="t" r="r" b="b"/>
            <a:pathLst>
              <a:path w="1323" h="661">
                <a:moveTo>
                  <a:pt x="0" y="164"/>
                </a:moveTo>
                <a:lnTo>
                  <a:pt x="991" y="164"/>
                </a:lnTo>
                <a:lnTo>
                  <a:pt x="991" y="0"/>
                </a:lnTo>
                <a:lnTo>
                  <a:pt x="1322" y="330"/>
                </a:lnTo>
                <a:lnTo>
                  <a:pt x="991" y="660"/>
                </a:lnTo>
                <a:lnTo>
                  <a:pt x="991" y="495"/>
                </a:lnTo>
                <a:lnTo>
                  <a:pt x="0" y="495"/>
                </a:lnTo>
                <a:lnTo>
                  <a:pt x="0" y="164"/>
                </a:lnTo>
              </a:path>
            </a:pathLst>
          </a:custGeom>
          <a:gradFill rotWithShape="0">
            <a:gsLst>
              <a:gs pos="0">
                <a:srgbClr val="f078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1000" y="3449520"/>
            <a:ext cx="12600" cy="14400"/>
          </a:xfrm>
          <a:custGeom>
            <a:avLst/>
            <a:gdLst>
              <a:gd name="textAreaLeft" fmla="*/ 360 w 12600"/>
              <a:gd name="textAreaRight" fmla="*/ 12240 w 12600"/>
              <a:gd name="textAreaTop" fmla="*/ 360 h 14400"/>
              <a:gd name="textAreaBottom" fmla="*/ 14040 h 14400"/>
            </a:gdLst>
            <a:ahLst/>
            <a:rect l="textAreaLeft" t="textAreaTop" r="textAreaRight" b="textAreaBottom"/>
            <a:pathLst>
              <a:path w="21600" h="24600">
                <a:moveTo>
                  <a:pt x="2700" y="0"/>
                </a:moveTo>
                <a:arcTo wR="2700" hR="2700" stAng="16200000" swAng="-5400000"/>
                <a:lnTo>
                  <a:pt x="0" y="21900"/>
                </a:lnTo>
                <a:arcTo wR="2700" hR="2700" stAng="10800000" swAng="-5400000"/>
                <a:lnTo>
                  <a:pt x="18900" y="24600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60680" y="3449520"/>
            <a:ext cx="12600" cy="14400"/>
          </a:xfrm>
          <a:custGeom>
            <a:avLst/>
            <a:gdLst>
              <a:gd name="textAreaLeft" fmla="*/ 360 w 12600"/>
              <a:gd name="textAreaRight" fmla="*/ 12240 w 12600"/>
              <a:gd name="textAreaTop" fmla="*/ 360 h 14400"/>
              <a:gd name="textAreaBottom" fmla="*/ 14040 h 14400"/>
            </a:gdLst>
            <a:ahLst/>
            <a:rect l="textAreaLeft" t="textAreaTop" r="textAreaRight" b="textAreaBottom"/>
            <a:pathLst>
              <a:path w="21600" h="24600">
                <a:moveTo>
                  <a:pt x="2700" y="0"/>
                </a:moveTo>
                <a:arcTo wR="2700" hR="2700" stAng="16200000" swAng="-5400000"/>
                <a:lnTo>
                  <a:pt x="0" y="21900"/>
                </a:lnTo>
                <a:arcTo wR="2700" hR="2700" stAng="10800000" swAng="-5400000"/>
                <a:lnTo>
                  <a:pt x="18900" y="24600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510080" y="3449520"/>
            <a:ext cx="14400" cy="14400"/>
          </a:xfrm>
          <a:prstGeom prst="roundRect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24640" y="3449520"/>
            <a:ext cx="12600" cy="14400"/>
          </a:xfrm>
          <a:custGeom>
            <a:avLst/>
            <a:gdLst>
              <a:gd name="textAreaLeft" fmla="*/ 360 w 12600"/>
              <a:gd name="textAreaRight" fmla="*/ 12240 w 12600"/>
              <a:gd name="textAreaTop" fmla="*/ 360 h 14400"/>
              <a:gd name="textAreaBottom" fmla="*/ 14040 h 14400"/>
            </a:gdLst>
            <a:ahLst/>
            <a:rect l="textAreaLeft" t="textAreaTop" r="textAreaRight" b="textAreaBottom"/>
            <a:pathLst>
              <a:path w="21600" h="24600">
                <a:moveTo>
                  <a:pt x="2700" y="0"/>
                </a:moveTo>
                <a:arcTo wR="2700" hR="2700" stAng="16200000" swAng="-5400000"/>
                <a:lnTo>
                  <a:pt x="0" y="21900"/>
                </a:lnTo>
                <a:arcTo wR="2700" hR="2700" stAng="10800000" swAng="-5400000"/>
                <a:lnTo>
                  <a:pt x="18900" y="24600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51000" y="1717560"/>
            <a:ext cx="7385040" cy="1733760"/>
            <a:chOff x="351000" y="1717560"/>
            <a:chExt cx="7385040" cy="1733760"/>
          </a:xfrm>
        </p:grpSpPr>
        <p:sp>
          <p:nvSpPr>
            <p:cNvPr id="503" name=""/>
            <p:cNvSpPr/>
            <p:nvPr/>
          </p:nvSpPr>
          <p:spPr>
            <a:xfrm>
              <a:off x="351000" y="1717560"/>
              <a:ext cx="7359480" cy="1719360"/>
            </a:xfrm>
            <a:prstGeom prst="roundRect">
              <a:avLst>
                <a:gd name="adj" fmla="val 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1000" y="1717560"/>
              <a:ext cx="7370640" cy="300240"/>
            </a:xfrm>
            <a:prstGeom prst="roundRect">
              <a:avLst>
                <a:gd name="adj" fmla="val 528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6880" y="1757520"/>
              <a:ext cx="45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53240" y="1757520"/>
              <a:ext cx="58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20600" y="177048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pe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12200" y="175752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65040" y="1757520"/>
              <a:ext cx="77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732360" y="1770480"/>
              <a:ext cx="79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8480" y="20080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66cc"/>
                  </a:solidFill>
                  <a:latin typeface="Arial"/>
                </a:rPr>
                <a:t>ur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53760" y="2044800"/>
              <a:ext cx="133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un Blade 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73080" y="204480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500M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18160" y="2044800"/>
              <a:ext cx="79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olaris 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3680" y="204480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56M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34040" y="20448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43520" y="229536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dra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45480" y="2330280"/>
              <a:ext cx="101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un Ultra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73080" y="233028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167M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18160" y="2330280"/>
              <a:ext cx="79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olaris 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63680" y="233028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128M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34040" y="23302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59000" y="2616120"/>
              <a:ext cx="76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lum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14240" y="2616120"/>
              <a:ext cx="1716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l Pentium MM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686400" y="261612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233M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07720" y="2616120"/>
              <a:ext cx="82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inux 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63680" y="261612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160M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037640" y="2616120"/>
              <a:ext cx="41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5840" y="2868480"/>
              <a:ext cx="82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07800"/>
                  </a:solidFill>
                  <a:latin typeface="Arial"/>
                </a:rPr>
                <a:t>cephe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93360" y="2903400"/>
              <a:ext cx="155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l Pentium P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67320" y="290340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00M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07720" y="2903400"/>
              <a:ext cx="82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inux 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23080" y="2903400"/>
              <a:ext cx="53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64M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34040" y="29034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33440" y="3191040"/>
              <a:ext cx="48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ol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94080" y="3191040"/>
              <a:ext cx="173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un Enterprise 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686400" y="319104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296M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718160" y="3191040"/>
              <a:ext cx="79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olaris 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63680" y="319104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56M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27560" y="31910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3600" y="1717560"/>
              <a:ext cx="7358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3600" y="1717560"/>
              <a:ext cx="7359480" cy="12960"/>
            </a:xfrm>
            <a:prstGeom prst="roundRect">
              <a:avLst>
                <a:gd name="adj" fmla="val 125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3600" y="2004840"/>
              <a:ext cx="7358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63600" y="2004840"/>
              <a:ext cx="7359480" cy="12960"/>
            </a:xfrm>
            <a:prstGeom prst="roundRect">
              <a:avLst>
                <a:gd name="adj" fmla="val 125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63600" y="2290680"/>
              <a:ext cx="7358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3600" y="2290680"/>
              <a:ext cx="7359480" cy="14400"/>
            </a:xfrm>
            <a:prstGeom prst="roundRect">
              <a:avLst>
                <a:gd name="adj" fmla="val 125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3600" y="2577960"/>
              <a:ext cx="7359480" cy="12960"/>
            </a:xfrm>
            <a:prstGeom prst="roundRect">
              <a:avLst>
                <a:gd name="adj" fmla="val 125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63600" y="2865600"/>
              <a:ext cx="735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63600" y="2865600"/>
              <a:ext cx="7359480" cy="12600"/>
            </a:xfrm>
            <a:prstGeom prst="roundRect">
              <a:avLst>
                <a:gd name="adj" fmla="val 125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3600" y="3149640"/>
              <a:ext cx="735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3600" y="3149640"/>
              <a:ext cx="7359480" cy="14400"/>
            </a:xfrm>
            <a:prstGeom prst="roundRect">
              <a:avLst>
                <a:gd name="adj" fmla="val 125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1000" y="1717560"/>
              <a:ext cx="1440" cy="17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51000" y="1717560"/>
              <a:ext cx="12600" cy="1731960"/>
            </a:xfrm>
            <a:custGeom>
              <a:avLst/>
              <a:gdLst>
                <a:gd name="textAreaLeft" fmla="*/ 360 w 12600"/>
                <a:gd name="textAreaRight" fmla="*/ 12240 w 12600"/>
                <a:gd name="textAreaTop" fmla="*/ 360 h 1731960"/>
                <a:gd name="textAreaBottom" fmla="*/ 1731600 h 1731960"/>
              </a:gdLst>
              <a:ahLst/>
              <a:rect l="textAreaLeft" t="textAreaTop" r="textAreaRight" b="textAreaBottom"/>
              <a:pathLst>
                <a:path w="21600" h="2887200">
                  <a:moveTo>
                    <a:pt x="2700" y="0"/>
                  </a:moveTo>
                  <a:arcTo wR="2700" hR="2700" stAng="16200000" swAng="-5400000"/>
                  <a:lnTo>
                    <a:pt x="0" y="2884500"/>
                  </a:lnTo>
                  <a:arcTo wR="2700" hR="2700" stAng="10800000" swAng="-5400000"/>
                  <a:lnTo>
                    <a:pt x="18900" y="2887200"/>
                  </a:lnTo>
                  <a:arcTo wR="2700" hR="2700" stAng="5400000" swAng="-5400000"/>
                  <a:lnTo>
                    <a:pt x="21600" y="2700"/>
                  </a:lnTo>
                  <a:arcTo wR="2700" hR="27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14440" y="1730520"/>
              <a:ext cx="1440" cy="171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14440" y="1730520"/>
              <a:ext cx="12600" cy="1719000"/>
            </a:xfrm>
            <a:custGeom>
              <a:avLst/>
              <a:gdLst>
                <a:gd name="textAreaLeft" fmla="*/ 360 w 12600"/>
                <a:gd name="textAreaRight" fmla="*/ 12240 w 12600"/>
                <a:gd name="textAreaTop" fmla="*/ 360 h 1719000"/>
                <a:gd name="textAreaBottom" fmla="*/ 1718640 h 1719000"/>
              </a:gdLst>
              <a:ahLst/>
              <a:rect l="textAreaLeft" t="textAreaTop" r="textAreaRight" b="textAreaBottom"/>
              <a:pathLst>
                <a:path w="21600" h="2865600">
                  <a:moveTo>
                    <a:pt x="2700" y="0"/>
                  </a:moveTo>
                  <a:arcTo wR="2700" hR="2700" stAng="16200000" swAng="-5400000"/>
                  <a:lnTo>
                    <a:pt x="0" y="2862900"/>
                  </a:lnTo>
                  <a:arcTo wR="2700" hR="2700" stAng="10800000" swAng="-5400000"/>
                  <a:lnTo>
                    <a:pt x="18900" y="2865600"/>
                  </a:lnTo>
                  <a:arcTo wR="2700" hR="2700" stAng="5400000" swAng="-5400000"/>
                  <a:lnTo>
                    <a:pt x="21600" y="2700"/>
                  </a:lnTo>
                  <a:arcTo wR="2700" hR="27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460680" y="1730520"/>
              <a:ext cx="12600" cy="1719000"/>
            </a:xfrm>
            <a:custGeom>
              <a:avLst/>
              <a:gdLst>
                <a:gd name="textAreaLeft" fmla="*/ 360 w 12600"/>
                <a:gd name="textAreaRight" fmla="*/ 12240 w 12600"/>
                <a:gd name="textAreaTop" fmla="*/ 360 h 1719000"/>
                <a:gd name="textAreaBottom" fmla="*/ 1718640 h 1719000"/>
              </a:gdLst>
              <a:ahLst/>
              <a:rect l="textAreaLeft" t="textAreaTop" r="textAreaRight" b="textAreaBottom"/>
              <a:pathLst>
                <a:path w="21600" h="2865600">
                  <a:moveTo>
                    <a:pt x="2700" y="0"/>
                  </a:moveTo>
                  <a:arcTo wR="2700" hR="2700" stAng="16200000" swAng="-5400000"/>
                  <a:lnTo>
                    <a:pt x="0" y="2862900"/>
                  </a:lnTo>
                  <a:arcTo wR="2700" hR="2700" stAng="10800000" swAng="-5400000"/>
                  <a:lnTo>
                    <a:pt x="18900" y="2865600"/>
                  </a:lnTo>
                  <a:arcTo wR="2700" hR="2700" stAng="5400000" swAng="-5400000"/>
                  <a:lnTo>
                    <a:pt x="21600" y="2700"/>
                  </a:lnTo>
                  <a:arcTo wR="2700" hR="27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594320" y="1730520"/>
              <a:ext cx="14040" cy="1719000"/>
            </a:xfrm>
            <a:custGeom>
              <a:avLst/>
              <a:gdLst>
                <a:gd name="textAreaLeft" fmla="*/ 360 w 14040"/>
                <a:gd name="textAreaRight" fmla="*/ 13680 w 14040"/>
                <a:gd name="textAreaTop" fmla="*/ 360 h 1719000"/>
                <a:gd name="textAreaBottom" fmla="*/ 1718640 h 1719000"/>
              </a:gdLst>
              <a:ahLst/>
              <a:rect l="textAreaLeft" t="textAreaTop" r="textAreaRight" b="textAreaBottom"/>
              <a:pathLst>
                <a:path w="21600" h="2579040">
                  <a:moveTo>
                    <a:pt x="2700" y="0"/>
                  </a:moveTo>
                  <a:arcTo wR="2700" hR="2700" stAng="16200000" swAng="-5400000"/>
                  <a:lnTo>
                    <a:pt x="0" y="2576340"/>
                  </a:lnTo>
                  <a:arcTo wR="2700" hR="2700" stAng="10800000" swAng="-5400000"/>
                  <a:lnTo>
                    <a:pt x="18900" y="2579040"/>
                  </a:lnTo>
                  <a:arcTo wR="2700" hR="2700" stAng="5400000" swAng="-5400000"/>
                  <a:lnTo>
                    <a:pt x="21600" y="2700"/>
                  </a:lnTo>
                  <a:arcTo wR="2700" hR="27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624640" y="1730520"/>
              <a:ext cx="12600" cy="1719000"/>
            </a:xfrm>
            <a:custGeom>
              <a:avLst/>
              <a:gdLst>
                <a:gd name="textAreaLeft" fmla="*/ 360 w 12600"/>
                <a:gd name="textAreaRight" fmla="*/ 12240 w 12600"/>
                <a:gd name="textAreaTop" fmla="*/ 360 h 1719000"/>
                <a:gd name="textAreaBottom" fmla="*/ 1718640 h 1719000"/>
              </a:gdLst>
              <a:ahLst/>
              <a:rect l="textAreaLeft" t="textAreaTop" r="textAreaRight" b="textAreaBottom"/>
              <a:pathLst>
                <a:path w="21600" h="2865600">
                  <a:moveTo>
                    <a:pt x="2700" y="0"/>
                  </a:moveTo>
                  <a:arcTo wR="2700" hR="2700" stAng="16200000" swAng="-5400000"/>
                  <a:lnTo>
                    <a:pt x="0" y="2862900"/>
                  </a:lnTo>
                  <a:arcTo wR="2700" hR="2700" stAng="10800000" swAng="-5400000"/>
                  <a:lnTo>
                    <a:pt x="18900" y="2865600"/>
                  </a:lnTo>
                  <a:arcTo wR="2700" hR="2700" stAng="5400000" swAng="-5400000"/>
                  <a:lnTo>
                    <a:pt x="21600" y="2700"/>
                  </a:lnTo>
                  <a:arcTo wR="2700" hR="27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59640" y="1730520"/>
              <a:ext cx="1440" cy="171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9640" y="1730520"/>
              <a:ext cx="14040" cy="1719000"/>
            </a:xfrm>
            <a:custGeom>
              <a:avLst/>
              <a:gdLst>
                <a:gd name="textAreaLeft" fmla="*/ 360 w 14040"/>
                <a:gd name="textAreaRight" fmla="*/ 13680 w 14040"/>
                <a:gd name="textAreaTop" fmla="*/ 360 h 1719000"/>
                <a:gd name="textAreaBottom" fmla="*/ 1718640 h 1719000"/>
              </a:gdLst>
              <a:ahLst/>
              <a:rect l="textAreaLeft" t="textAreaTop" r="textAreaRight" b="textAreaBottom"/>
              <a:pathLst>
                <a:path w="21600" h="2579040">
                  <a:moveTo>
                    <a:pt x="2700" y="0"/>
                  </a:moveTo>
                  <a:arcTo wR="2700" hR="2700" stAng="16200000" swAng="-5400000"/>
                  <a:lnTo>
                    <a:pt x="0" y="2576340"/>
                  </a:lnTo>
                  <a:arcTo wR="2700" hR="2700" stAng="10800000" swAng="-5400000"/>
                  <a:lnTo>
                    <a:pt x="18900" y="2579040"/>
                  </a:lnTo>
                  <a:arcTo wR="2700" hR="2700" stAng="5400000" swAng="-5400000"/>
                  <a:lnTo>
                    <a:pt x="21600" y="2700"/>
                  </a:lnTo>
                  <a:arcTo wR="2700" hR="27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63600" y="3436920"/>
              <a:ext cx="735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3600" y="3436920"/>
              <a:ext cx="7359480" cy="12600"/>
            </a:xfrm>
            <a:prstGeom prst="roundRect">
              <a:avLst>
                <a:gd name="adj" fmla="val 125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710480" y="1730520"/>
              <a:ext cx="1440" cy="171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710480" y="1730520"/>
              <a:ext cx="12600" cy="1719000"/>
            </a:xfrm>
            <a:custGeom>
              <a:avLst/>
              <a:gdLst>
                <a:gd name="textAreaLeft" fmla="*/ 360 w 12600"/>
                <a:gd name="textAreaRight" fmla="*/ 12240 w 12600"/>
                <a:gd name="textAreaTop" fmla="*/ 360 h 1719000"/>
                <a:gd name="textAreaBottom" fmla="*/ 1718640 h 1719000"/>
              </a:gdLst>
              <a:ahLst/>
              <a:rect l="textAreaLeft" t="textAreaTop" r="textAreaRight" b="textAreaBottom"/>
              <a:pathLst>
                <a:path w="21600" h="2865600">
                  <a:moveTo>
                    <a:pt x="2700" y="0"/>
                  </a:moveTo>
                  <a:arcTo wR="2700" hR="2700" stAng="16200000" swAng="-5400000"/>
                  <a:lnTo>
                    <a:pt x="0" y="2862900"/>
                  </a:lnTo>
                  <a:arcTo wR="2700" hR="2700" stAng="10800000" swAng="-5400000"/>
                  <a:lnTo>
                    <a:pt x="18900" y="2865600"/>
                  </a:lnTo>
                  <a:arcTo wR="2700" hR="2700" stAng="5400000" swAng="-5400000"/>
                  <a:lnTo>
                    <a:pt x="21600" y="2700"/>
                  </a:lnTo>
                  <a:arcTo wR="2700" hR="27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51000" y="3449520"/>
              <a:ext cx="144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414440" y="3449520"/>
              <a:ext cx="144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460680" y="3449520"/>
              <a:ext cx="180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10080" y="3449520"/>
              <a:ext cx="144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24640" y="3449520"/>
              <a:ext cx="144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59640" y="3449520"/>
              <a:ext cx="144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710480" y="3449520"/>
              <a:ext cx="144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721640" y="1717560"/>
              <a:ext cx="144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721640" y="2004840"/>
              <a:ext cx="144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721640" y="2004840"/>
              <a:ext cx="14400" cy="12960"/>
            </a:xfrm>
            <a:prstGeom prst="roundRect">
              <a:avLst>
                <a:gd name="adj" fmla="val 125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21640" y="2290680"/>
              <a:ext cx="144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21640" y="2577960"/>
              <a:ext cx="144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721640" y="2865600"/>
              <a:ext cx="14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721640" y="2865600"/>
              <a:ext cx="14400" cy="12600"/>
            </a:xfrm>
            <a:prstGeom prst="roundRect">
              <a:avLst>
                <a:gd name="adj" fmla="val 125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721640" y="3149640"/>
              <a:ext cx="14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721640" y="3436920"/>
              <a:ext cx="14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077480" cy="757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perimental Testbed: UC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0" y="717480"/>
            <a:ext cx="7183440" cy="46576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25360" y="5462640"/>
            <a:ext cx="9720360" cy="1587600"/>
          </a:xfrm>
          <a:prstGeom prst="roundRect">
            <a:avLst>
              <a:gd name="adj" fmla="val 58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60640" y="2360520"/>
            <a:ext cx="476280" cy="1111320"/>
          </a:xfrm>
          <a:custGeom>
            <a:avLst/>
            <a:gdLst>
              <a:gd name="textAreaLeft" fmla="*/ 360 w 476280"/>
              <a:gd name="textAreaRight" fmla="*/ 475920 w 476280"/>
              <a:gd name="textAreaTop" fmla="*/ 360 h 1111320"/>
              <a:gd name="textAreaBottom" fmla="*/ 1110960 h 1111320"/>
            </a:gdLst>
            <a:ahLst/>
            <a:rect l="textAreaLeft" t="textAreaTop" r="textAreaRight" b="textAreaBottom"/>
            <a:pathLst>
              <a:path w="21600" h="50378">
                <a:moveTo>
                  <a:pt x="72" y="0"/>
                </a:moveTo>
                <a:arcTo wR="72" hR="72" stAng="16200000" swAng="-5400000"/>
                <a:lnTo>
                  <a:pt x="0" y="50306"/>
                </a:lnTo>
                <a:arcTo wR="72" hR="72" stAng="10800000" swAng="-5400000"/>
                <a:lnTo>
                  <a:pt x="21528" y="50378"/>
                </a:lnTo>
                <a:arcTo wR="72" hR="72" stAng="5400000" swAng="-5400000"/>
                <a:lnTo>
                  <a:pt x="21600" y="72"/>
                </a:lnTo>
                <a:arcTo wR="72" hR="72" stAng="0" swAng="-5400000"/>
                <a:close/>
              </a:path>
            </a:pathLst>
          </a:custGeom>
          <a:noFill/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57520" y="2279520"/>
            <a:ext cx="771480" cy="590760"/>
          </a:xfrm>
          <a:prstGeom prst="roundRect">
            <a:avLst>
              <a:gd name="adj" fmla="val 269"/>
            </a:avLst>
          </a:prstGeom>
          <a:noFill/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864480" y="1000080"/>
            <a:ext cx="321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cc"/>
                </a:solidFill>
                <a:latin typeface="Arial"/>
              </a:rPr>
              <a:t>Dynamic rank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le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lumb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n different execution points (iteration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03760" y="5207040"/>
            <a:ext cx="1008000" cy="504720"/>
          </a:xfrm>
          <a:prstGeom prst="roundRect">
            <a:avLst>
              <a:gd name="adj" fmla="val 31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711760" y="5292720"/>
            <a:ext cx="1681200" cy="504720"/>
          </a:xfrm>
          <a:prstGeom prst="roundRect">
            <a:avLst>
              <a:gd name="adj" fmla="val 31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76120" y="5529240"/>
            <a:ext cx="957420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ts val="2137"/>
              </a:lnSpc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grating t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le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the fastest) is worthwhile until the second it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129000"/>
              </a:lnSpc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the fourth iteration, the best host i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lumb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the near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129000"/>
              </a:lnSpc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the fifth iteration, the performance gain is not enough to compensate the overhead induced by file 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142720" y="194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788280" y="186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4040" y="1428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86200" y="1866960"/>
            <a:ext cx="476280" cy="1111320"/>
          </a:xfrm>
          <a:custGeom>
            <a:avLst/>
            <a:gdLst>
              <a:gd name="textAreaLeft" fmla="*/ 360 w 476280"/>
              <a:gd name="textAreaRight" fmla="*/ 475920 w 476280"/>
              <a:gd name="textAreaTop" fmla="*/ 360 h 1111320"/>
              <a:gd name="textAreaBottom" fmla="*/ 1110960 h 1111320"/>
            </a:gdLst>
            <a:ahLst/>
            <a:rect l="textAreaLeft" t="textAreaTop" r="textAreaRight" b="textAreaBottom"/>
            <a:pathLst>
              <a:path w="21600" h="50378">
                <a:moveTo>
                  <a:pt x="72" y="0"/>
                </a:moveTo>
                <a:arcTo wR="72" hR="72" stAng="16200000" swAng="-5400000"/>
                <a:lnTo>
                  <a:pt x="0" y="50306"/>
                </a:lnTo>
                <a:arcTo wR="72" hR="72" stAng="10800000" swAng="-5400000"/>
                <a:lnTo>
                  <a:pt x="21528" y="50378"/>
                </a:lnTo>
                <a:arcTo wR="72" hR="72" stAng="5400000" swAng="-5400000"/>
                <a:lnTo>
                  <a:pt x="21600" y="72"/>
                </a:lnTo>
                <a:arcTo wR="72" hR="72" stAng="0" swAng="-5400000"/>
                <a:close/>
              </a:path>
            </a:pathLst>
          </a:custGeom>
          <a:noFill/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077480" cy="757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sults: Dynamic Ran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65240" y="727200"/>
            <a:ext cx="9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serve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execution profil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the application is actually migrated on different execution points (iteration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595440" y="2044800"/>
            <a:ext cx="9040680" cy="50101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2352600" y="1320840"/>
            <a:ext cx="2222640" cy="673200"/>
          </a:xfrm>
          <a:custGeom>
            <a:avLst/>
            <a:gdLst/>
            <a:ahLst/>
            <a:rect l="l" t="t" r="r" b="b"/>
            <a:pathLst>
              <a:path w="6174" h="1871">
                <a:moveTo>
                  <a:pt x="6173" y="467"/>
                </a:moveTo>
                <a:lnTo>
                  <a:pt x="1542" y="467"/>
                </a:lnTo>
                <a:lnTo>
                  <a:pt x="1542" y="0"/>
                </a:lnTo>
                <a:lnTo>
                  <a:pt x="0" y="935"/>
                </a:lnTo>
                <a:lnTo>
                  <a:pt x="1542" y="1870"/>
                </a:lnTo>
                <a:lnTo>
                  <a:pt x="1542" y="1403"/>
                </a:lnTo>
                <a:lnTo>
                  <a:pt x="6173" y="1403"/>
                </a:lnTo>
                <a:lnTo>
                  <a:pt x="6173" y="467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894400" y="14893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578480" y="1322280"/>
            <a:ext cx="2222280" cy="671760"/>
          </a:xfrm>
          <a:custGeom>
            <a:avLst/>
            <a:gdLst/>
            <a:ahLst/>
            <a:rect l="l" t="t" r="r" b="b"/>
            <a:pathLst>
              <a:path w="6174" h="1867">
                <a:moveTo>
                  <a:pt x="0" y="465"/>
                </a:moveTo>
                <a:lnTo>
                  <a:pt x="4629" y="465"/>
                </a:lnTo>
                <a:lnTo>
                  <a:pt x="4629" y="0"/>
                </a:lnTo>
                <a:lnTo>
                  <a:pt x="6173" y="933"/>
                </a:lnTo>
                <a:lnTo>
                  <a:pt x="4629" y="1866"/>
                </a:lnTo>
                <a:lnTo>
                  <a:pt x="4629" y="1399"/>
                </a:lnTo>
                <a:lnTo>
                  <a:pt x="0" y="1399"/>
                </a:lnTo>
                <a:lnTo>
                  <a:pt x="0" y="465"/>
                </a:lnTo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8600" y="148932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xim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077480" cy="757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sults: Execution Prof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167840" cy="757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clusions and Future 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2040" y="3481560"/>
            <a:ext cx="9202680" cy="3186000"/>
          </a:xfrm>
          <a:prstGeom prst="roundRect">
            <a:avLst>
              <a:gd name="adj" fmla="val 12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2040" y="1017720"/>
            <a:ext cx="9248760" cy="2030400"/>
          </a:xfrm>
          <a:prstGeom prst="roundRect">
            <a:avLst>
              <a:gd name="adj" fmla="val 13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08120" y="1271520"/>
            <a:ext cx="874548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Relevance of </a:t>
            </a:r>
            <a:r>
              <a:rPr b="1" lang="en-GB" sz="2400" spc="-1" strike="noStrike">
                <a:solidFill>
                  <a:srgbClr val="0066cc"/>
                </a:solidFill>
                <a:latin typeface="Arial"/>
                <a:ea typeface="HG Mincho Light J"/>
              </a:rPr>
              <a:t>resource proxim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 in the resource selection process to reduce the cost of </a:t>
            </a:r>
            <a:r>
              <a:rPr b="1" lang="en-GB" sz="2400" spc="-1" strike="noStrike">
                <a:solidFill>
                  <a:srgbClr val="ff6800"/>
                </a:solidFill>
                <a:latin typeface="Arial"/>
                <a:ea typeface="HG Mincho Light J"/>
              </a:rPr>
              <a:t>file stag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In the case of </a:t>
            </a:r>
            <a:r>
              <a:rPr b="1" lang="en-GB" sz="2400" spc="-1" strike="noStrike">
                <a:solidFill>
                  <a:srgbClr val="0066cc"/>
                </a:solidFill>
                <a:latin typeface="Arial"/>
                <a:ea typeface="HG Mincho Light J"/>
              </a:rPr>
              <a:t>opportunistic migr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, also to reduce the overhead of </a:t>
            </a:r>
            <a:r>
              <a:rPr b="1" lang="en-GB" sz="2400" spc="-1" strike="noStrike">
                <a:solidFill>
                  <a:srgbClr val="ff6800"/>
                </a:solidFill>
                <a:latin typeface="Arial"/>
                <a:ea typeface="HG Mincho Light J"/>
              </a:rPr>
              <a:t>job migr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6200" y="3809880"/>
            <a:ext cx="8767800" cy="27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algn="just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Consider other kinds of mig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Apply the same ideas to develop a </a:t>
            </a:r>
            <a:r>
              <a:rPr b="1" lang="en-GB" sz="2400" spc="-1" strike="noStrike">
                <a:solidFill>
                  <a:srgbClr val="0066cc"/>
                </a:solidFill>
                <a:latin typeface="Arial"/>
                <a:ea typeface="HG Mincho Light J"/>
              </a:rPr>
              <a:t>storage resource selec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(the replica selection process is equivalent, althought the discovery is performed through the </a:t>
            </a:r>
            <a:r>
              <a:rPr b="1" lang="en-GB" sz="2400" spc="-1" strike="noStrike">
                <a:solidFill>
                  <a:srgbClr val="ff6800"/>
                </a:solidFill>
                <a:latin typeface="Arial"/>
                <a:ea typeface="HG Mincho Light J"/>
              </a:rPr>
              <a:t>Globus Replica Catalo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Extend the </a:t>
            </a:r>
            <a:r>
              <a:rPr b="1" lang="en-GB" sz="2400" spc="-1" strike="noStrike">
                <a:solidFill>
                  <a:srgbClr val="0066cc"/>
                </a:solidFill>
                <a:latin typeface="Arial"/>
                <a:ea typeface="HG Mincho Light J"/>
              </a:rPr>
              <a:t>compute resource 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 to consider the proximity to replica 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51040" y="2451240"/>
            <a:ext cx="3730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51040" y="4370400"/>
            <a:ext cx="3730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51040" y="2451240"/>
            <a:ext cx="1800" cy="40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99600" y="2451240"/>
            <a:ext cx="1440" cy="40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81720" y="2451240"/>
            <a:ext cx="30178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1040" y="2674800"/>
            <a:ext cx="1800" cy="43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399600" y="2674800"/>
            <a:ext cx="1440" cy="43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51040" y="3112920"/>
            <a:ext cx="1800" cy="405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399600" y="3112920"/>
            <a:ext cx="1440" cy="405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51040" y="3157560"/>
            <a:ext cx="1800" cy="40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399600" y="3157560"/>
            <a:ext cx="1440" cy="40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51040" y="3560760"/>
            <a:ext cx="1800" cy="404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399600" y="3560760"/>
            <a:ext cx="1440" cy="404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51040" y="3965400"/>
            <a:ext cx="1800" cy="403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399600" y="3965400"/>
            <a:ext cx="1440" cy="403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81720" y="4370400"/>
            <a:ext cx="30178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7360" y="3341520"/>
            <a:ext cx="9202680" cy="3476880"/>
          </a:xfrm>
          <a:prstGeom prst="roundRect">
            <a:avLst>
              <a:gd name="adj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7360" y="941400"/>
            <a:ext cx="9248760" cy="2097000"/>
          </a:xfrm>
          <a:prstGeom prst="roundRect">
            <a:avLst>
              <a:gd name="adj" fmla="val 128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077480" cy="757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3400" y="1235160"/>
            <a:ext cx="892188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cc"/>
                </a:solidFill>
                <a:latin typeface="Arial"/>
                <a:ea typeface="HG Mincho Light J"/>
              </a:rPr>
              <a:t>Job migr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 is generally accepted as the solution to </a:t>
            </a:r>
            <a:r>
              <a:rPr b="1" lang="en-GB" sz="2400" spc="-1" strike="noStrike">
                <a:solidFill>
                  <a:srgbClr val="ff6800"/>
                </a:solidFill>
                <a:latin typeface="Arial"/>
                <a:ea typeface="HG Mincho Light J"/>
              </a:rPr>
              <a:t>adap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 to </a:t>
            </a:r>
            <a:r>
              <a:rPr b="1" lang="en-GB" sz="2400" spc="-1" strike="noStrike">
                <a:solidFill>
                  <a:srgbClr val="ff6800"/>
                </a:solidFill>
                <a:latin typeface="Arial"/>
                <a:ea typeface="HG Mincho Light J"/>
              </a:rPr>
              <a:t>dynamic resource characteristic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We focus on </a:t>
            </a:r>
            <a:r>
              <a:rPr b="1" lang="en-GB" sz="2400" spc="-1" strike="noStrike">
                <a:solidFill>
                  <a:srgbClr val="0066cc"/>
                </a:solidFill>
                <a:latin typeface="Arial"/>
                <a:ea typeface="HG Mincho Light J"/>
              </a:rPr>
              <a:t>opportunistic migr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 of jobs when a “better” resource becomes available in the Gr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6200" y="3562200"/>
            <a:ext cx="8767800" cy="31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propose a Grid </a:t>
            </a:r>
            <a:r>
              <a:rPr b="1" lang="en-GB" sz="2400" spc="-1" strike="noStrike">
                <a:solidFill>
                  <a:srgbClr val="0066cc"/>
                </a:solidFill>
                <a:latin typeface="Arial"/>
              </a:rPr>
              <a:t>resource sele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rategy which considers both </a:t>
            </a:r>
            <a:r>
              <a:rPr b="1" lang="en-GB" sz="2400" spc="-1" strike="noStrike">
                <a:solidFill>
                  <a:srgbClr val="ff6800"/>
                </a:solidFill>
                <a:latin typeface="Arial"/>
              </a:rPr>
              <a:t>resource performa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6800"/>
                </a:solidFill>
                <a:latin typeface="Arial"/>
              </a:rPr>
              <a:t>resource proxim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network performanc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Need to consider the </a:t>
            </a:r>
            <a:r>
              <a:rPr b="1" lang="en-GB" sz="2400" spc="-1" strike="noStrike">
                <a:solidFill>
                  <a:srgbClr val="ff6800"/>
                </a:solidFill>
                <a:latin typeface="Arial"/>
                <a:ea typeface="HG Mincho Light J"/>
              </a:rPr>
              <a:t>work already perform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 in the old resource and the </a:t>
            </a:r>
            <a:r>
              <a:rPr b="1" lang="en-GB" sz="2400" spc="-1" strike="noStrike">
                <a:solidFill>
                  <a:srgbClr val="ff6800"/>
                </a:solidFill>
                <a:latin typeface="Arial"/>
                <a:ea typeface="HG Mincho Light J"/>
              </a:rPr>
              <a:t>remaining 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 in the new resou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Need to consider the </a:t>
            </a:r>
            <a:r>
              <a:rPr b="1" lang="en-GB" sz="2400" spc="-1" strike="noStrike">
                <a:solidFill>
                  <a:srgbClr val="ff6800"/>
                </a:solidFill>
                <a:latin typeface="Arial"/>
                <a:ea typeface="HG Mincho Light J"/>
              </a:rPr>
              <a:t>transfer co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 (size of input and restart/checkpoint files could be very lar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Estimation of the job </a:t>
            </a:r>
            <a:r>
              <a:rPr b="1" lang="en-GB" sz="2400" spc="-1" strike="noStrike">
                <a:solidFill>
                  <a:srgbClr val="0066cc"/>
                </a:solidFill>
                <a:latin typeface="Arial"/>
                <a:ea typeface="HG Mincho Light J"/>
              </a:rPr>
              <a:t>total submission t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79760" y="2271600"/>
            <a:ext cx="37306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79760" y="4730760"/>
            <a:ext cx="3730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79760" y="2271600"/>
            <a:ext cx="1440" cy="40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326520" y="2271600"/>
            <a:ext cx="1800" cy="40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10440" y="2271600"/>
            <a:ext cx="30178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79760" y="2674800"/>
            <a:ext cx="1440" cy="43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326520" y="2674800"/>
            <a:ext cx="1800" cy="43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79760" y="3112920"/>
            <a:ext cx="1440" cy="405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326520" y="3112920"/>
            <a:ext cx="1800" cy="405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79760" y="3517920"/>
            <a:ext cx="1440" cy="40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326520" y="3517920"/>
            <a:ext cx="1800" cy="40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79760" y="3921120"/>
            <a:ext cx="1440" cy="404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26520" y="3921120"/>
            <a:ext cx="1800" cy="404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79760" y="4325760"/>
            <a:ext cx="1440" cy="403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326520" y="4325760"/>
            <a:ext cx="1800" cy="403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10440" y="4730760"/>
            <a:ext cx="30178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6080" y="3700440"/>
            <a:ext cx="9202680" cy="3333600"/>
          </a:xfrm>
          <a:prstGeom prst="roundRect">
            <a:avLst>
              <a:gd name="adj" fmla="val 11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4498920"/>
            <a:ext cx="2184480" cy="189252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2735280" y="4265640"/>
            <a:ext cx="6748560" cy="2448000"/>
            <a:chOff x="2735280" y="4265640"/>
            <a:chExt cx="6748560" cy="2448000"/>
          </a:xfrm>
        </p:grpSpPr>
        <p:grpSp>
          <p:nvGrpSpPr>
            <p:cNvPr id="135" name=""/>
            <p:cNvGrpSpPr/>
            <p:nvPr/>
          </p:nvGrpSpPr>
          <p:grpSpPr>
            <a:xfrm>
              <a:off x="6465960" y="6310440"/>
              <a:ext cx="3017880" cy="403200"/>
              <a:chOff x="6465960" y="6310440"/>
              <a:chExt cx="3017880" cy="403200"/>
            </a:xfrm>
          </p:grpSpPr>
          <p:sp>
            <p:nvSpPr>
              <p:cNvPr id="136" name=""/>
              <p:cNvSpPr/>
              <p:nvPr/>
            </p:nvSpPr>
            <p:spPr>
              <a:xfrm>
                <a:off x="6465960" y="6310440"/>
                <a:ext cx="3017880" cy="40320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465960" y="6365520"/>
                <a:ext cx="3017880" cy="2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3366cc"/>
                    </a:solidFill>
                    <a:latin typeface="Arial"/>
                  </a:rPr>
                  <a:t>Job termin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735280" y="6310440"/>
              <a:ext cx="3730680" cy="403200"/>
              <a:chOff x="2735280" y="6310440"/>
              <a:chExt cx="3730680" cy="403200"/>
            </a:xfrm>
          </p:grpSpPr>
          <p:sp>
            <p:nvSpPr>
              <p:cNvPr id="139" name=""/>
              <p:cNvSpPr/>
              <p:nvPr/>
            </p:nvSpPr>
            <p:spPr>
              <a:xfrm>
                <a:off x="2735280" y="6310440"/>
                <a:ext cx="3730680" cy="40320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35280" y="6317640"/>
                <a:ext cx="3730680" cy="38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pPr>
                  <a:lnSpc>
                    <a:spcPct val="96000"/>
                  </a:lnSpc>
                  <a:spcBef>
                    <a:spcPts val="49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What does it produce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465960" y="5907240"/>
              <a:ext cx="3017880" cy="403200"/>
              <a:chOff x="6465960" y="5907240"/>
              <a:chExt cx="3017880" cy="403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465960" y="5907240"/>
                <a:ext cx="3017880" cy="40320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465960" y="5962320"/>
                <a:ext cx="3017880" cy="2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3366cc"/>
                    </a:solidFill>
                    <a:latin typeface="Arial"/>
                  </a:rPr>
                  <a:t>Job migr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735280" y="5907240"/>
              <a:ext cx="3730680" cy="403200"/>
              <a:chOff x="2735280" y="5907240"/>
              <a:chExt cx="3730680" cy="403200"/>
            </a:xfrm>
          </p:grpSpPr>
          <p:sp>
            <p:nvSpPr>
              <p:cNvPr id="145" name=""/>
              <p:cNvSpPr/>
              <p:nvPr/>
            </p:nvSpPr>
            <p:spPr>
              <a:xfrm>
                <a:off x="2735280" y="5907240"/>
                <a:ext cx="3730680" cy="40320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735280" y="5914440"/>
                <a:ext cx="3730680" cy="38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pPr>
                  <a:lnSpc>
                    <a:spcPct val="96000"/>
                  </a:lnSpc>
                  <a:spcBef>
                    <a:spcPts val="49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ould it perform better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465960" y="5505480"/>
              <a:ext cx="3017880" cy="403200"/>
              <a:chOff x="6465960" y="5505480"/>
              <a:chExt cx="3017880" cy="403200"/>
            </a:xfrm>
          </p:grpSpPr>
          <p:sp>
            <p:nvSpPr>
              <p:cNvPr id="148" name=""/>
              <p:cNvSpPr/>
              <p:nvPr/>
            </p:nvSpPr>
            <p:spPr>
              <a:xfrm>
                <a:off x="6465960" y="5505480"/>
                <a:ext cx="3017880" cy="40320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465960" y="5560560"/>
                <a:ext cx="3017880" cy="2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3366cc"/>
                    </a:solidFill>
                    <a:latin typeface="Arial"/>
                  </a:rPr>
                  <a:t>Job monitor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2735280" y="5505480"/>
              <a:ext cx="3730680" cy="403200"/>
              <a:chOff x="2735280" y="5505480"/>
              <a:chExt cx="3730680" cy="403200"/>
            </a:xfrm>
          </p:grpSpPr>
          <p:sp>
            <p:nvSpPr>
              <p:cNvPr id="151" name=""/>
              <p:cNvSpPr/>
              <p:nvPr/>
            </p:nvSpPr>
            <p:spPr>
              <a:xfrm>
                <a:off x="2735280" y="5505480"/>
                <a:ext cx="3730680" cy="40320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735280" y="5512680"/>
                <a:ext cx="3730680" cy="38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pPr>
                  <a:lnSpc>
                    <a:spcPct val="96000"/>
                  </a:lnSpc>
                  <a:spcBef>
                    <a:spcPts val="49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How is it performing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465960" y="5102280"/>
              <a:ext cx="3017880" cy="403200"/>
              <a:chOff x="6465960" y="5102280"/>
              <a:chExt cx="3017880" cy="403200"/>
            </a:xfrm>
          </p:grpSpPr>
          <p:sp>
            <p:nvSpPr>
              <p:cNvPr id="154" name=""/>
              <p:cNvSpPr/>
              <p:nvPr/>
            </p:nvSpPr>
            <p:spPr>
              <a:xfrm>
                <a:off x="6465960" y="5102280"/>
                <a:ext cx="3017880" cy="40320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465960" y="5157360"/>
                <a:ext cx="3017880" cy="2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3366cc"/>
                    </a:solidFill>
                    <a:latin typeface="Arial"/>
                  </a:rPr>
                  <a:t>Job submiss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735280" y="5102280"/>
              <a:ext cx="3730680" cy="403200"/>
              <a:chOff x="2735280" y="5102280"/>
              <a:chExt cx="3730680" cy="403200"/>
            </a:xfrm>
          </p:grpSpPr>
          <p:sp>
            <p:nvSpPr>
              <p:cNvPr id="157" name=""/>
              <p:cNvSpPr/>
              <p:nvPr/>
            </p:nvSpPr>
            <p:spPr>
              <a:xfrm>
                <a:off x="2735280" y="5102280"/>
                <a:ext cx="3730680" cy="40320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35280" y="5111280"/>
                <a:ext cx="3730680" cy="38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pPr>
                  <a:lnSpc>
                    <a:spcPct val="96000"/>
                  </a:lnSpc>
                  <a:spcBef>
                    <a:spcPts val="49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How does it start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6465960" y="4667400"/>
              <a:ext cx="3017880" cy="436320"/>
              <a:chOff x="6465960" y="4667400"/>
              <a:chExt cx="3017880" cy="436320"/>
            </a:xfrm>
          </p:grpSpPr>
          <p:sp>
            <p:nvSpPr>
              <p:cNvPr id="160" name=""/>
              <p:cNvSpPr/>
              <p:nvPr/>
            </p:nvSpPr>
            <p:spPr>
              <a:xfrm>
                <a:off x="6465960" y="4667400"/>
                <a:ext cx="3017880" cy="436320"/>
              </a:xfrm>
              <a:prstGeom prst="roundRect">
                <a:avLst>
                  <a:gd name="adj" fmla="val 36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465960" y="4739040"/>
                <a:ext cx="3017880" cy="2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3366cc"/>
                    </a:solidFill>
                    <a:latin typeface="Arial"/>
                  </a:rPr>
                  <a:t>Job prepar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735280" y="4667400"/>
              <a:ext cx="3730680" cy="436320"/>
              <a:chOff x="2735280" y="4667400"/>
              <a:chExt cx="3730680" cy="436320"/>
            </a:xfrm>
          </p:grpSpPr>
          <p:sp>
            <p:nvSpPr>
              <p:cNvPr id="163" name=""/>
              <p:cNvSpPr/>
              <p:nvPr/>
            </p:nvSpPr>
            <p:spPr>
              <a:xfrm>
                <a:off x="2735280" y="4667400"/>
                <a:ext cx="3730680" cy="436320"/>
              </a:xfrm>
              <a:prstGeom prst="roundRect">
                <a:avLst>
                  <a:gd name="adj" fmla="val 36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735280" y="4691880"/>
                <a:ext cx="3730680" cy="38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pPr>
                  <a:lnSpc>
                    <a:spcPct val="96000"/>
                  </a:lnSpc>
                  <a:spcBef>
                    <a:spcPts val="49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What does it need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6465960" y="4265640"/>
              <a:ext cx="3017880" cy="401760"/>
              <a:chOff x="6465960" y="4265640"/>
              <a:chExt cx="3017880" cy="401760"/>
            </a:xfrm>
          </p:grpSpPr>
          <p:sp>
            <p:nvSpPr>
              <p:cNvPr id="166" name=""/>
              <p:cNvSpPr/>
              <p:nvPr/>
            </p:nvSpPr>
            <p:spPr>
              <a:xfrm>
                <a:off x="6465960" y="4265640"/>
                <a:ext cx="3017880" cy="40176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65960" y="4320000"/>
                <a:ext cx="3017880" cy="2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96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3366cc"/>
                    </a:solidFill>
                    <a:latin typeface="Arial"/>
                  </a:rPr>
                  <a:t>Resource sele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735280" y="4265640"/>
              <a:ext cx="3730680" cy="401760"/>
              <a:chOff x="2735280" y="4265640"/>
              <a:chExt cx="3730680" cy="401760"/>
            </a:xfrm>
          </p:grpSpPr>
          <p:sp>
            <p:nvSpPr>
              <p:cNvPr id="169" name=""/>
              <p:cNvSpPr/>
              <p:nvPr/>
            </p:nvSpPr>
            <p:spPr>
              <a:xfrm>
                <a:off x="2735280" y="4265640"/>
                <a:ext cx="3730680" cy="40176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35280" y="4272840"/>
                <a:ext cx="3730680" cy="38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pPr>
                  <a:lnSpc>
                    <a:spcPct val="96000"/>
                  </a:lnSpc>
                  <a:spcBef>
                    <a:spcPts val="49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Where does it execute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942480" y="3817800"/>
            <a:ext cx="23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Scheduling ste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4280" y="760320"/>
            <a:ext cx="9248760" cy="2781360"/>
          </a:xfrm>
          <a:prstGeom prst="roundRect">
            <a:avLst>
              <a:gd name="adj" fmla="val 96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880" y="789120"/>
            <a:ext cx="89884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7928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Globus toolk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1440"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Enables 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flexible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 and 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secure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 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multiple domain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 operation with different resource management systems and access policies (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site autonomy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1440"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Globus compon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1440">
              <a:lnSpc>
                <a:spcPct val="118000"/>
              </a:lnSpc>
              <a:buClr>
                <a:srgbClr val="f078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  <a:ea typeface="HG Mincho Light J"/>
              </a:rPr>
              <a:t>Security infrastructure</a:t>
            </a:r>
            <a:r>
              <a:rPr b="0" lang="en-GB" sz="1800" spc="-1" strike="noStrike">
                <a:solidFill>
                  <a:srgbClr val="f07800"/>
                </a:solidFill>
                <a:latin typeface="Arial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(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GSI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1440">
              <a:lnSpc>
                <a:spcPct val="118000"/>
              </a:lnSpc>
              <a:buClr>
                <a:srgbClr val="f078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  <a:ea typeface="HG Mincho Light J"/>
              </a:rPr>
              <a:t>Resource management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  (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GRAM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1440">
              <a:lnSpc>
                <a:spcPct val="118000"/>
              </a:lnSpc>
              <a:buClr>
                <a:srgbClr val="f078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  <a:ea typeface="HG Mincho Light J"/>
              </a:rPr>
              <a:t>Information services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 (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MDS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)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1440">
              <a:lnSpc>
                <a:spcPct val="118000"/>
              </a:lnSpc>
              <a:buClr>
                <a:srgbClr val="f078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  <a:ea typeface="HG Mincho Light J"/>
              </a:rPr>
              <a:t>Data management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 (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GridFTP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 &amp; 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Replica Management</a:t>
            </a:r>
            <a:r>
              <a:rPr b="0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077480" cy="757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id Schedu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42880" y="987480"/>
            <a:ext cx="3386160" cy="1206360"/>
          </a:xfrm>
          <a:custGeom>
            <a:avLst/>
            <a:gdLst/>
            <a:ahLst/>
            <a:rect l="l" t="t" r="r" b="b"/>
            <a:pathLst>
              <a:path w="9407" h="3350">
                <a:moveTo>
                  <a:pt x="9406" y="406"/>
                </a:moveTo>
                <a:cubicBezTo>
                  <a:pt x="9406" y="0"/>
                  <a:pt x="9406" y="0"/>
                  <a:pt x="8092" y="0"/>
                </a:cubicBezTo>
                <a:lnTo>
                  <a:pt x="1314" y="0"/>
                </a:lnTo>
                <a:cubicBezTo>
                  <a:pt x="0" y="0"/>
                  <a:pt x="0" y="0"/>
                  <a:pt x="0" y="406"/>
                </a:cubicBezTo>
                <a:lnTo>
                  <a:pt x="0" y="2504"/>
                </a:lnTo>
                <a:cubicBezTo>
                  <a:pt x="0" y="2912"/>
                  <a:pt x="0" y="2912"/>
                  <a:pt x="1314" y="2912"/>
                </a:cubicBezTo>
                <a:lnTo>
                  <a:pt x="5647" y="2912"/>
                </a:lnTo>
                <a:lnTo>
                  <a:pt x="8763" y="3349"/>
                </a:lnTo>
                <a:lnTo>
                  <a:pt x="7919" y="2912"/>
                </a:lnTo>
                <a:lnTo>
                  <a:pt x="8092" y="2912"/>
                </a:lnTo>
                <a:cubicBezTo>
                  <a:pt x="9406" y="2912"/>
                  <a:pt x="9406" y="2912"/>
                  <a:pt x="9406" y="2504"/>
                </a:cubicBezTo>
                <a:lnTo>
                  <a:pt x="9406" y="40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2880" y="987480"/>
            <a:ext cx="3386160" cy="10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 algn="ctr">
              <a:lnSpc>
                <a:spcPts val="2186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High fault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18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18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62840" y="922320"/>
            <a:ext cx="3490920" cy="1587600"/>
          </a:xfrm>
          <a:custGeom>
            <a:avLst/>
            <a:gdLst/>
            <a:ahLst/>
            <a:rect l="l" t="t" r="r" b="b"/>
            <a:pathLst>
              <a:path w="9697" h="4410">
                <a:moveTo>
                  <a:pt x="0" y="535"/>
                </a:moveTo>
                <a:cubicBezTo>
                  <a:pt x="0" y="0"/>
                  <a:pt x="0" y="0"/>
                  <a:pt x="1354" y="0"/>
                </a:cubicBezTo>
                <a:lnTo>
                  <a:pt x="8341" y="0"/>
                </a:lnTo>
                <a:cubicBezTo>
                  <a:pt x="9696" y="0"/>
                  <a:pt x="9696" y="0"/>
                  <a:pt x="9696" y="535"/>
                </a:cubicBezTo>
                <a:lnTo>
                  <a:pt x="9696" y="3298"/>
                </a:lnTo>
                <a:cubicBezTo>
                  <a:pt x="9696" y="3834"/>
                  <a:pt x="9696" y="3834"/>
                  <a:pt x="8341" y="3834"/>
                </a:cubicBezTo>
                <a:lnTo>
                  <a:pt x="3875" y="3834"/>
                </a:lnTo>
                <a:lnTo>
                  <a:pt x="663" y="4409"/>
                </a:lnTo>
                <a:lnTo>
                  <a:pt x="1533" y="3834"/>
                </a:lnTo>
                <a:lnTo>
                  <a:pt x="1354" y="3834"/>
                </a:lnTo>
                <a:cubicBezTo>
                  <a:pt x="0" y="3834"/>
                  <a:pt x="0" y="3834"/>
                  <a:pt x="0" y="3298"/>
                </a:cubicBezTo>
                <a:lnTo>
                  <a:pt x="0" y="5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948120" y="2214720"/>
            <a:ext cx="2100240" cy="1358640"/>
            <a:chOff x="3948120" y="2214720"/>
            <a:chExt cx="2100240" cy="1358640"/>
          </a:xfrm>
        </p:grpSpPr>
        <p:sp>
          <p:nvSpPr>
            <p:cNvPr id="179" name=""/>
            <p:cNvSpPr/>
            <p:nvPr/>
          </p:nvSpPr>
          <p:spPr>
            <a:xfrm>
              <a:off x="3948120" y="2214720"/>
              <a:ext cx="2100240" cy="1358640"/>
            </a:xfrm>
            <a:custGeom>
              <a:avLst/>
              <a:gdLst/>
              <a:ahLst/>
              <a:rect l="l" t="t" r="r" b="b"/>
              <a:pathLst>
                <a:path w="5835" h="3773">
                  <a:moveTo>
                    <a:pt x="523" y="1258"/>
                  </a:moveTo>
                  <a:lnTo>
                    <a:pt x="463" y="1264"/>
                  </a:lnTo>
                  <a:lnTo>
                    <a:pt x="412" y="1282"/>
                  </a:lnTo>
                  <a:lnTo>
                    <a:pt x="366" y="1289"/>
                  </a:lnTo>
                  <a:lnTo>
                    <a:pt x="319" y="1312"/>
                  </a:lnTo>
                  <a:lnTo>
                    <a:pt x="268" y="1336"/>
                  </a:lnTo>
                  <a:lnTo>
                    <a:pt x="222" y="1367"/>
                  </a:lnTo>
                  <a:lnTo>
                    <a:pt x="184" y="1392"/>
                  </a:lnTo>
                  <a:lnTo>
                    <a:pt x="148" y="1423"/>
                  </a:lnTo>
                  <a:lnTo>
                    <a:pt x="110" y="1462"/>
                  </a:lnTo>
                  <a:lnTo>
                    <a:pt x="87" y="1501"/>
                  </a:lnTo>
                  <a:lnTo>
                    <a:pt x="61" y="1540"/>
                  </a:lnTo>
                  <a:lnTo>
                    <a:pt x="40" y="1587"/>
                  </a:lnTo>
                  <a:lnTo>
                    <a:pt x="13" y="1627"/>
                  </a:lnTo>
                  <a:lnTo>
                    <a:pt x="0" y="1681"/>
                  </a:lnTo>
                  <a:lnTo>
                    <a:pt x="0" y="1729"/>
                  </a:lnTo>
                  <a:lnTo>
                    <a:pt x="0" y="1777"/>
                  </a:lnTo>
                  <a:lnTo>
                    <a:pt x="0" y="1807"/>
                  </a:lnTo>
                  <a:lnTo>
                    <a:pt x="0" y="1848"/>
                  </a:lnTo>
                  <a:lnTo>
                    <a:pt x="0" y="1878"/>
                  </a:lnTo>
                  <a:lnTo>
                    <a:pt x="13" y="1909"/>
                  </a:lnTo>
                  <a:lnTo>
                    <a:pt x="26" y="1941"/>
                  </a:lnTo>
                  <a:lnTo>
                    <a:pt x="40" y="1972"/>
                  </a:lnTo>
                  <a:lnTo>
                    <a:pt x="51" y="2004"/>
                  </a:lnTo>
                  <a:lnTo>
                    <a:pt x="74" y="2035"/>
                  </a:lnTo>
                  <a:lnTo>
                    <a:pt x="100" y="2058"/>
                  </a:lnTo>
                  <a:lnTo>
                    <a:pt x="110" y="2089"/>
                  </a:lnTo>
                  <a:lnTo>
                    <a:pt x="138" y="2115"/>
                  </a:lnTo>
                  <a:lnTo>
                    <a:pt x="158" y="2136"/>
                  </a:lnTo>
                  <a:lnTo>
                    <a:pt x="197" y="2161"/>
                  </a:lnTo>
                  <a:lnTo>
                    <a:pt x="222" y="2184"/>
                  </a:lnTo>
                  <a:lnTo>
                    <a:pt x="255" y="2208"/>
                  </a:lnTo>
                  <a:lnTo>
                    <a:pt x="281" y="2223"/>
                  </a:lnTo>
                  <a:lnTo>
                    <a:pt x="281" y="2217"/>
                  </a:lnTo>
                  <a:lnTo>
                    <a:pt x="245" y="2255"/>
                  </a:lnTo>
                  <a:lnTo>
                    <a:pt x="222" y="2295"/>
                  </a:lnTo>
                  <a:lnTo>
                    <a:pt x="184" y="2334"/>
                  </a:lnTo>
                  <a:lnTo>
                    <a:pt x="171" y="2382"/>
                  </a:lnTo>
                  <a:lnTo>
                    <a:pt x="148" y="2427"/>
                  </a:lnTo>
                  <a:lnTo>
                    <a:pt x="138" y="2475"/>
                  </a:lnTo>
                  <a:lnTo>
                    <a:pt x="125" y="2522"/>
                  </a:lnTo>
                  <a:lnTo>
                    <a:pt x="125" y="2571"/>
                  </a:lnTo>
                  <a:lnTo>
                    <a:pt x="125" y="2592"/>
                  </a:lnTo>
                  <a:lnTo>
                    <a:pt x="125" y="2625"/>
                  </a:lnTo>
                  <a:lnTo>
                    <a:pt x="138" y="2649"/>
                  </a:lnTo>
                  <a:lnTo>
                    <a:pt x="138" y="2672"/>
                  </a:lnTo>
                  <a:lnTo>
                    <a:pt x="148" y="2696"/>
                  </a:lnTo>
                  <a:lnTo>
                    <a:pt x="148" y="2726"/>
                  </a:lnTo>
                  <a:lnTo>
                    <a:pt x="171" y="2775"/>
                  </a:lnTo>
                  <a:lnTo>
                    <a:pt x="197" y="2813"/>
                  </a:lnTo>
                  <a:lnTo>
                    <a:pt x="222" y="2861"/>
                  </a:lnTo>
                  <a:lnTo>
                    <a:pt x="255" y="2900"/>
                  </a:lnTo>
                  <a:lnTo>
                    <a:pt x="295" y="2939"/>
                  </a:lnTo>
                  <a:lnTo>
                    <a:pt x="342" y="2972"/>
                  </a:lnTo>
                  <a:lnTo>
                    <a:pt x="379" y="3002"/>
                  </a:lnTo>
                  <a:lnTo>
                    <a:pt x="426" y="3026"/>
                  </a:lnTo>
                  <a:lnTo>
                    <a:pt x="489" y="3048"/>
                  </a:lnTo>
                  <a:lnTo>
                    <a:pt x="537" y="3065"/>
                  </a:lnTo>
                  <a:lnTo>
                    <a:pt x="596" y="3073"/>
                  </a:lnTo>
                  <a:lnTo>
                    <a:pt x="621" y="3080"/>
                  </a:lnTo>
                  <a:lnTo>
                    <a:pt x="657" y="3089"/>
                  </a:lnTo>
                  <a:lnTo>
                    <a:pt x="680" y="3089"/>
                  </a:lnTo>
                  <a:lnTo>
                    <a:pt x="708" y="3089"/>
                  </a:lnTo>
                  <a:lnTo>
                    <a:pt x="744" y="3089"/>
                  </a:lnTo>
                  <a:lnTo>
                    <a:pt x="778" y="3080"/>
                  </a:lnTo>
                  <a:lnTo>
                    <a:pt x="778" y="3089"/>
                  </a:lnTo>
                  <a:lnTo>
                    <a:pt x="815" y="3143"/>
                  </a:lnTo>
                  <a:lnTo>
                    <a:pt x="852" y="3191"/>
                  </a:lnTo>
                  <a:lnTo>
                    <a:pt x="902" y="3239"/>
                  </a:lnTo>
                  <a:lnTo>
                    <a:pt x="949" y="3275"/>
                  </a:lnTo>
                  <a:lnTo>
                    <a:pt x="999" y="3324"/>
                  </a:lnTo>
                  <a:lnTo>
                    <a:pt x="1046" y="3364"/>
                  </a:lnTo>
                  <a:lnTo>
                    <a:pt x="1110" y="3394"/>
                  </a:lnTo>
                  <a:lnTo>
                    <a:pt x="1156" y="3427"/>
                  </a:lnTo>
                  <a:lnTo>
                    <a:pt x="1217" y="3458"/>
                  </a:lnTo>
                  <a:lnTo>
                    <a:pt x="1278" y="3481"/>
                  </a:lnTo>
                  <a:lnTo>
                    <a:pt x="1351" y="3497"/>
                  </a:lnTo>
                  <a:lnTo>
                    <a:pt x="1411" y="3521"/>
                  </a:lnTo>
                  <a:lnTo>
                    <a:pt x="1472" y="3529"/>
                  </a:lnTo>
                  <a:lnTo>
                    <a:pt x="1546" y="3544"/>
                  </a:lnTo>
                  <a:lnTo>
                    <a:pt x="1619" y="3544"/>
                  </a:lnTo>
                  <a:lnTo>
                    <a:pt x="1677" y="3551"/>
                  </a:lnTo>
                  <a:lnTo>
                    <a:pt x="1751" y="3544"/>
                  </a:lnTo>
                  <a:lnTo>
                    <a:pt x="1824" y="3544"/>
                  </a:lnTo>
                  <a:lnTo>
                    <a:pt x="1897" y="3529"/>
                  </a:lnTo>
                  <a:lnTo>
                    <a:pt x="1958" y="3521"/>
                  </a:lnTo>
                  <a:lnTo>
                    <a:pt x="2032" y="3497"/>
                  </a:lnTo>
                  <a:lnTo>
                    <a:pt x="2089" y="3472"/>
                  </a:lnTo>
                  <a:lnTo>
                    <a:pt x="2153" y="3449"/>
                  </a:lnTo>
                  <a:lnTo>
                    <a:pt x="2226" y="3418"/>
                  </a:lnTo>
                  <a:lnTo>
                    <a:pt x="2212" y="3418"/>
                  </a:lnTo>
                  <a:lnTo>
                    <a:pt x="2247" y="3458"/>
                  </a:lnTo>
                  <a:lnTo>
                    <a:pt x="2286" y="3497"/>
                  </a:lnTo>
                  <a:lnTo>
                    <a:pt x="2324" y="3535"/>
                  </a:lnTo>
                  <a:lnTo>
                    <a:pt x="2370" y="3568"/>
                  </a:lnTo>
                  <a:lnTo>
                    <a:pt x="2408" y="3600"/>
                  </a:lnTo>
                  <a:lnTo>
                    <a:pt x="2454" y="3631"/>
                  </a:lnTo>
                  <a:lnTo>
                    <a:pt x="2491" y="3655"/>
                  </a:lnTo>
                  <a:lnTo>
                    <a:pt x="2541" y="3676"/>
                  </a:lnTo>
                  <a:lnTo>
                    <a:pt x="2598" y="3701"/>
                  </a:lnTo>
                  <a:lnTo>
                    <a:pt x="2649" y="3725"/>
                  </a:lnTo>
                  <a:lnTo>
                    <a:pt x="2699" y="3739"/>
                  </a:lnTo>
                  <a:lnTo>
                    <a:pt x="2759" y="3748"/>
                  </a:lnTo>
                  <a:lnTo>
                    <a:pt x="2807" y="3766"/>
                  </a:lnTo>
                  <a:lnTo>
                    <a:pt x="2856" y="3772"/>
                  </a:lnTo>
                  <a:lnTo>
                    <a:pt x="2917" y="3772"/>
                  </a:lnTo>
                  <a:lnTo>
                    <a:pt x="2977" y="3772"/>
                  </a:lnTo>
                  <a:lnTo>
                    <a:pt x="3014" y="3772"/>
                  </a:lnTo>
                  <a:lnTo>
                    <a:pt x="3051" y="3772"/>
                  </a:lnTo>
                  <a:lnTo>
                    <a:pt x="3088" y="3772"/>
                  </a:lnTo>
                  <a:lnTo>
                    <a:pt x="3122" y="3766"/>
                  </a:lnTo>
                  <a:lnTo>
                    <a:pt x="3158" y="3757"/>
                  </a:lnTo>
                  <a:lnTo>
                    <a:pt x="3198" y="3757"/>
                  </a:lnTo>
                  <a:lnTo>
                    <a:pt x="3269" y="3733"/>
                  </a:lnTo>
                  <a:lnTo>
                    <a:pt x="3329" y="3709"/>
                  </a:lnTo>
                  <a:lnTo>
                    <a:pt x="3403" y="3685"/>
                  </a:lnTo>
                  <a:lnTo>
                    <a:pt x="3464" y="3655"/>
                  </a:lnTo>
                  <a:lnTo>
                    <a:pt x="3523" y="3614"/>
                  </a:lnTo>
                  <a:lnTo>
                    <a:pt x="3571" y="3575"/>
                  </a:lnTo>
                  <a:lnTo>
                    <a:pt x="3621" y="3535"/>
                  </a:lnTo>
                  <a:lnTo>
                    <a:pt x="3668" y="3490"/>
                  </a:lnTo>
                  <a:lnTo>
                    <a:pt x="3718" y="3434"/>
                  </a:lnTo>
                  <a:lnTo>
                    <a:pt x="3755" y="3378"/>
                  </a:lnTo>
                  <a:lnTo>
                    <a:pt x="3792" y="3324"/>
                  </a:lnTo>
                  <a:lnTo>
                    <a:pt x="3825" y="3269"/>
                  </a:lnTo>
                  <a:lnTo>
                    <a:pt x="3838" y="3239"/>
                  </a:lnTo>
                  <a:lnTo>
                    <a:pt x="3853" y="3206"/>
                  </a:lnTo>
                  <a:lnTo>
                    <a:pt x="3853" y="3206"/>
                  </a:lnTo>
                  <a:lnTo>
                    <a:pt x="3902" y="3230"/>
                  </a:lnTo>
                  <a:lnTo>
                    <a:pt x="3950" y="3254"/>
                  </a:lnTo>
                  <a:lnTo>
                    <a:pt x="3996" y="3269"/>
                  </a:lnTo>
                  <a:lnTo>
                    <a:pt x="4047" y="3284"/>
                  </a:lnTo>
                  <a:lnTo>
                    <a:pt x="4094" y="3302"/>
                  </a:lnTo>
                  <a:lnTo>
                    <a:pt x="4157" y="3308"/>
                  </a:lnTo>
                  <a:lnTo>
                    <a:pt x="4204" y="3317"/>
                  </a:lnTo>
                  <a:lnTo>
                    <a:pt x="4265" y="3317"/>
                  </a:lnTo>
                  <a:lnTo>
                    <a:pt x="4301" y="3317"/>
                  </a:lnTo>
                  <a:lnTo>
                    <a:pt x="4339" y="3308"/>
                  </a:lnTo>
                  <a:lnTo>
                    <a:pt x="4375" y="3308"/>
                  </a:lnTo>
                  <a:lnTo>
                    <a:pt x="4426" y="3302"/>
                  </a:lnTo>
                  <a:lnTo>
                    <a:pt x="4459" y="3293"/>
                  </a:lnTo>
                  <a:lnTo>
                    <a:pt x="4495" y="3284"/>
                  </a:lnTo>
                  <a:lnTo>
                    <a:pt x="4533" y="3269"/>
                  </a:lnTo>
                  <a:lnTo>
                    <a:pt x="4569" y="3262"/>
                  </a:lnTo>
                  <a:lnTo>
                    <a:pt x="4594" y="3245"/>
                  </a:lnTo>
                  <a:lnTo>
                    <a:pt x="4630" y="3230"/>
                  </a:lnTo>
                  <a:lnTo>
                    <a:pt x="4667" y="3212"/>
                  </a:lnTo>
                  <a:lnTo>
                    <a:pt x="4700" y="3199"/>
                  </a:lnTo>
                  <a:lnTo>
                    <a:pt x="4727" y="3183"/>
                  </a:lnTo>
                  <a:lnTo>
                    <a:pt x="4751" y="3158"/>
                  </a:lnTo>
                  <a:lnTo>
                    <a:pt x="4811" y="3111"/>
                  </a:lnTo>
                  <a:lnTo>
                    <a:pt x="4861" y="3065"/>
                  </a:lnTo>
                  <a:lnTo>
                    <a:pt x="4885" y="3041"/>
                  </a:lnTo>
                  <a:lnTo>
                    <a:pt x="4909" y="3017"/>
                  </a:lnTo>
                  <a:lnTo>
                    <a:pt x="4935" y="2985"/>
                  </a:lnTo>
                  <a:lnTo>
                    <a:pt x="4945" y="2954"/>
                  </a:lnTo>
                  <a:lnTo>
                    <a:pt x="4968" y="2930"/>
                  </a:lnTo>
                  <a:lnTo>
                    <a:pt x="4982" y="2900"/>
                  </a:lnTo>
                  <a:lnTo>
                    <a:pt x="4993" y="2867"/>
                  </a:lnTo>
                  <a:lnTo>
                    <a:pt x="5006" y="2837"/>
                  </a:lnTo>
                  <a:lnTo>
                    <a:pt x="5019" y="2807"/>
                  </a:lnTo>
                  <a:lnTo>
                    <a:pt x="5032" y="2766"/>
                  </a:lnTo>
                  <a:lnTo>
                    <a:pt x="5032" y="2735"/>
                  </a:lnTo>
                  <a:lnTo>
                    <a:pt x="5042" y="2703"/>
                  </a:lnTo>
                  <a:lnTo>
                    <a:pt x="5042" y="2672"/>
                  </a:lnTo>
                  <a:lnTo>
                    <a:pt x="5042" y="2634"/>
                  </a:lnTo>
                  <a:lnTo>
                    <a:pt x="5042" y="2634"/>
                  </a:lnTo>
                  <a:lnTo>
                    <a:pt x="5080" y="2625"/>
                  </a:lnTo>
                  <a:lnTo>
                    <a:pt x="5129" y="2616"/>
                  </a:lnTo>
                  <a:lnTo>
                    <a:pt x="5163" y="2609"/>
                  </a:lnTo>
                  <a:lnTo>
                    <a:pt x="5200" y="2592"/>
                  </a:lnTo>
                  <a:lnTo>
                    <a:pt x="5247" y="2586"/>
                  </a:lnTo>
                  <a:lnTo>
                    <a:pt x="5287" y="2571"/>
                  </a:lnTo>
                  <a:lnTo>
                    <a:pt x="5321" y="2553"/>
                  </a:lnTo>
                  <a:lnTo>
                    <a:pt x="5357" y="2538"/>
                  </a:lnTo>
                  <a:lnTo>
                    <a:pt x="5395" y="2522"/>
                  </a:lnTo>
                  <a:lnTo>
                    <a:pt x="5418" y="2499"/>
                  </a:lnTo>
                  <a:lnTo>
                    <a:pt x="5454" y="2484"/>
                  </a:lnTo>
                  <a:lnTo>
                    <a:pt x="5492" y="2459"/>
                  </a:lnTo>
                  <a:lnTo>
                    <a:pt x="5553" y="2414"/>
                  </a:lnTo>
                  <a:lnTo>
                    <a:pt x="5602" y="2358"/>
                  </a:lnTo>
                  <a:lnTo>
                    <a:pt x="5625" y="2334"/>
                  </a:lnTo>
                  <a:lnTo>
                    <a:pt x="5650" y="2302"/>
                  </a:lnTo>
                  <a:lnTo>
                    <a:pt x="5673" y="2280"/>
                  </a:lnTo>
                  <a:lnTo>
                    <a:pt x="5699" y="2248"/>
                  </a:lnTo>
                  <a:lnTo>
                    <a:pt x="5723" y="2217"/>
                  </a:lnTo>
                  <a:lnTo>
                    <a:pt x="5737" y="2184"/>
                  </a:lnTo>
                  <a:lnTo>
                    <a:pt x="5747" y="2154"/>
                  </a:lnTo>
                  <a:lnTo>
                    <a:pt x="5770" y="2121"/>
                  </a:lnTo>
                  <a:lnTo>
                    <a:pt x="5783" y="2082"/>
                  </a:lnTo>
                  <a:lnTo>
                    <a:pt x="5797" y="2051"/>
                  </a:lnTo>
                  <a:lnTo>
                    <a:pt x="5807" y="2020"/>
                  </a:lnTo>
                  <a:lnTo>
                    <a:pt x="5807" y="1981"/>
                  </a:lnTo>
                  <a:lnTo>
                    <a:pt x="5820" y="1941"/>
                  </a:lnTo>
                  <a:lnTo>
                    <a:pt x="5820" y="1909"/>
                  </a:lnTo>
                  <a:lnTo>
                    <a:pt x="5820" y="1870"/>
                  </a:lnTo>
                  <a:lnTo>
                    <a:pt x="5834" y="1831"/>
                  </a:lnTo>
                  <a:lnTo>
                    <a:pt x="5820" y="1798"/>
                  </a:lnTo>
                  <a:lnTo>
                    <a:pt x="5820" y="1768"/>
                  </a:lnTo>
                  <a:lnTo>
                    <a:pt x="5820" y="1735"/>
                  </a:lnTo>
                  <a:lnTo>
                    <a:pt x="5807" y="1705"/>
                  </a:lnTo>
                  <a:lnTo>
                    <a:pt x="5807" y="1666"/>
                  </a:lnTo>
                  <a:lnTo>
                    <a:pt x="5797" y="1634"/>
                  </a:lnTo>
                  <a:lnTo>
                    <a:pt x="5783" y="1603"/>
                  </a:lnTo>
                  <a:lnTo>
                    <a:pt x="5783" y="1571"/>
                  </a:lnTo>
                  <a:lnTo>
                    <a:pt x="5770" y="1540"/>
                  </a:lnTo>
                  <a:lnTo>
                    <a:pt x="5747" y="1510"/>
                  </a:lnTo>
                  <a:lnTo>
                    <a:pt x="5737" y="1486"/>
                  </a:lnTo>
                  <a:lnTo>
                    <a:pt x="5723" y="1453"/>
                  </a:lnTo>
                  <a:lnTo>
                    <a:pt x="5699" y="1423"/>
                  </a:lnTo>
                  <a:lnTo>
                    <a:pt x="5673" y="1399"/>
                  </a:lnTo>
                  <a:lnTo>
                    <a:pt x="5640" y="1343"/>
                  </a:lnTo>
                  <a:lnTo>
                    <a:pt x="5640" y="1343"/>
                  </a:lnTo>
                  <a:lnTo>
                    <a:pt x="5650" y="1312"/>
                  </a:lnTo>
                  <a:lnTo>
                    <a:pt x="5660" y="1282"/>
                  </a:lnTo>
                  <a:lnTo>
                    <a:pt x="5673" y="1249"/>
                  </a:lnTo>
                  <a:lnTo>
                    <a:pt x="5673" y="1219"/>
                  </a:lnTo>
                  <a:lnTo>
                    <a:pt x="5686" y="1186"/>
                  </a:lnTo>
                  <a:lnTo>
                    <a:pt x="5686" y="1156"/>
                  </a:lnTo>
                  <a:lnTo>
                    <a:pt x="5686" y="1123"/>
                  </a:lnTo>
                  <a:lnTo>
                    <a:pt x="5699" y="1094"/>
                  </a:lnTo>
                  <a:lnTo>
                    <a:pt x="5686" y="1037"/>
                  </a:lnTo>
                  <a:lnTo>
                    <a:pt x="5686" y="991"/>
                  </a:lnTo>
                  <a:lnTo>
                    <a:pt x="5673" y="935"/>
                  </a:lnTo>
                  <a:lnTo>
                    <a:pt x="5650" y="887"/>
                  </a:lnTo>
                  <a:lnTo>
                    <a:pt x="5640" y="840"/>
                  </a:lnTo>
                  <a:lnTo>
                    <a:pt x="5612" y="794"/>
                  </a:lnTo>
                  <a:lnTo>
                    <a:pt x="5576" y="746"/>
                  </a:lnTo>
                  <a:lnTo>
                    <a:pt x="5542" y="707"/>
                  </a:lnTo>
                  <a:lnTo>
                    <a:pt x="5502" y="668"/>
                  </a:lnTo>
                  <a:lnTo>
                    <a:pt x="5468" y="629"/>
                  </a:lnTo>
                  <a:lnTo>
                    <a:pt x="5431" y="599"/>
                  </a:lnTo>
                  <a:lnTo>
                    <a:pt x="5384" y="567"/>
                  </a:lnTo>
                  <a:lnTo>
                    <a:pt x="5334" y="542"/>
                  </a:lnTo>
                  <a:lnTo>
                    <a:pt x="5274" y="518"/>
                  </a:lnTo>
                  <a:lnTo>
                    <a:pt x="5223" y="495"/>
                  </a:lnTo>
                  <a:lnTo>
                    <a:pt x="5163" y="480"/>
                  </a:lnTo>
                  <a:lnTo>
                    <a:pt x="5163" y="480"/>
                  </a:lnTo>
                  <a:lnTo>
                    <a:pt x="5150" y="426"/>
                  </a:lnTo>
                  <a:lnTo>
                    <a:pt x="5139" y="377"/>
                  </a:lnTo>
                  <a:lnTo>
                    <a:pt x="5116" y="330"/>
                  </a:lnTo>
                  <a:lnTo>
                    <a:pt x="5090" y="291"/>
                  </a:lnTo>
                  <a:lnTo>
                    <a:pt x="5052" y="243"/>
                  </a:lnTo>
                  <a:lnTo>
                    <a:pt x="5019" y="206"/>
                  </a:lnTo>
                  <a:lnTo>
                    <a:pt x="4982" y="173"/>
                  </a:lnTo>
                  <a:lnTo>
                    <a:pt x="4945" y="141"/>
                  </a:lnTo>
                  <a:lnTo>
                    <a:pt x="4894" y="110"/>
                  </a:lnTo>
                  <a:lnTo>
                    <a:pt x="4848" y="78"/>
                  </a:lnTo>
                  <a:lnTo>
                    <a:pt x="4797" y="54"/>
                  </a:lnTo>
                  <a:lnTo>
                    <a:pt x="4751" y="39"/>
                  </a:lnTo>
                  <a:lnTo>
                    <a:pt x="4691" y="24"/>
                  </a:lnTo>
                  <a:lnTo>
                    <a:pt x="4640" y="15"/>
                  </a:lnTo>
                  <a:lnTo>
                    <a:pt x="4580" y="9"/>
                  </a:lnTo>
                  <a:lnTo>
                    <a:pt x="4523" y="0"/>
                  </a:lnTo>
                  <a:lnTo>
                    <a:pt x="4482" y="9"/>
                  </a:lnTo>
                  <a:lnTo>
                    <a:pt x="4446" y="9"/>
                  </a:lnTo>
                  <a:lnTo>
                    <a:pt x="4412" y="9"/>
                  </a:lnTo>
                  <a:lnTo>
                    <a:pt x="4375" y="15"/>
                  </a:lnTo>
                  <a:lnTo>
                    <a:pt x="4339" y="24"/>
                  </a:lnTo>
                  <a:lnTo>
                    <a:pt x="4315" y="33"/>
                  </a:lnTo>
                  <a:lnTo>
                    <a:pt x="4278" y="47"/>
                  </a:lnTo>
                  <a:lnTo>
                    <a:pt x="4241" y="54"/>
                  </a:lnTo>
                  <a:lnTo>
                    <a:pt x="4218" y="72"/>
                  </a:lnTo>
                  <a:lnTo>
                    <a:pt x="4178" y="87"/>
                  </a:lnTo>
                  <a:lnTo>
                    <a:pt x="4157" y="101"/>
                  </a:lnTo>
                  <a:lnTo>
                    <a:pt x="4121" y="117"/>
                  </a:lnTo>
                  <a:lnTo>
                    <a:pt x="4094" y="141"/>
                  </a:lnTo>
                  <a:lnTo>
                    <a:pt x="4070" y="165"/>
                  </a:lnTo>
                  <a:lnTo>
                    <a:pt x="4047" y="180"/>
                  </a:lnTo>
                  <a:lnTo>
                    <a:pt x="4024" y="206"/>
                  </a:lnTo>
                  <a:lnTo>
                    <a:pt x="4024" y="206"/>
                  </a:lnTo>
                  <a:lnTo>
                    <a:pt x="3996" y="180"/>
                  </a:lnTo>
                  <a:lnTo>
                    <a:pt x="3973" y="165"/>
                  </a:lnTo>
                  <a:lnTo>
                    <a:pt x="3950" y="141"/>
                  </a:lnTo>
                  <a:lnTo>
                    <a:pt x="3922" y="117"/>
                  </a:lnTo>
                  <a:lnTo>
                    <a:pt x="3902" y="101"/>
                  </a:lnTo>
                  <a:lnTo>
                    <a:pt x="3876" y="87"/>
                  </a:lnTo>
                  <a:lnTo>
                    <a:pt x="3838" y="72"/>
                  </a:lnTo>
                  <a:lnTo>
                    <a:pt x="3815" y="54"/>
                  </a:lnTo>
                  <a:lnTo>
                    <a:pt x="3779" y="47"/>
                  </a:lnTo>
                  <a:lnTo>
                    <a:pt x="3755" y="33"/>
                  </a:lnTo>
                  <a:lnTo>
                    <a:pt x="3718" y="24"/>
                  </a:lnTo>
                  <a:lnTo>
                    <a:pt x="3681" y="15"/>
                  </a:lnTo>
                  <a:lnTo>
                    <a:pt x="3658" y="9"/>
                  </a:lnTo>
                  <a:lnTo>
                    <a:pt x="3621" y="9"/>
                  </a:lnTo>
                  <a:lnTo>
                    <a:pt x="3584" y="9"/>
                  </a:lnTo>
                  <a:lnTo>
                    <a:pt x="3551" y="0"/>
                  </a:lnTo>
                  <a:lnTo>
                    <a:pt x="3510" y="9"/>
                  </a:lnTo>
                  <a:lnTo>
                    <a:pt x="3464" y="9"/>
                  </a:lnTo>
                  <a:lnTo>
                    <a:pt x="3426" y="15"/>
                  </a:lnTo>
                  <a:lnTo>
                    <a:pt x="3390" y="24"/>
                  </a:lnTo>
                  <a:lnTo>
                    <a:pt x="3356" y="39"/>
                  </a:lnTo>
                  <a:lnTo>
                    <a:pt x="3316" y="47"/>
                  </a:lnTo>
                  <a:lnTo>
                    <a:pt x="3283" y="63"/>
                  </a:lnTo>
                  <a:lnTo>
                    <a:pt x="3245" y="78"/>
                  </a:lnTo>
                  <a:lnTo>
                    <a:pt x="3209" y="101"/>
                  </a:lnTo>
                  <a:lnTo>
                    <a:pt x="3171" y="126"/>
                  </a:lnTo>
                  <a:lnTo>
                    <a:pt x="3148" y="150"/>
                  </a:lnTo>
                  <a:lnTo>
                    <a:pt x="3122" y="173"/>
                  </a:lnTo>
                  <a:lnTo>
                    <a:pt x="3088" y="197"/>
                  </a:lnTo>
                  <a:lnTo>
                    <a:pt x="3061" y="228"/>
                  </a:lnTo>
                  <a:lnTo>
                    <a:pt x="3037" y="260"/>
                  </a:lnTo>
                  <a:lnTo>
                    <a:pt x="3027" y="291"/>
                  </a:lnTo>
                  <a:lnTo>
                    <a:pt x="3027" y="300"/>
                  </a:lnTo>
                  <a:lnTo>
                    <a:pt x="2977" y="260"/>
                  </a:lnTo>
                  <a:lnTo>
                    <a:pt x="2953" y="243"/>
                  </a:lnTo>
                  <a:lnTo>
                    <a:pt x="2917" y="219"/>
                  </a:lnTo>
                  <a:lnTo>
                    <a:pt x="2894" y="206"/>
                  </a:lnTo>
                  <a:lnTo>
                    <a:pt x="2856" y="189"/>
                  </a:lnTo>
                  <a:lnTo>
                    <a:pt x="2833" y="180"/>
                  </a:lnTo>
                  <a:lnTo>
                    <a:pt x="2797" y="165"/>
                  </a:lnTo>
                  <a:lnTo>
                    <a:pt x="2759" y="157"/>
                  </a:lnTo>
                  <a:lnTo>
                    <a:pt x="2736" y="141"/>
                  </a:lnTo>
                  <a:lnTo>
                    <a:pt x="2699" y="134"/>
                  </a:lnTo>
                  <a:lnTo>
                    <a:pt x="2662" y="126"/>
                  </a:lnTo>
                  <a:lnTo>
                    <a:pt x="2625" y="126"/>
                  </a:lnTo>
                  <a:lnTo>
                    <a:pt x="2592" y="117"/>
                  </a:lnTo>
                  <a:lnTo>
                    <a:pt x="2551" y="117"/>
                  </a:lnTo>
                  <a:lnTo>
                    <a:pt x="2528" y="117"/>
                  </a:lnTo>
                  <a:lnTo>
                    <a:pt x="2467" y="117"/>
                  </a:lnTo>
                  <a:lnTo>
                    <a:pt x="2421" y="126"/>
                  </a:lnTo>
                  <a:lnTo>
                    <a:pt x="2370" y="134"/>
                  </a:lnTo>
                  <a:lnTo>
                    <a:pt x="2334" y="141"/>
                  </a:lnTo>
                  <a:lnTo>
                    <a:pt x="2286" y="157"/>
                  </a:lnTo>
                  <a:lnTo>
                    <a:pt x="2237" y="165"/>
                  </a:lnTo>
                  <a:lnTo>
                    <a:pt x="2189" y="189"/>
                  </a:lnTo>
                  <a:lnTo>
                    <a:pt x="2153" y="206"/>
                  </a:lnTo>
                  <a:lnTo>
                    <a:pt x="2115" y="228"/>
                  </a:lnTo>
                  <a:lnTo>
                    <a:pt x="2069" y="260"/>
                  </a:lnTo>
                  <a:lnTo>
                    <a:pt x="2032" y="282"/>
                  </a:lnTo>
                  <a:lnTo>
                    <a:pt x="2005" y="314"/>
                  </a:lnTo>
                  <a:lnTo>
                    <a:pt x="1971" y="345"/>
                  </a:lnTo>
                  <a:lnTo>
                    <a:pt x="1935" y="377"/>
                  </a:lnTo>
                  <a:lnTo>
                    <a:pt x="1908" y="417"/>
                  </a:lnTo>
                  <a:lnTo>
                    <a:pt x="1884" y="455"/>
                  </a:lnTo>
                  <a:lnTo>
                    <a:pt x="1884" y="455"/>
                  </a:lnTo>
                  <a:lnTo>
                    <a:pt x="1834" y="434"/>
                  </a:lnTo>
                  <a:lnTo>
                    <a:pt x="1777" y="408"/>
                  </a:lnTo>
                  <a:lnTo>
                    <a:pt x="1716" y="392"/>
                  </a:lnTo>
                  <a:lnTo>
                    <a:pt x="1667" y="377"/>
                  </a:lnTo>
                  <a:lnTo>
                    <a:pt x="1606" y="363"/>
                  </a:lnTo>
                  <a:lnTo>
                    <a:pt x="1546" y="354"/>
                  </a:lnTo>
                  <a:lnTo>
                    <a:pt x="1482" y="345"/>
                  </a:lnTo>
                  <a:lnTo>
                    <a:pt x="1422" y="345"/>
                  </a:lnTo>
                  <a:lnTo>
                    <a:pt x="1375" y="345"/>
                  </a:lnTo>
                  <a:lnTo>
                    <a:pt x="1324" y="354"/>
                  </a:lnTo>
                  <a:lnTo>
                    <a:pt x="1288" y="363"/>
                  </a:lnTo>
                  <a:lnTo>
                    <a:pt x="1240" y="363"/>
                  </a:lnTo>
                  <a:lnTo>
                    <a:pt x="1194" y="377"/>
                  </a:lnTo>
                  <a:lnTo>
                    <a:pt x="1156" y="384"/>
                  </a:lnTo>
                  <a:lnTo>
                    <a:pt x="1110" y="392"/>
                  </a:lnTo>
                  <a:lnTo>
                    <a:pt x="1069" y="408"/>
                  </a:lnTo>
                  <a:lnTo>
                    <a:pt x="1033" y="426"/>
                  </a:lnTo>
                  <a:lnTo>
                    <a:pt x="986" y="446"/>
                  </a:lnTo>
                  <a:lnTo>
                    <a:pt x="949" y="464"/>
                  </a:lnTo>
                  <a:lnTo>
                    <a:pt x="912" y="488"/>
                  </a:lnTo>
                  <a:lnTo>
                    <a:pt x="875" y="509"/>
                  </a:lnTo>
                  <a:lnTo>
                    <a:pt x="841" y="536"/>
                  </a:lnTo>
                  <a:lnTo>
                    <a:pt x="815" y="558"/>
                  </a:lnTo>
                  <a:lnTo>
                    <a:pt x="778" y="581"/>
                  </a:lnTo>
                  <a:lnTo>
                    <a:pt x="744" y="612"/>
                  </a:lnTo>
                  <a:lnTo>
                    <a:pt x="718" y="638"/>
                  </a:lnTo>
                  <a:lnTo>
                    <a:pt x="694" y="668"/>
                  </a:lnTo>
                  <a:lnTo>
                    <a:pt x="670" y="701"/>
                  </a:lnTo>
                  <a:lnTo>
                    <a:pt x="647" y="737"/>
                  </a:lnTo>
                  <a:lnTo>
                    <a:pt x="621" y="771"/>
                  </a:lnTo>
                  <a:lnTo>
                    <a:pt x="596" y="803"/>
                  </a:lnTo>
                  <a:lnTo>
                    <a:pt x="586" y="840"/>
                  </a:lnTo>
                  <a:lnTo>
                    <a:pt x="573" y="872"/>
                  </a:lnTo>
                  <a:lnTo>
                    <a:pt x="550" y="911"/>
                  </a:lnTo>
                  <a:lnTo>
                    <a:pt x="537" y="950"/>
                  </a:lnTo>
                  <a:lnTo>
                    <a:pt x="537" y="991"/>
                  </a:lnTo>
                  <a:lnTo>
                    <a:pt x="523" y="1031"/>
                  </a:lnTo>
                  <a:lnTo>
                    <a:pt x="509" y="1067"/>
                  </a:lnTo>
                  <a:lnTo>
                    <a:pt x="509" y="1109"/>
                  </a:lnTo>
                  <a:lnTo>
                    <a:pt x="509" y="1148"/>
                  </a:lnTo>
                  <a:lnTo>
                    <a:pt x="509" y="1202"/>
                  </a:lnTo>
                  <a:lnTo>
                    <a:pt x="523" y="125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48120" y="2503080"/>
              <a:ext cx="2100240" cy="78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80000" anchor="ctr" anchorCtr="1">
              <a:spAutoFit/>
            </a:bodyPr>
            <a:p>
              <a:pPr algn="ctr">
                <a:lnSpc>
                  <a:spcPts val="4737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Gr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235560" y="1038240"/>
            <a:ext cx="33973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Dynamic resource</a:t>
            </a:r>
            <a:r>
              <a:rPr b="0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7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da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working / non work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7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ource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3400560"/>
            <a:ext cx="3333600" cy="1757160"/>
          </a:xfrm>
          <a:custGeom>
            <a:avLst/>
            <a:gdLst/>
            <a:ahLst/>
            <a:rect l="l" t="t" r="r" b="b"/>
            <a:pathLst>
              <a:path w="9262" h="4883">
                <a:moveTo>
                  <a:pt x="0" y="4289"/>
                </a:moveTo>
                <a:cubicBezTo>
                  <a:pt x="0" y="4882"/>
                  <a:pt x="0" y="4882"/>
                  <a:pt x="1294" y="4882"/>
                </a:cubicBezTo>
                <a:lnTo>
                  <a:pt x="7966" y="4882"/>
                </a:lnTo>
                <a:cubicBezTo>
                  <a:pt x="9261" y="4882"/>
                  <a:pt x="9261" y="4882"/>
                  <a:pt x="9261" y="4289"/>
                </a:cubicBezTo>
                <a:lnTo>
                  <a:pt x="9261" y="1230"/>
                </a:lnTo>
                <a:cubicBezTo>
                  <a:pt x="9261" y="637"/>
                  <a:pt x="9261" y="637"/>
                  <a:pt x="7966" y="637"/>
                </a:cubicBezTo>
                <a:lnTo>
                  <a:pt x="3701" y="637"/>
                </a:lnTo>
                <a:lnTo>
                  <a:pt x="634" y="0"/>
                </a:lnTo>
                <a:lnTo>
                  <a:pt x="1465" y="637"/>
                </a:lnTo>
                <a:lnTo>
                  <a:pt x="1294" y="637"/>
                </a:lnTo>
                <a:cubicBezTo>
                  <a:pt x="0" y="637"/>
                  <a:pt x="0" y="637"/>
                  <a:pt x="0" y="1230"/>
                </a:cubicBezTo>
                <a:lnTo>
                  <a:pt x="0" y="42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2360" y="3780000"/>
            <a:ext cx="9576000" cy="3273120"/>
            <a:chOff x="252360" y="3780000"/>
            <a:chExt cx="9576000" cy="3273120"/>
          </a:xfrm>
        </p:grpSpPr>
        <p:sp>
          <p:nvSpPr>
            <p:cNvPr id="184" name=""/>
            <p:cNvSpPr/>
            <p:nvPr/>
          </p:nvSpPr>
          <p:spPr>
            <a:xfrm>
              <a:off x="4568760" y="3780000"/>
              <a:ext cx="932040" cy="1488960"/>
            </a:xfrm>
            <a:custGeom>
              <a:avLst/>
              <a:gdLst/>
              <a:ahLst/>
              <a:rect l="l" t="t" r="r" b="b"/>
              <a:pathLst>
                <a:path w="2590" h="4138">
                  <a:moveTo>
                    <a:pt x="688" y="0"/>
                  </a:moveTo>
                  <a:lnTo>
                    <a:pt x="688" y="2598"/>
                  </a:lnTo>
                  <a:lnTo>
                    <a:pt x="0" y="2598"/>
                  </a:lnTo>
                  <a:lnTo>
                    <a:pt x="1296" y="4137"/>
                  </a:lnTo>
                  <a:lnTo>
                    <a:pt x="2589" y="2598"/>
                  </a:lnTo>
                  <a:lnTo>
                    <a:pt x="1901" y="2598"/>
                  </a:lnTo>
                  <a:lnTo>
                    <a:pt x="1901" y="0"/>
                  </a:lnTo>
                  <a:lnTo>
                    <a:pt x="688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2360" y="5375160"/>
              <a:ext cx="9576000" cy="1677960"/>
              <a:chOff x="252360" y="5375160"/>
              <a:chExt cx="9576000" cy="1677960"/>
            </a:xfrm>
          </p:grpSpPr>
          <p:sp>
            <p:nvSpPr>
              <p:cNvPr id="186" name=""/>
              <p:cNvSpPr/>
              <p:nvPr/>
            </p:nvSpPr>
            <p:spPr>
              <a:xfrm>
                <a:off x="252360" y="5375160"/>
                <a:ext cx="9576000" cy="1670040"/>
              </a:xfrm>
              <a:prstGeom prst="roundRect">
                <a:avLst>
                  <a:gd name="adj" fmla="val 151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36600" y="5375160"/>
                <a:ext cx="9407520" cy="167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600" spc="-1" strike="noStrike">
                    <a:solidFill>
                      <a:srgbClr val="000000"/>
                    </a:solidFill>
                    <a:latin typeface="Arial"/>
                  </a:rPr>
                  <a:t>In order to obtain a reasonable degree of both application</a:t>
                </a:r>
                <a:r>
                  <a:rPr b="0" lang="en-GB" sz="2600" spc="-1" strike="noStrike">
                    <a:solidFill>
                      <a:srgbClr val="f07800"/>
                    </a:solidFill>
                    <a:latin typeface="Arial"/>
                  </a:rPr>
                  <a:t> </a:t>
                </a:r>
                <a:r>
                  <a:rPr b="1" lang="en-GB" sz="2600" spc="-1" strike="noStrike">
                    <a:solidFill>
                      <a:srgbClr val="f07800"/>
                    </a:solidFill>
                    <a:latin typeface="Arial"/>
                  </a:rPr>
                  <a:t>performance</a:t>
                </a:r>
                <a:r>
                  <a:rPr b="0" lang="en-GB" sz="2600" spc="-1" strike="noStrike">
                    <a:solidFill>
                      <a:srgbClr val="f07800"/>
                    </a:solidFill>
                    <a:latin typeface="Arial"/>
                  </a:rPr>
                  <a:t> </a:t>
                </a:r>
                <a:r>
                  <a:rPr b="0" lang="en-GB" sz="26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r>
                  <a:rPr b="0" lang="en-GB" sz="2600" spc="-1" strike="noStrike">
                    <a:solidFill>
                      <a:srgbClr val="f07800"/>
                    </a:solidFill>
                    <a:latin typeface="Arial"/>
                  </a:rPr>
                  <a:t> </a:t>
                </a:r>
                <a:r>
                  <a:rPr b="1" lang="en-GB" sz="2600" spc="-1" strike="noStrike">
                    <a:solidFill>
                      <a:srgbClr val="f07800"/>
                    </a:solidFill>
                    <a:latin typeface="Arial"/>
                  </a:rPr>
                  <a:t>fault tolerance</a:t>
                </a:r>
                <a:r>
                  <a:rPr b="0" lang="en-GB" sz="2600" spc="-1" strike="noStrike">
                    <a:solidFill>
                      <a:srgbClr val="000000"/>
                    </a:solidFill>
                    <a:latin typeface="Arial"/>
                  </a:rPr>
                  <a:t>, a job must be able to</a:t>
                </a:r>
                <a:r>
                  <a:rPr b="0" lang="en-GB" sz="2600" spc="-1" strike="noStrike">
                    <a:solidFill>
                      <a:srgbClr val="f07800"/>
                    </a:solidFill>
                    <a:latin typeface="Arial"/>
                  </a:rPr>
                  <a:t> </a:t>
                </a:r>
                <a:r>
                  <a:rPr b="1" lang="en-GB" sz="2600" spc="-1" strike="noStrike">
                    <a:solidFill>
                      <a:srgbClr val="f07800"/>
                    </a:solidFill>
                    <a:latin typeface="Arial"/>
                  </a:rPr>
                  <a:t>migrate</a:t>
                </a:r>
                <a:r>
                  <a:rPr b="0" lang="en-GB" sz="2600" spc="-1" strike="noStrike">
                    <a:solidFill>
                      <a:srgbClr val="000000"/>
                    </a:solidFill>
                    <a:latin typeface="Arial"/>
                  </a:rPr>
                  <a:t> among the Grid resources, </a:t>
                </a:r>
                <a:r>
                  <a:rPr b="1" lang="en-GB" sz="2600" spc="-1" strike="noStrike">
                    <a:solidFill>
                      <a:srgbClr val="f07800"/>
                    </a:solidFill>
                    <a:latin typeface="Arial"/>
                  </a:rPr>
                  <a:t>adapting</a:t>
                </a:r>
                <a:r>
                  <a:rPr b="0" lang="en-GB" sz="2600" spc="-1" strike="noStrike">
                    <a:solidFill>
                      <a:srgbClr val="f07800"/>
                    </a:solidFill>
                    <a:latin typeface="Arial"/>
                  </a:rPr>
                  <a:t> </a:t>
                </a:r>
                <a:r>
                  <a:rPr b="0" lang="en-GB" sz="2600" spc="-1" strike="noStrike">
                    <a:solidFill>
                      <a:srgbClr val="000000"/>
                    </a:solidFill>
                    <a:latin typeface="Arial"/>
                  </a:rPr>
                  <a:t>itself to their</a:t>
                </a:r>
                <a:r>
                  <a:rPr b="0" lang="en-GB" sz="2600" spc="-1" strike="noStrike">
                    <a:solidFill>
                      <a:srgbClr val="f07800"/>
                    </a:solidFill>
                    <a:latin typeface="Arial"/>
                  </a:rPr>
                  <a:t> </a:t>
                </a:r>
                <a:r>
                  <a:rPr b="1" lang="en-GB" sz="2600" spc="-1" strike="noStrike">
                    <a:solidFill>
                      <a:srgbClr val="f07800"/>
                    </a:solidFill>
                    <a:latin typeface="Arial"/>
                  </a:rPr>
                  <a:t>characteristics</a:t>
                </a:r>
                <a:r>
                  <a:rPr b="0" lang="en-GB" sz="26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en-GB" sz="2600" spc="-1" strike="noStrike">
                    <a:solidFill>
                      <a:srgbClr val="f07800"/>
                    </a:solidFill>
                    <a:latin typeface="Arial"/>
                  </a:rPr>
                  <a:t>availability</a:t>
                </a:r>
                <a:r>
                  <a:rPr b="0" lang="en-GB" sz="26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en-GB" sz="2600" spc="-1" strike="noStrike">
                    <a:solidFill>
                      <a:srgbClr val="f07800"/>
                    </a:solidFill>
                    <a:latin typeface="Arial"/>
                  </a:rPr>
                  <a:t>performance</a:t>
                </a:r>
                <a:r>
                  <a:rPr b="0" lang="en-GB" sz="2600" spc="-1" strike="noStrike">
                    <a:solidFill>
                      <a:srgbClr val="f07800"/>
                    </a:solidFill>
                    <a:latin typeface="Arial"/>
                  </a:rPr>
                  <a:t> </a:t>
                </a:r>
                <a:r>
                  <a:rPr b="0" lang="en-GB" sz="26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r>
                  <a:rPr b="0" lang="en-GB" sz="2600" spc="-1" strike="noStrike">
                    <a:solidFill>
                      <a:srgbClr val="f07800"/>
                    </a:solidFill>
                    <a:latin typeface="Arial"/>
                  </a:rPr>
                  <a:t> </a:t>
                </a:r>
                <a:r>
                  <a:rPr b="1" lang="en-GB" sz="2600" spc="-1" strike="noStrike">
                    <a:solidFill>
                      <a:srgbClr val="f07800"/>
                    </a:solidFill>
                    <a:latin typeface="Arial"/>
                  </a:rPr>
                  <a:t>cost</a:t>
                </a:r>
                <a:r>
                  <a:rPr b="0" lang="en-GB" sz="2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6238800" y="3695760"/>
            <a:ext cx="333540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Dynamic resource</a:t>
            </a:r>
            <a:r>
              <a:rPr b="0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9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Shared</a:t>
            </a: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9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Id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sources become 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saturat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and vice-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9120" y="3408480"/>
            <a:ext cx="32130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87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Dynamic resource avail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9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b 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cance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9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ources 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added</a:t>
            </a: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1800" spc="-1" strike="noStrike">
                <a:solidFill>
                  <a:srgbClr val="f078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rem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077480" cy="757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ynamic Grid Characterist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5640" y="3092400"/>
            <a:ext cx="3176640" cy="2082960"/>
          </a:xfrm>
          <a:custGeom>
            <a:avLst/>
            <a:gdLst/>
            <a:ahLst/>
            <a:rect l="l" t="t" r="r" b="b"/>
            <a:pathLst>
              <a:path w="8824" h="5786">
                <a:moveTo>
                  <a:pt x="8823" y="5082"/>
                </a:moveTo>
                <a:cubicBezTo>
                  <a:pt x="8823" y="5785"/>
                  <a:pt x="8823" y="5785"/>
                  <a:pt x="7591" y="5785"/>
                </a:cubicBezTo>
                <a:lnTo>
                  <a:pt x="1232" y="5785"/>
                </a:lnTo>
                <a:cubicBezTo>
                  <a:pt x="0" y="5785"/>
                  <a:pt x="0" y="5785"/>
                  <a:pt x="0" y="5082"/>
                </a:cubicBezTo>
                <a:lnTo>
                  <a:pt x="0" y="1457"/>
                </a:lnTo>
                <a:cubicBezTo>
                  <a:pt x="0" y="755"/>
                  <a:pt x="0" y="755"/>
                  <a:pt x="1232" y="755"/>
                </a:cubicBezTo>
                <a:lnTo>
                  <a:pt x="5297" y="755"/>
                </a:lnTo>
                <a:lnTo>
                  <a:pt x="8219" y="0"/>
                </a:lnTo>
                <a:lnTo>
                  <a:pt x="7428" y="755"/>
                </a:lnTo>
                <a:lnTo>
                  <a:pt x="7591" y="755"/>
                </a:lnTo>
                <a:cubicBezTo>
                  <a:pt x="8823" y="755"/>
                  <a:pt x="8823" y="755"/>
                  <a:pt x="8823" y="1457"/>
                </a:cubicBezTo>
                <a:lnTo>
                  <a:pt x="8823" y="50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87440" y="4017960"/>
            <a:ext cx="7621560" cy="2778120"/>
          </a:xfrm>
          <a:prstGeom prst="roundRect">
            <a:avLst>
              <a:gd name="adj" fmla="val 75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6120" y="843120"/>
            <a:ext cx="9528120" cy="2698560"/>
          </a:xfrm>
          <a:prstGeom prst="roundRect">
            <a:avLst>
              <a:gd name="adj" fmla="val 12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46200" y="3859200"/>
            <a:ext cx="73422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ts val="3387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66cc"/>
                </a:solidFill>
                <a:uFillTx/>
                <a:latin typeface="Arial"/>
              </a:rPr>
              <a:t>Design guidelines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82000"/>
              </a:lnSpc>
              <a:buClr>
                <a:srgbClr val="000000"/>
              </a:buClr>
              <a:buSzPct val="83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ily </a:t>
            </a: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adapta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modular desi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82000"/>
              </a:lnSpc>
              <a:buClr>
                <a:srgbClr val="000000"/>
              </a:buClr>
              <a:buSzPct val="83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ily </a:t>
            </a: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scala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decentralized architect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82000"/>
              </a:lnSpc>
              <a:buClr>
                <a:srgbClr val="000000"/>
              </a:buClr>
              <a:buSzPct val="83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ily </a:t>
            </a: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deployabl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user, standard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82000"/>
              </a:lnSpc>
              <a:buClr>
                <a:srgbClr val="000000"/>
              </a:buClr>
              <a:buSzPct val="83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ily </a:t>
            </a: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applica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wide range of applic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6600" y="922320"/>
            <a:ext cx="940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an </a:t>
            </a: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easi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more </a:t>
            </a:r>
            <a:r>
              <a:rPr b="1" lang="en-GB" sz="2000" spc="-1" strike="noStrike">
                <a:solidFill>
                  <a:srgbClr val="f07800"/>
                </a:solidFill>
                <a:latin typeface="Arial"/>
              </a:rPr>
              <a:t>efficien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cut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GB" sz="2000" spc="-1" strike="noStrike">
                <a:solidFill>
                  <a:srgbClr val="f07800"/>
                </a:solidFill>
                <a:latin typeface="Arial"/>
              </a:rPr>
              <a:t>submit </a:t>
            </a:r>
            <a:r>
              <a:rPr b="0" i="1" lang="en-GB" sz="2000" spc="-1" strike="noStrike">
                <a:solidFill>
                  <a:srgbClr val="f07800"/>
                </a:solidFill>
                <a:latin typeface="Arial"/>
              </a:rPr>
              <a:t>&amp; </a:t>
            </a:r>
            <a:r>
              <a:rPr b="1" i="1" lang="en-GB" sz="2000" spc="-1" strike="noStrike">
                <a:solidFill>
                  <a:srgbClr val="f07800"/>
                </a:solidFill>
                <a:latin typeface="Arial"/>
              </a:rPr>
              <a:t>forg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heterogeneous and dynamic Gri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899400" y="1862280"/>
            <a:ext cx="2539800" cy="1357200"/>
            <a:chOff x="6899400" y="1862280"/>
            <a:chExt cx="2539800" cy="1357200"/>
          </a:xfrm>
        </p:grpSpPr>
        <p:sp>
          <p:nvSpPr>
            <p:cNvPr id="197" name=""/>
            <p:cNvSpPr/>
            <p:nvPr/>
          </p:nvSpPr>
          <p:spPr>
            <a:xfrm>
              <a:off x="6899400" y="1862280"/>
              <a:ext cx="2539800" cy="1357200"/>
            </a:xfrm>
            <a:custGeom>
              <a:avLst/>
              <a:gdLst/>
              <a:ahLst/>
              <a:rect l="l" t="t" r="r" b="b"/>
              <a:pathLst>
                <a:path w="7054" h="3772">
                  <a:moveTo>
                    <a:pt x="633" y="1258"/>
                  </a:moveTo>
                  <a:lnTo>
                    <a:pt x="559" y="1264"/>
                  </a:lnTo>
                  <a:lnTo>
                    <a:pt x="498" y="1282"/>
                  </a:lnTo>
                  <a:lnTo>
                    <a:pt x="442" y="1289"/>
                  </a:lnTo>
                  <a:lnTo>
                    <a:pt x="385" y="1312"/>
                  </a:lnTo>
                  <a:lnTo>
                    <a:pt x="324" y="1336"/>
                  </a:lnTo>
                  <a:lnTo>
                    <a:pt x="268" y="1366"/>
                  </a:lnTo>
                  <a:lnTo>
                    <a:pt x="223" y="1392"/>
                  </a:lnTo>
                  <a:lnTo>
                    <a:pt x="179" y="1422"/>
                  </a:lnTo>
                  <a:lnTo>
                    <a:pt x="134" y="1462"/>
                  </a:lnTo>
                  <a:lnTo>
                    <a:pt x="106" y="1500"/>
                  </a:lnTo>
                  <a:lnTo>
                    <a:pt x="73" y="1540"/>
                  </a:lnTo>
                  <a:lnTo>
                    <a:pt x="49" y="1587"/>
                  </a:lnTo>
                  <a:lnTo>
                    <a:pt x="17" y="1626"/>
                  </a:lnTo>
                  <a:lnTo>
                    <a:pt x="0" y="1681"/>
                  </a:lnTo>
                  <a:lnTo>
                    <a:pt x="0" y="1729"/>
                  </a:lnTo>
                  <a:lnTo>
                    <a:pt x="0" y="1776"/>
                  </a:lnTo>
                  <a:lnTo>
                    <a:pt x="0" y="1807"/>
                  </a:lnTo>
                  <a:lnTo>
                    <a:pt x="0" y="1848"/>
                  </a:lnTo>
                  <a:lnTo>
                    <a:pt x="0" y="1878"/>
                  </a:lnTo>
                  <a:lnTo>
                    <a:pt x="17" y="1908"/>
                  </a:lnTo>
                  <a:lnTo>
                    <a:pt x="32" y="1941"/>
                  </a:lnTo>
                  <a:lnTo>
                    <a:pt x="49" y="1971"/>
                  </a:lnTo>
                  <a:lnTo>
                    <a:pt x="61" y="2004"/>
                  </a:lnTo>
                  <a:lnTo>
                    <a:pt x="89" y="2034"/>
                  </a:lnTo>
                  <a:lnTo>
                    <a:pt x="121" y="2058"/>
                  </a:lnTo>
                  <a:lnTo>
                    <a:pt x="134" y="2088"/>
                  </a:lnTo>
                  <a:lnTo>
                    <a:pt x="167" y="2114"/>
                  </a:lnTo>
                  <a:lnTo>
                    <a:pt x="191" y="2136"/>
                  </a:lnTo>
                  <a:lnTo>
                    <a:pt x="239" y="2160"/>
                  </a:lnTo>
                  <a:lnTo>
                    <a:pt x="268" y="2184"/>
                  </a:lnTo>
                  <a:lnTo>
                    <a:pt x="308" y="2208"/>
                  </a:lnTo>
                  <a:lnTo>
                    <a:pt x="341" y="2222"/>
                  </a:lnTo>
                  <a:lnTo>
                    <a:pt x="341" y="2217"/>
                  </a:lnTo>
                  <a:lnTo>
                    <a:pt x="296" y="2255"/>
                  </a:lnTo>
                  <a:lnTo>
                    <a:pt x="268" y="2294"/>
                  </a:lnTo>
                  <a:lnTo>
                    <a:pt x="223" y="2334"/>
                  </a:lnTo>
                  <a:lnTo>
                    <a:pt x="207" y="2381"/>
                  </a:lnTo>
                  <a:lnTo>
                    <a:pt x="179" y="2426"/>
                  </a:lnTo>
                  <a:lnTo>
                    <a:pt x="167" y="2475"/>
                  </a:lnTo>
                  <a:lnTo>
                    <a:pt x="150" y="2522"/>
                  </a:lnTo>
                  <a:lnTo>
                    <a:pt x="150" y="2570"/>
                  </a:lnTo>
                  <a:lnTo>
                    <a:pt x="150" y="2592"/>
                  </a:lnTo>
                  <a:lnTo>
                    <a:pt x="150" y="2624"/>
                  </a:lnTo>
                  <a:lnTo>
                    <a:pt x="167" y="2648"/>
                  </a:lnTo>
                  <a:lnTo>
                    <a:pt x="167" y="2672"/>
                  </a:lnTo>
                  <a:lnTo>
                    <a:pt x="179" y="2695"/>
                  </a:lnTo>
                  <a:lnTo>
                    <a:pt x="179" y="2726"/>
                  </a:lnTo>
                  <a:lnTo>
                    <a:pt x="207" y="2774"/>
                  </a:lnTo>
                  <a:lnTo>
                    <a:pt x="239" y="2812"/>
                  </a:lnTo>
                  <a:lnTo>
                    <a:pt x="268" y="2861"/>
                  </a:lnTo>
                  <a:lnTo>
                    <a:pt x="308" y="2899"/>
                  </a:lnTo>
                  <a:lnTo>
                    <a:pt x="357" y="2939"/>
                  </a:lnTo>
                  <a:lnTo>
                    <a:pt x="414" y="2971"/>
                  </a:lnTo>
                  <a:lnTo>
                    <a:pt x="459" y="3002"/>
                  </a:lnTo>
                  <a:lnTo>
                    <a:pt x="515" y="3025"/>
                  </a:lnTo>
                  <a:lnTo>
                    <a:pt x="592" y="3047"/>
                  </a:lnTo>
                  <a:lnTo>
                    <a:pt x="648" y="3065"/>
                  </a:lnTo>
                  <a:lnTo>
                    <a:pt x="722" y="3073"/>
                  </a:lnTo>
                  <a:lnTo>
                    <a:pt x="750" y="3079"/>
                  </a:lnTo>
                  <a:lnTo>
                    <a:pt x="795" y="3088"/>
                  </a:lnTo>
                  <a:lnTo>
                    <a:pt x="822" y="3088"/>
                  </a:lnTo>
                  <a:lnTo>
                    <a:pt x="856" y="3088"/>
                  </a:lnTo>
                  <a:lnTo>
                    <a:pt x="900" y="3088"/>
                  </a:lnTo>
                  <a:lnTo>
                    <a:pt x="940" y="3079"/>
                  </a:lnTo>
                  <a:lnTo>
                    <a:pt x="940" y="3088"/>
                  </a:lnTo>
                  <a:lnTo>
                    <a:pt x="986" y="3143"/>
                  </a:lnTo>
                  <a:lnTo>
                    <a:pt x="1030" y="3190"/>
                  </a:lnTo>
                  <a:lnTo>
                    <a:pt x="1090" y="3238"/>
                  </a:lnTo>
                  <a:lnTo>
                    <a:pt x="1148" y="3275"/>
                  </a:lnTo>
                  <a:lnTo>
                    <a:pt x="1208" y="3323"/>
                  </a:lnTo>
                  <a:lnTo>
                    <a:pt x="1265" y="3363"/>
                  </a:lnTo>
                  <a:lnTo>
                    <a:pt x="1342" y="3394"/>
                  </a:lnTo>
                  <a:lnTo>
                    <a:pt x="1399" y="3426"/>
                  </a:lnTo>
                  <a:lnTo>
                    <a:pt x="1472" y="3457"/>
                  </a:lnTo>
                  <a:lnTo>
                    <a:pt x="1545" y="3480"/>
                  </a:lnTo>
                  <a:lnTo>
                    <a:pt x="1634" y="3496"/>
                  </a:lnTo>
                  <a:lnTo>
                    <a:pt x="1707" y="3520"/>
                  </a:lnTo>
                  <a:lnTo>
                    <a:pt x="1779" y="3529"/>
                  </a:lnTo>
                  <a:lnTo>
                    <a:pt x="1869" y="3543"/>
                  </a:lnTo>
                  <a:lnTo>
                    <a:pt x="1958" y="3543"/>
                  </a:lnTo>
                  <a:lnTo>
                    <a:pt x="2027" y="3550"/>
                  </a:lnTo>
                  <a:lnTo>
                    <a:pt x="2116" y="3543"/>
                  </a:lnTo>
                  <a:lnTo>
                    <a:pt x="2205" y="3543"/>
                  </a:lnTo>
                  <a:lnTo>
                    <a:pt x="2294" y="3529"/>
                  </a:lnTo>
                  <a:lnTo>
                    <a:pt x="2367" y="3520"/>
                  </a:lnTo>
                  <a:lnTo>
                    <a:pt x="2456" y="3496"/>
                  </a:lnTo>
                  <a:lnTo>
                    <a:pt x="2526" y="3472"/>
                  </a:lnTo>
                  <a:lnTo>
                    <a:pt x="2603" y="3448"/>
                  </a:lnTo>
                  <a:lnTo>
                    <a:pt x="2692" y="3417"/>
                  </a:lnTo>
                  <a:lnTo>
                    <a:pt x="2676" y="3417"/>
                  </a:lnTo>
                  <a:lnTo>
                    <a:pt x="2716" y="3457"/>
                  </a:lnTo>
                  <a:lnTo>
                    <a:pt x="2765" y="3496"/>
                  </a:lnTo>
                  <a:lnTo>
                    <a:pt x="2809" y="3535"/>
                  </a:lnTo>
                  <a:lnTo>
                    <a:pt x="2866" y="3567"/>
                  </a:lnTo>
                  <a:lnTo>
                    <a:pt x="2910" y="3600"/>
                  </a:lnTo>
                  <a:lnTo>
                    <a:pt x="2968" y="3630"/>
                  </a:lnTo>
                  <a:lnTo>
                    <a:pt x="3012" y="3654"/>
                  </a:lnTo>
                  <a:lnTo>
                    <a:pt x="3072" y="3675"/>
                  </a:lnTo>
                  <a:lnTo>
                    <a:pt x="3142" y="3700"/>
                  </a:lnTo>
                  <a:lnTo>
                    <a:pt x="3202" y="3724"/>
                  </a:lnTo>
                  <a:lnTo>
                    <a:pt x="3263" y="3738"/>
                  </a:lnTo>
                  <a:lnTo>
                    <a:pt x="3336" y="3747"/>
                  </a:lnTo>
                  <a:lnTo>
                    <a:pt x="3393" y="3765"/>
                  </a:lnTo>
                  <a:lnTo>
                    <a:pt x="3454" y="3771"/>
                  </a:lnTo>
                  <a:lnTo>
                    <a:pt x="3527" y="3771"/>
                  </a:lnTo>
                  <a:lnTo>
                    <a:pt x="3599" y="3771"/>
                  </a:lnTo>
                  <a:lnTo>
                    <a:pt x="3645" y="3771"/>
                  </a:lnTo>
                  <a:lnTo>
                    <a:pt x="3689" y="3771"/>
                  </a:lnTo>
                  <a:lnTo>
                    <a:pt x="3734" y="3771"/>
                  </a:lnTo>
                  <a:lnTo>
                    <a:pt x="3774" y="3765"/>
                  </a:lnTo>
                  <a:lnTo>
                    <a:pt x="3819" y="3756"/>
                  </a:lnTo>
                  <a:lnTo>
                    <a:pt x="3867" y="3756"/>
                  </a:lnTo>
                  <a:lnTo>
                    <a:pt x="3952" y="3733"/>
                  </a:lnTo>
                  <a:lnTo>
                    <a:pt x="4025" y="3708"/>
                  </a:lnTo>
                  <a:lnTo>
                    <a:pt x="4114" y="3684"/>
                  </a:lnTo>
                  <a:lnTo>
                    <a:pt x="4187" y="3654"/>
                  </a:lnTo>
                  <a:lnTo>
                    <a:pt x="4261" y="3612"/>
                  </a:lnTo>
                  <a:lnTo>
                    <a:pt x="4317" y="3574"/>
                  </a:lnTo>
                  <a:lnTo>
                    <a:pt x="4378" y="3535"/>
                  </a:lnTo>
                  <a:lnTo>
                    <a:pt x="4435" y="3489"/>
                  </a:lnTo>
                  <a:lnTo>
                    <a:pt x="4496" y="3433"/>
                  </a:lnTo>
                  <a:lnTo>
                    <a:pt x="4540" y="3377"/>
                  </a:lnTo>
                  <a:lnTo>
                    <a:pt x="4585" y="3323"/>
                  </a:lnTo>
                  <a:lnTo>
                    <a:pt x="4625" y="3269"/>
                  </a:lnTo>
                  <a:lnTo>
                    <a:pt x="4641" y="3238"/>
                  </a:lnTo>
                  <a:lnTo>
                    <a:pt x="4658" y="3206"/>
                  </a:lnTo>
                  <a:lnTo>
                    <a:pt x="4658" y="3206"/>
                  </a:lnTo>
                  <a:lnTo>
                    <a:pt x="4718" y="3229"/>
                  </a:lnTo>
                  <a:lnTo>
                    <a:pt x="4776" y="3253"/>
                  </a:lnTo>
                  <a:lnTo>
                    <a:pt x="4832" y="3269"/>
                  </a:lnTo>
                  <a:lnTo>
                    <a:pt x="4892" y="3283"/>
                  </a:lnTo>
                  <a:lnTo>
                    <a:pt x="4950" y="3300"/>
                  </a:lnTo>
                  <a:lnTo>
                    <a:pt x="5026" y="3307"/>
                  </a:lnTo>
                  <a:lnTo>
                    <a:pt x="5083" y="3316"/>
                  </a:lnTo>
                  <a:lnTo>
                    <a:pt x="5156" y="3316"/>
                  </a:lnTo>
                  <a:lnTo>
                    <a:pt x="5201" y="3316"/>
                  </a:lnTo>
                  <a:lnTo>
                    <a:pt x="5245" y="3307"/>
                  </a:lnTo>
                  <a:lnTo>
                    <a:pt x="5290" y="3307"/>
                  </a:lnTo>
                  <a:lnTo>
                    <a:pt x="5351" y="3300"/>
                  </a:lnTo>
                  <a:lnTo>
                    <a:pt x="5391" y="3292"/>
                  </a:lnTo>
                  <a:lnTo>
                    <a:pt x="5436" y="3283"/>
                  </a:lnTo>
                  <a:lnTo>
                    <a:pt x="5480" y="3269"/>
                  </a:lnTo>
                  <a:lnTo>
                    <a:pt x="5525" y="3262"/>
                  </a:lnTo>
                  <a:lnTo>
                    <a:pt x="5554" y="3244"/>
                  </a:lnTo>
                  <a:lnTo>
                    <a:pt x="5598" y="3229"/>
                  </a:lnTo>
                  <a:lnTo>
                    <a:pt x="5642" y="3211"/>
                  </a:lnTo>
                  <a:lnTo>
                    <a:pt x="5683" y="3199"/>
                  </a:lnTo>
                  <a:lnTo>
                    <a:pt x="5716" y="3181"/>
                  </a:lnTo>
                  <a:lnTo>
                    <a:pt x="5743" y="3157"/>
                  </a:lnTo>
                  <a:lnTo>
                    <a:pt x="5817" y="3110"/>
                  </a:lnTo>
                  <a:lnTo>
                    <a:pt x="5878" y="3065"/>
                  </a:lnTo>
                  <a:lnTo>
                    <a:pt x="5905" y="3040"/>
                  </a:lnTo>
                  <a:lnTo>
                    <a:pt x="5934" y="3016"/>
                  </a:lnTo>
                  <a:lnTo>
                    <a:pt x="5967" y="2984"/>
                  </a:lnTo>
                  <a:lnTo>
                    <a:pt x="5979" y="2953"/>
                  </a:lnTo>
                  <a:lnTo>
                    <a:pt x="6007" y="2930"/>
                  </a:lnTo>
                  <a:lnTo>
                    <a:pt x="6023" y="2899"/>
                  </a:lnTo>
                  <a:lnTo>
                    <a:pt x="6036" y="2867"/>
                  </a:lnTo>
                  <a:lnTo>
                    <a:pt x="6052" y="2836"/>
                  </a:lnTo>
                  <a:lnTo>
                    <a:pt x="6068" y="2807"/>
                  </a:lnTo>
                  <a:lnTo>
                    <a:pt x="6084" y="2765"/>
                  </a:lnTo>
                  <a:lnTo>
                    <a:pt x="6084" y="2735"/>
                  </a:lnTo>
                  <a:lnTo>
                    <a:pt x="6096" y="2702"/>
                  </a:lnTo>
                  <a:lnTo>
                    <a:pt x="6096" y="2672"/>
                  </a:lnTo>
                  <a:lnTo>
                    <a:pt x="6096" y="2632"/>
                  </a:lnTo>
                  <a:lnTo>
                    <a:pt x="6096" y="2632"/>
                  </a:lnTo>
                  <a:lnTo>
                    <a:pt x="6141" y="2624"/>
                  </a:lnTo>
                  <a:lnTo>
                    <a:pt x="6202" y="2615"/>
                  </a:lnTo>
                  <a:lnTo>
                    <a:pt x="6243" y="2609"/>
                  </a:lnTo>
                  <a:lnTo>
                    <a:pt x="6287" y="2592"/>
                  </a:lnTo>
                  <a:lnTo>
                    <a:pt x="6344" y="2585"/>
                  </a:lnTo>
                  <a:lnTo>
                    <a:pt x="6393" y="2570"/>
                  </a:lnTo>
                  <a:lnTo>
                    <a:pt x="6432" y="2552"/>
                  </a:lnTo>
                  <a:lnTo>
                    <a:pt x="6478" y="2538"/>
                  </a:lnTo>
                  <a:lnTo>
                    <a:pt x="6522" y="2522"/>
                  </a:lnTo>
                  <a:lnTo>
                    <a:pt x="6550" y="2498"/>
                  </a:lnTo>
                  <a:lnTo>
                    <a:pt x="6594" y="2483"/>
                  </a:lnTo>
                  <a:lnTo>
                    <a:pt x="6640" y="2459"/>
                  </a:lnTo>
                  <a:lnTo>
                    <a:pt x="6712" y="2414"/>
                  </a:lnTo>
                  <a:lnTo>
                    <a:pt x="6773" y="2357"/>
                  </a:lnTo>
                  <a:lnTo>
                    <a:pt x="6802" y="2334"/>
                  </a:lnTo>
                  <a:lnTo>
                    <a:pt x="6830" y="2301"/>
                  </a:lnTo>
                  <a:lnTo>
                    <a:pt x="6859" y="2280"/>
                  </a:lnTo>
                  <a:lnTo>
                    <a:pt x="6891" y="2247"/>
                  </a:lnTo>
                  <a:lnTo>
                    <a:pt x="6920" y="2217"/>
                  </a:lnTo>
                  <a:lnTo>
                    <a:pt x="6935" y="2184"/>
                  </a:lnTo>
                  <a:lnTo>
                    <a:pt x="6947" y="2153"/>
                  </a:lnTo>
                  <a:lnTo>
                    <a:pt x="6976" y="2121"/>
                  </a:lnTo>
                  <a:lnTo>
                    <a:pt x="6992" y="2082"/>
                  </a:lnTo>
                  <a:lnTo>
                    <a:pt x="7009" y="2051"/>
                  </a:lnTo>
                  <a:lnTo>
                    <a:pt x="7021" y="2018"/>
                  </a:lnTo>
                  <a:lnTo>
                    <a:pt x="7021" y="1980"/>
                  </a:lnTo>
                  <a:lnTo>
                    <a:pt x="7037" y="1941"/>
                  </a:lnTo>
                  <a:lnTo>
                    <a:pt x="7037" y="1908"/>
                  </a:lnTo>
                  <a:lnTo>
                    <a:pt x="7037" y="1870"/>
                  </a:lnTo>
                  <a:lnTo>
                    <a:pt x="7053" y="1830"/>
                  </a:lnTo>
                  <a:lnTo>
                    <a:pt x="7037" y="1798"/>
                  </a:lnTo>
                  <a:lnTo>
                    <a:pt x="7037" y="1767"/>
                  </a:lnTo>
                  <a:lnTo>
                    <a:pt x="7037" y="1735"/>
                  </a:lnTo>
                  <a:lnTo>
                    <a:pt x="7021" y="1704"/>
                  </a:lnTo>
                  <a:lnTo>
                    <a:pt x="7021" y="1666"/>
                  </a:lnTo>
                  <a:lnTo>
                    <a:pt x="7009" y="1633"/>
                  </a:lnTo>
                  <a:lnTo>
                    <a:pt x="6992" y="1603"/>
                  </a:lnTo>
                  <a:lnTo>
                    <a:pt x="6992" y="1570"/>
                  </a:lnTo>
                  <a:lnTo>
                    <a:pt x="6976" y="1540"/>
                  </a:lnTo>
                  <a:lnTo>
                    <a:pt x="6947" y="1509"/>
                  </a:lnTo>
                  <a:lnTo>
                    <a:pt x="6935" y="1486"/>
                  </a:lnTo>
                  <a:lnTo>
                    <a:pt x="6920" y="1453"/>
                  </a:lnTo>
                  <a:lnTo>
                    <a:pt x="6891" y="1422"/>
                  </a:lnTo>
                  <a:lnTo>
                    <a:pt x="6859" y="1399"/>
                  </a:lnTo>
                  <a:lnTo>
                    <a:pt x="6818" y="1343"/>
                  </a:lnTo>
                  <a:lnTo>
                    <a:pt x="6818" y="1343"/>
                  </a:lnTo>
                  <a:lnTo>
                    <a:pt x="6830" y="1312"/>
                  </a:lnTo>
                  <a:lnTo>
                    <a:pt x="6842" y="1282"/>
                  </a:lnTo>
                  <a:lnTo>
                    <a:pt x="6859" y="1249"/>
                  </a:lnTo>
                  <a:lnTo>
                    <a:pt x="6859" y="1219"/>
                  </a:lnTo>
                  <a:lnTo>
                    <a:pt x="6874" y="1186"/>
                  </a:lnTo>
                  <a:lnTo>
                    <a:pt x="6874" y="1156"/>
                  </a:lnTo>
                  <a:lnTo>
                    <a:pt x="6874" y="1123"/>
                  </a:lnTo>
                  <a:lnTo>
                    <a:pt x="6891" y="1092"/>
                  </a:lnTo>
                  <a:lnTo>
                    <a:pt x="6874" y="1036"/>
                  </a:lnTo>
                  <a:lnTo>
                    <a:pt x="6874" y="991"/>
                  </a:lnTo>
                  <a:lnTo>
                    <a:pt x="6859" y="935"/>
                  </a:lnTo>
                  <a:lnTo>
                    <a:pt x="6830" y="887"/>
                  </a:lnTo>
                  <a:lnTo>
                    <a:pt x="6818" y="839"/>
                  </a:lnTo>
                  <a:lnTo>
                    <a:pt x="6785" y="794"/>
                  </a:lnTo>
                  <a:lnTo>
                    <a:pt x="6741" y="746"/>
                  </a:lnTo>
                  <a:lnTo>
                    <a:pt x="6700" y="707"/>
                  </a:lnTo>
                  <a:lnTo>
                    <a:pt x="6652" y="668"/>
                  </a:lnTo>
                  <a:lnTo>
                    <a:pt x="6611" y="628"/>
                  </a:lnTo>
                  <a:lnTo>
                    <a:pt x="6567" y="599"/>
                  </a:lnTo>
                  <a:lnTo>
                    <a:pt x="6510" y="566"/>
                  </a:lnTo>
                  <a:lnTo>
                    <a:pt x="6449" y="542"/>
                  </a:lnTo>
                  <a:lnTo>
                    <a:pt x="6376" y="518"/>
                  </a:lnTo>
                  <a:lnTo>
                    <a:pt x="6316" y="495"/>
                  </a:lnTo>
                  <a:lnTo>
                    <a:pt x="6243" y="480"/>
                  </a:lnTo>
                  <a:lnTo>
                    <a:pt x="6243" y="480"/>
                  </a:lnTo>
                  <a:lnTo>
                    <a:pt x="6226" y="426"/>
                  </a:lnTo>
                  <a:lnTo>
                    <a:pt x="6214" y="377"/>
                  </a:lnTo>
                  <a:lnTo>
                    <a:pt x="6185" y="330"/>
                  </a:lnTo>
                  <a:lnTo>
                    <a:pt x="6154" y="291"/>
                  </a:lnTo>
                  <a:lnTo>
                    <a:pt x="6108" y="243"/>
                  </a:lnTo>
                  <a:lnTo>
                    <a:pt x="6068" y="206"/>
                  </a:lnTo>
                  <a:lnTo>
                    <a:pt x="6023" y="173"/>
                  </a:lnTo>
                  <a:lnTo>
                    <a:pt x="5979" y="141"/>
                  </a:lnTo>
                  <a:lnTo>
                    <a:pt x="5918" y="110"/>
                  </a:lnTo>
                  <a:lnTo>
                    <a:pt x="5861" y="78"/>
                  </a:lnTo>
                  <a:lnTo>
                    <a:pt x="5801" y="54"/>
                  </a:lnTo>
                  <a:lnTo>
                    <a:pt x="5743" y="39"/>
                  </a:lnTo>
                  <a:lnTo>
                    <a:pt x="5671" y="24"/>
                  </a:lnTo>
                  <a:lnTo>
                    <a:pt x="5610" y="15"/>
                  </a:lnTo>
                  <a:lnTo>
                    <a:pt x="5537" y="9"/>
                  </a:lnTo>
                  <a:lnTo>
                    <a:pt x="5468" y="0"/>
                  </a:lnTo>
                  <a:lnTo>
                    <a:pt x="5419" y="9"/>
                  </a:lnTo>
                  <a:lnTo>
                    <a:pt x="5375" y="9"/>
                  </a:lnTo>
                  <a:lnTo>
                    <a:pt x="5334" y="9"/>
                  </a:lnTo>
                  <a:lnTo>
                    <a:pt x="5290" y="15"/>
                  </a:lnTo>
                  <a:lnTo>
                    <a:pt x="5245" y="24"/>
                  </a:lnTo>
                  <a:lnTo>
                    <a:pt x="5217" y="33"/>
                  </a:lnTo>
                  <a:lnTo>
                    <a:pt x="5172" y="47"/>
                  </a:lnTo>
                  <a:lnTo>
                    <a:pt x="5127" y="54"/>
                  </a:lnTo>
                  <a:lnTo>
                    <a:pt x="5100" y="72"/>
                  </a:lnTo>
                  <a:lnTo>
                    <a:pt x="5051" y="87"/>
                  </a:lnTo>
                  <a:lnTo>
                    <a:pt x="5026" y="101"/>
                  </a:lnTo>
                  <a:lnTo>
                    <a:pt x="4982" y="117"/>
                  </a:lnTo>
                  <a:lnTo>
                    <a:pt x="4950" y="141"/>
                  </a:lnTo>
                  <a:lnTo>
                    <a:pt x="4921" y="165"/>
                  </a:lnTo>
                  <a:lnTo>
                    <a:pt x="4892" y="180"/>
                  </a:lnTo>
                  <a:lnTo>
                    <a:pt x="4864" y="206"/>
                  </a:lnTo>
                  <a:lnTo>
                    <a:pt x="4864" y="206"/>
                  </a:lnTo>
                  <a:lnTo>
                    <a:pt x="4832" y="180"/>
                  </a:lnTo>
                  <a:lnTo>
                    <a:pt x="4803" y="165"/>
                  </a:lnTo>
                  <a:lnTo>
                    <a:pt x="4776" y="141"/>
                  </a:lnTo>
                  <a:lnTo>
                    <a:pt x="4742" y="117"/>
                  </a:lnTo>
                  <a:lnTo>
                    <a:pt x="4718" y="101"/>
                  </a:lnTo>
                  <a:lnTo>
                    <a:pt x="4686" y="87"/>
                  </a:lnTo>
                  <a:lnTo>
                    <a:pt x="4641" y="72"/>
                  </a:lnTo>
                  <a:lnTo>
                    <a:pt x="4612" y="54"/>
                  </a:lnTo>
                  <a:lnTo>
                    <a:pt x="4568" y="47"/>
                  </a:lnTo>
                  <a:lnTo>
                    <a:pt x="4540" y="33"/>
                  </a:lnTo>
                  <a:lnTo>
                    <a:pt x="4496" y="24"/>
                  </a:lnTo>
                  <a:lnTo>
                    <a:pt x="4450" y="15"/>
                  </a:lnTo>
                  <a:lnTo>
                    <a:pt x="4423" y="9"/>
                  </a:lnTo>
                  <a:lnTo>
                    <a:pt x="4378" y="9"/>
                  </a:lnTo>
                  <a:lnTo>
                    <a:pt x="4334" y="9"/>
                  </a:lnTo>
                  <a:lnTo>
                    <a:pt x="4293" y="0"/>
                  </a:lnTo>
                  <a:lnTo>
                    <a:pt x="4244" y="9"/>
                  </a:lnTo>
                  <a:lnTo>
                    <a:pt x="4187" y="9"/>
                  </a:lnTo>
                  <a:lnTo>
                    <a:pt x="4143" y="15"/>
                  </a:lnTo>
                  <a:lnTo>
                    <a:pt x="4098" y="24"/>
                  </a:lnTo>
                  <a:lnTo>
                    <a:pt x="4058" y="39"/>
                  </a:lnTo>
                  <a:lnTo>
                    <a:pt x="4009" y="47"/>
                  </a:lnTo>
                  <a:lnTo>
                    <a:pt x="3969" y="63"/>
                  </a:lnTo>
                  <a:lnTo>
                    <a:pt x="3923" y="78"/>
                  </a:lnTo>
                  <a:lnTo>
                    <a:pt x="3879" y="101"/>
                  </a:lnTo>
                  <a:lnTo>
                    <a:pt x="3834" y="126"/>
                  </a:lnTo>
                  <a:lnTo>
                    <a:pt x="3807" y="150"/>
                  </a:lnTo>
                  <a:lnTo>
                    <a:pt x="3774" y="173"/>
                  </a:lnTo>
                  <a:lnTo>
                    <a:pt x="3734" y="197"/>
                  </a:lnTo>
                  <a:lnTo>
                    <a:pt x="3701" y="228"/>
                  </a:lnTo>
                  <a:lnTo>
                    <a:pt x="3672" y="260"/>
                  </a:lnTo>
                  <a:lnTo>
                    <a:pt x="3660" y="291"/>
                  </a:lnTo>
                  <a:lnTo>
                    <a:pt x="3660" y="299"/>
                  </a:lnTo>
                  <a:lnTo>
                    <a:pt x="3599" y="260"/>
                  </a:lnTo>
                  <a:lnTo>
                    <a:pt x="3571" y="243"/>
                  </a:lnTo>
                  <a:lnTo>
                    <a:pt x="3527" y="219"/>
                  </a:lnTo>
                  <a:lnTo>
                    <a:pt x="3498" y="206"/>
                  </a:lnTo>
                  <a:lnTo>
                    <a:pt x="3454" y="189"/>
                  </a:lnTo>
                  <a:lnTo>
                    <a:pt x="3425" y="180"/>
                  </a:lnTo>
                  <a:lnTo>
                    <a:pt x="3381" y="165"/>
                  </a:lnTo>
                  <a:lnTo>
                    <a:pt x="3336" y="157"/>
                  </a:lnTo>
                  <a:lnTo>
                    <a:pt x="3307" y="141"/>
                  </a:lnTo>
                  <a:lnTo>
                    <a:pt x="3263" y="134"/>
                  </a:lnTo>
                  <a:lnTo>
                    <a:pt x="3219" y="126"/>
                  </a:lnTo>
                  <a:lnTo>
                    <a:pt x="3174" y="126"/>
                  </a:lnTo>
                  <a:lnTo>
                    <a:pt x="3133" y="117"/>
                  </a:lnTo>
                  <a:lnTo>
                    <a:pt x="3085" y="117"/>
                  </a:lnTo>
                  <a:lnTo>
                    <a:pt x="3056" y="117"/>
                  </a:lnTo>
                  <a:lnTo>
                    <a:pt x="2983" y="117"/>
                  </a:lnTo>
                  <a:lnTo>
                    <a:pt x="2927" y="126"/>
                  </a:lnTo>
                  <a:lnTo>
                    <a:pt x="2866" y="134"/>
                  </a:lnTo>
                  <a:lnTo>
                    <a:pt x="2821" y="141"/>
                  </a:lnTo>
                  <a:lnTo>
                    <a:pt x="2765" y="157"/>
                  </a:lnTo>
                  <a:lnTo>
                    <a:pt x="2704" y="165"/>
                  </a:lnTo>
                  <a:lnTo>
                    <a:pt x="2647" y="189"/>
                  </a:lnTo>
                  <a:lnTo>
                    <a:pt x="2603" y="206"/>
                  </a:lnTo>
                  <a:lnTo>
                    <a:pt x="2558" y="228"/>
                  </a:lnTo>
                  <a:lnTo>
                    <a:pt x="2501" y="260"/>
                  </a:lnTo>
                  <a:lnTo>
                    <a:pt x="2456" y="282"/>
                  </a:lnTo>
                  <a:lnTo>
                    <a:pt x="2424" y="314"/>
                  </a:lnTo>
                  <a:lnTo>
                    <a:pt x="2383" y="345"/>
                  </a:lnTo>
                  <a:lnTo>
                    <a:pt x="2339" y="377"/>
                  </a:lnTo>
                  <a:lnTo>
                    <a:pt x="2306" y="417"/>
                  </a:lnTo>
                  <a:lnTo>
                    <a:pt x="2278" y="455"/>
                  </a:lnTo>
                  <a:lnTo>
                    <a:pt x="2278" y="455"/>
                  </a:lnTo>
                  <a:lnTo>
                    <a:pt x="2217" y="433"/>
                  </a:lnTo>
                  <a:lnTo>
                    <a:pt x="2149" y="408"/>
                  </a:lnTo>
                  <a:lnTo>
                    <a:pt x="2076" y="392"/>
                  </a:lnTo>
                  <a:lnTo>
                    <a:pt x="2014" y="377"/>
                  </a:lnTo>
                  <a:lnTo>
                    <a:pt x="1941" y="363"/>
                  </a:lnTo>
                  <a:lnTo>
                    <a:pt x="1869" y="354"/>
                  </a:lnTo>
                  <a:lnTo>
                    <a:pt x="1791" y="345"/>
                  </a:lnTo>
                  <a:lnTo>
                    <a:pt x="1719" y="345"/>
                  </a:lnTo>
                  <a:lnTo>
                    <a:pt x="1662" y="345"/>
                  </a:lnTo>
                  <a:lnTo>
                    <a:pt x="1601" y="354"/>
                  </a:lnTo>
                  <a:lnTo>
                    <a:pt x="1557" y="363"/>
                  </a:lnTo>
                  <a:lnTo>
                    <a:pt x="1499" y="363"/>
                  </a:lnTo>
                  <a:lnTo>
                    <a:pt x="1443" y="377"/>
                  </a:lnTo>
                  <a:lnTo>
                    <a:pt x="1399" y="384"/>
                  </a:lnTo>
                  <a:lnTo>
                    <a:pt x="1342" y="392"/>
                  </a:lnTo>
                  <a:lnTo>
                    <a:pt x="1293" y="408"/>
                  </a:lnTo>
                  <a:lnTo>
                    <a:pt x="1249" y="426"/>
                  </a:lnTo>
                  <a:lnTo>
                    <a:pt x="1192" y="446"/>
                  </a:lnTo>
                  <a:lnTo>
                    <a:pt x="1148" y="464"/>
                  </a:lnTo>
                  <a:lnTo>
                    <a:pt x="1102" y="488"/>
                  </a:lnTo>
                  <a:lnTo>
                    <a:pt x="1058" y="509"/>
                  </a:lnTo>
                  <a:lnTo>
                    <a:pt x="1018" y="536"/>
                  </a:lnTo>
                  <a:lnTo>
                    <a:pt x="986" y="558"/>
                  </a:lnTo>
                  <a:lnTo>
                    <a:pt x="940" y="581"/>
                  </a:lnTo>
                  <a:lnTo>
                    <a:pt x="900" y="612"/>
                  </a:lnTo>
                  <a:lnTo>
                    <a:pt x="868" y="637"/>
                  </a:lnTo>
                  <a:lnTo>
                    <a:pt x="839" y="668"/>
                  </a:lnTo>
                  <a:lnTo>
                    <a:pt x="810" y="700"/>
                  </a:lnTo>
                  <a:lnTo>
                    <a:pt x="783" y="737"/>
                  </a:lnTo>
                  <a:lnTo>
                    <a:pt x="750" y="769"/>
                  </a:lnTo>
                  <a:lnTo>
                    <a:pt x="722" y="803"/>
                  </a:lnTo>
                  <a:lnTo>
                    <a:pt x="709" y="839"/>
                  </a:lnTo>
                  <a:lnTo>
                    <a:pt x="694" y="872"/>
                  </a:lnTo>
                  <a:lnTo>
                    <a:pt x="665" y="911"/>
                  </a:lnTo>
                  <a:lnTo>
                    <a:pt x="648" y="950"/>
                  </a:lnTo>
                  <a:lnTo>
                    <a:pt x="648" y="991"/>
                  </a:lnTo>
                  <a:lnTo>
                    <a:pt x="633" y="1030"/>
                  </a:lnTo>
                  <a:lnTo>
                    <a:pt x="616" y="1067"/>
                  </a:lnTo>
                  <a:lnTo>
                    <a:pt x="616" y="1108"/>
                  </a:lnTo>
                  <a:lnTo>
                    <a:pt x="616" y="1148"/>
                  </a:lnTo>
                  <a:lnTo>
                    <a:pt x="616" y="1202"/>
                  </a:lnTo>
                  <a:lnTo>
                    <a:pt x="633" y="125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99400" y="2149920"/>
              <a:ext cx="2539800" cy="78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80000" anchor="ctr" anchorCtr="1">
              <a:spAutoFit/>
            </a:bodyPr>
            <a:p>
              <a:pPr algn="ctr">
                <a:lnSpc>
                  <a:spcPts val="4737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Gr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300480" y="2076480"/>
            <a:ext cx="2144520" cy="1111320"/>
            <a:chOff x="3300480" y="2076480"/>
            <a:chExt cx="2144520" cy="1111320"/>
          </a:xfrm>
        </p:grpSpPr>
        <p:sp>
          <p:nvSpPr>
            <p:cNvPr id="200" name=""/>
            <p:cNvSpPr/>
            <p:nvPr/>
          </p:nvSpPr>
          <p:spPr>
            <a:xfrm>
              <a:off x="3300480" y="2076480"/>
              <a:ext cx="2144520" cy="1111320"/>
            </a:xfrm>
            <a:prstGeom prst="roundRect">
              <a:avLst>
                <a:gd name="adj" fmla="val 15139"/>
              </a:avLst>
            </a:prstGeom>
            <a:solidFill>
              <a:srgbClr val="4b87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51760" y="2372400"/>
              <a:ext cx="164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Grid</a:t>
              </a:r>
              <a:r>
                <a:rPr b="1" i="1" lang="en-GB" sz="28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a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553000" y="2205000"/>
            <a:ext cx="1236600" cy="777960"/>
          </a:xfrm>
          <a:custGeom>
            <a:avLst/>
            <a:gdLst/>
            <a:ahLst/>
            <a:rect l="l" t="t" r="r" b="b"/>
            <a:pathLst>
              <a:path w="3437" h="2160">
                <a:moveTo>
                  <a:pt x="0" y="1586"/>
                </a:moveTo>
                <a:lnTo>
                  <a:pt x="2157" y="1586"/>
                </a:lnTo>
                <a:lnTo>
                  <a:pt x="2157" y="2159"/>
                </a:lnTo>
                <a:lnTo>
                  <a:pt x="3436" y="1080"/>
                </a:lnTo>
                <a:lnTo>
                  <a:pt x="2157" y="0"/>
                </a:lnTo>
                <a:lnTo>
                  <a:pt x="2157" y="574"/>
                </a:lnTo>
                <a:lnTo>
                  <a:pt x="0" y="574"/>
                </a:lnTo>
                <a:lnTo>
                  <a:pt x="0" y="1586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68360" y="2108160"/>
            <a:ext cx="1378080" cy="1036800"/>
            <a:chOff x="468360" y="2108160"/>
            <a:chExt cx="1378080" cy="1036800"/>
          </a:xfrm>
        </p:grpSpPr>
        <p:sp>
          <p:nvSpPr>
            <p:cNvPr id="204" name=""/>
            <p:cNvSpPr/>
            <p:nvPr/>
          </p:nvSpPr>
          <p:spPr>
            <a:xfrm>
              <a:off x="682560" y="2108160"/>
              <a:ext cx="954000" cy="687600"/>
            </a:xfrm>
            <a:custGeom>
              <a:avLst/>
              <a:gdLst/>
              <a:ahLst/>
              <a:rect l="l" t="t" r="r" b="b"/>
              <a:pathLst>
                <a:path w="2652" h="1911">
                  <a:moveTo>
                    <a:pt x="0" y="0"/>
                  </a:moveTo>
                  <a:lnTo>
                    <a:pt x="2651" y="0"/>
                  </a:lnTo>
                  <a:lnTo>
                    <a:pt x="2651" y="1910"/>
                  </a:lnTo>
                  <a:lnTo>
                    <a:pt x="0" y="191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8360" y="2830680"/>
              <a:ext cx="1378080" cy="230040"/>
            </a:xfrm>
            <a:custGeom>
              <a:avLst/>
              <a:gdLst/>
              <a:ahLst/>
              <a:rect l="l" t="t" r="r" b="b"/>
              <a:pathLst>
                <a:path w="3827" h="641">
                  <a:moveTo>
                    <a:pt x="589" y="0"/>
                  </a:moveTo>
                  <a:lnTo>
                    <a:pt x="0" y="640"/>
                  </a:lnTo>
                  <a:lnTo>
                    <a:pt x="3826" y="640"/>
                  </a:lnTo>
                  <a:lnTo>
                    <a:pt x="3245" y="0"/>
                  </a:lnTo>
                  <a:lnTo>
                    <a:pt x="58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8360" y="3060720"/>
              <a:ext cx="1378080" cy="84240"/>
            </a:xfrm>
            <a:custGeom>
              <a:avLst/>
              <a:gdLst/>
              <a:ahLst/>
              <a:rect l="l" t="t" r="r" b="b"/>
              <a:pathLst>
                <a:path w="3827" h="232">
                  <a:moveTo>
                    <a:pt x="0" y="0"/>
                  </a:moveTo>
                  <a:lnTo>
                    <a:pt x="0" y="231"/>
                  </a:lnTo>
                  <a:lnTo>
                    <a:pt x="3826" y="231"/>
                  </a:lnTo>
                  <a:lnTo>
                    <a:pt x="3826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5120" y="2181240"/>
              <a:ext cx="852480" cy="538200"/>
            </a:xfrm>
            <a:custGeom>
              <a:avLst/>
              <a:gdLst/>
              <a:ahLst/>
              <a:rect l="l" t="t" r="r" b="b"/>
              <a:pathLst>
                <a:path w="2369" h="1497">
                  <a:moveTo>
                    <a:pt x="0" y="0"/>
                  </a:moveTo>
                  <a:lnTo>
                    <a:pt x="2368" y="0"/>
                  </a:lnTo>
                  <a:lnTo>
                    <a:pt x="2368" y="1496"/>
                  </a:lnTo>
                  <a:lnTo>
                    <a:pt x="0" y="1496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4120" y="2854440"/>
              <a:ext cx="1009440" cy="27000"/>
            </a:xfrm>
            <a:custGeom>
              <a:avLst/>
              <a:gdLst/>
              <a:ahLst/>
              <a:rect l="l" t="t" r="r" b="b"/>
              <a:pathLst>
                <a:path w="2804" h="76">
                  <a:moveTo>
                    <a:pt x="72" y="0"/>
                  </a:moveTo>
                  <a:lnTo>
                    <a:pt x="0" y="75"/>
                  </a:lnTo>
                  <a:lnTo>
                    <a:pt x="2803" y="75"/>
                  </a:lnTo>
                  <a:lnTo>
                    <a:pt x="2731" y="0"/>
                  </a:lnTo>
                  <a:lnTo>
                    <a:pt x="72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47800" y="2986200"/>
              <a:ext cx="627120" cy="27000"/>
            </a:xfrm>
            <a:custGeom>
              <a:avLst/>
              <a:gdLst/>
              <a:ahLst/>
              <a:rect l="l" t="t" r="r" b="b"/>
              <a:pathLst>
                <a:path w="1742" h="76">
                  <a:moveTo>
                    <a:pt x="48" y="0"/>
                  </a:moveTo>
                  <a:lnTo>
                    <a:pt x="0" y="75"/>
                  </a:lnTo>
                  <a:lnTo>
                    <a:pt x="1741" y="75"/>
                  </a:lnTo>
                  <a:lnTo>
                    <a:pt x="1694" y="0"/>
                  </a:lnTo>
                  <a:lnTo>
                    <a:pt x="48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2440" y="2898720"/>
              <a:ext cx="1077840" cy="30240"/>
            </a:xfrm>
            <a:custGeom>
              <a:avLst/>
              <a:gdLst/>
              <a:ahLst/>
              <a:rect l="l" t="t" r="r" b="b"/>
              <a:pathLst>
                <a:path w="2992" h="82">
                  <a:moveTo>
                    <a:pt x="75" y="0"/>
                  </a:moveTo>
                  <a:lnTo>
                    <a:pt x="0" y="81"/>
                  </a:lnTo>
                  <a:lnTo>
                    <a:pt x="2991" y="81"/>
                  </a:lnTo>
                  <a:lnTo>
                    <a:pt x="2913" y="0"/>
                  </a:lnTo>
                  <a:lnTo>
                    <a:pt x="75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7520" y="2940120"/>
              <a:ext cx="1147680" cy="28440"/>
            </a:xfrm>
            <a:custGeom>
              <a:avLst/>
              <a:gdLst/>
              <a:ahLst/>
              <a:rect l="l" t="t" r="r" b="b"/>
              <a:pathLst>
                <a:path w="3189" h="81">
                  <a:moveTo>
                    <a:pt x="80" y="0"/>
                  </a:moveTo>
                  <a:lnTo>
                    <a:pt x="0" y="80"/>
                  </a:lnTo>
                  <a:lnTo>
                    <a:pt x="3188" y="80"/>
                  </a:lnTo>
                  <a:lnTo>
                    <a:pt x="3106" y="0"/>
                  </a:lnTo>
                  <a:lnTo>
                    <a:pt x="80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954080" y="2187720"/>
            <a:ext cx="1238400" cy="777600"/>
          </a:xfrm>
          <a:custGeom>
            <a:avLst/>
            <a:gdLst/>
            <a:ahLst/>
            <a:rect l="l" t="t" r="r" b="b"/>
            <a:pathLst>
              <a:path w="3438" h="2159">
                <a:moveTo>
                  <a:pt x="0" y="1585"/>
                </a:moveTo>
                <a:lnTo>
                  <a:pt x="2158" y="1585"/>
                </a:lnTo>
                <a:lnTo>
                  <a:pt x="2158" y="2158"/>
                </a:lnTo>
                <a:lnTo>
                  <a:pt x="3437" y="1079"/>
                </a:lnTo>
                <a:lnTo>
                  <a:pt x="2158" y="0"/>
                </a:lnTo>
                <a:lnTo>
                  <a:pt x="2158" y="573"/>
                </a:lnTo>
                <a:lnTo>
                  <a:pt x="0" y="573"/>
                </a:lnTo>
                <a:lnTo>
                  <a:pt x="0" y="1585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-36720"/>
            <a:ext cx="10077480" cy="757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Grid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y Frame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69920" y="763560"/>
            <a:ext cx="5556240" cy="3333600"/>
          </a:xfrm>
          <a:prstGeom prst="ellipse">
            <a:avLst/>
          </a:prstGeom>
          <a:solidFill>
            <a:srgbClr val="33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813040" y="803160"/>
            <a:ext cx="2016000" cy="673200"/>
            <a:chOff x="2813040" y="803160"/>
            <a:chExt cx="2016000" cy="673200"/>
          </a:xfrm>
        </p:grpSpPr>
        <p:sp>
          <p:nvSpPr>
            <p:cNvPr id="216" name=""/>
            <p:cNvSpPr/>
            <p:nvPr/>
          </p:nvSpPr>
          <p:spPr>
            <a:xfrm>
              <a:off x="2813040" y="803160"/>
              <a:ext cx="2016000" cy="67320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53800" y="954000"/>
              <a:ext cx="17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 Narrow"/>
                </a:rPr>
                <a:t>Request 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157640" y="1757520"/>
            <a:ext cx="420840" cy="671400"/>
            <a:chOff x="4157640" y="1757520"/>
            <a:chExt cx="420840" cy="671400"/>
          </a:xfrm>
        </p:grpSpPr>
        <p:sp>
          <p:nvSpPr>
            <p:cNvPr id="219" name=""/>
            <p:cNvSpPr/>
            <p:nvPr/>
          </p:nvSpPr>
          <p:spPr>
            <a:xfrm>
              <a:off x="4157640" y="1757520"/>
              <a:ext cx="420840" cy="168120"/>
            </a:xfrm>
            <a:prstGeom prst="roundRect">
              <a:avLst>
                <a:gd name="adj" fmla="val 940"/>
              </a:avLst>
            </a:prstGeom>
            <a:solidFill>
              <a:srgbClr val="cc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57640" y="1925640"/>
              <a:ext cx="420840" cy="168120"/>
            </a:xfrm>
            <a:prstGeom prst="roundRect">
              <a:avLst>
                <a:gd name="adj" fmla="val 940"/>
              </a:avLst>
            </a:prstGeom>
            <a:solidFill>
              <a:srgbClr val="cc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57640" y="2092320"/>
              <a:ext cx="420840" cy="168120"/>
            </a:xfrm>
            <a:prstGeom prst="roundRect">
              <a:avLst>
                <a:gd name="adj" fmla="val 940"/>
              </a:avLst>
            </a:prstGeom>
            <a:solidFill>
              <a:srgbClr val="cc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57640" y="2260440"/>
              <a:ext cx="420840" cy="168480"/>
            </a:xfrm>
            <a:prstGeom prst="roundRect">
              <a:avLst>
                <a:gd name="adj" fmla="val 940"/>
              </a:avLst>
            </a:prstGeom>
            <a:solidFill>
              <a:srgbClr val="cc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602240" y="202572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Job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/>
          <p:nvPr/>
        </p:nvCxnSpPr>
        <p:spPr>
          <a:xfrm>
            <a:off x="3822480" y="1474560"/>
            <a:ext cx="546480" cy="2833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5" name=""/>
          <p:cNvGrpSpPr/>
          <p:nvPr/>
        </p:nvGrpSpPr>
        <p:grpSpPr>
          <a:xfrm>
            <a:off x="1743120" y="1768320"/>
            <a:ext cx="2016000" cy="673200"/>
            <a:chOff x="1743120" y="1768320"/>
            <a:chExt cx="2016000" cy="673200"/>
          </a:xfrm>
        </p:grpSpPr>
        <p:sp>
          <p:nvSpPr>
            <p:cNvPr id="226" name=""/>
            <p:cNvSpPr/>
            <p:nvPr/>
          </p:nvSpPr>
          <p:spPr>
            <a:xfrm>
              <a:off x="1743120" y="1768320"/>
              <a:ext cx="2016000" cy="67320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56160" y="1920600"/>
              <a:ext cx="178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 Narrow"/>
                </a:rPr>
                <a:t>Dispatch 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309760" y="3022560"/>
            <a:ext cx="2184480" cy="673200"/>
            <a:chOff x="2309760" y="3022560"/>
            <a:chExt cx="2184480" cy="673200"/>
          </a:xfrm>
        </p:grpSpPr>
        <p:sp>
          <p:nvSpPr>
            <p:cNvPr id="229" name=""/>
            <p:cNvSpPr/>
            <p:nvPr/>
          </p:nvSpPr>
          <p:spPr>
            <a:xfrm>
              <a:off x="2309760" y="3022560"/>
              <a:ext cx="2184480" cy="67320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71320" y="3174840"/>
              <a:ext cx="206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 Narrow"/>
                </a:rPr>
                <a:t>Performance Moni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157640" y="2398680"/>
            <a:ext cx="2268720" cy="673200"/>
            <a:chOff x="4157640" y="2398680"/>
            <a:chExt cx="2268720" cy="673200"/>
          </a:xfrm>
        </p:grpSpPr>
        <p:sp>
          <p:nvSpPr>
            <p:cNvPr id="232" name=""/>
            <p:cNvSpPr/>
            <p:nvPr/>
          </p:nvSpPr>
          <p:spPr>
            <a:xfrm>
              <a:off x="4157640" y="2398680"/>
              <a:ext cx="2268720" cy="67320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2760" y="2550960"/>
              <a:ext cx="205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 Narrow"/>
                </a:rPr>
                <a:t>Submission 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4" name=""/>
          <p:cNvCxnSpPr/>
          <p:nvPr/>
        </p:nvCxnSpPr>
        <p:spPr>
          <a:xfrm>
            <a:off x="2751120" y="2441520"/>
            <a:ext cx="651600" cy="58140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"/>
          <p:cNvCxnSpPr/>
          <p:nvPr/>
        </p:nvCxnSpPr>
        <p:spPr>
          <a:xfrm>
            <a:off x="2751120" y="2441520"/>
            <a:ext cx="1270800" cy="294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/>
          <p:nvPr/>
        </p:nvCxnSpPr>
        <p:spPr>
          <a:xfrm flipV="1">
            <a:off x="3870360" y="2091600"/>
            <a:ext cx="28944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37" name=""/>
          <p:cNvGrpSpPr/>
          <p:nvPr/>
        </p:nvGrpSpPr>
        <p:grpSpPr>
          <a:xfrm>
            <a:off x="131760" y="2314440"/>
            <a:ext cx="1176480" cy="841680"/>
            <a:chOff x="131760" y="2314440"/>
            <a:chExt cx="1176480" cy="841680"/>
          </a:xfrm>
        </p:grpSpPr>
        <p:sp>
          <p:nvSpPr>
            <p:cNvPr id="238" name=""/>
            <p:cNvSpPr/>
            <p:nvPr/>
          </p:nvSpPr>
          <p:spPr>
            <a:xfrm>
              <a:off x="131760" y="2314440"/>
              <a:ext cx="1176480" cy="841680"/>
            </a:xfrm>
            <a:prstGeom prst="roundRect">
              <a:avLst>
                <a:gd name="adj" fmla="val 185"/>
              </a:avLst>
            </a:prstGeom>
            <a:solidFill>
              <a:srgbClr val="f07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4480" y="2405880"/>
              <a:ext cx="103248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 Narrow"/>
                </a:rPr>
                <a:t>Re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6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 Narrow"/>
                </a:rPr>
                <a:t>Sel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268360" y="3881160"/>
            <a:ext cx="1428840" cy="949320"/>
            <a:chOff x="2268360" y="3881160"/>
            <a:chExt cx="1428840" cy="949320"/>
          </a:xfrm>
        </p:grpSpPr>
        <p:sp>
          <p:nvSpPr>
            <p:cNvPr id="241" name=""/>
            <p:cNvSpPr/>
            <p:nvPr/>
          </p:nvSpPr>
          <p:spPr>
            <a:xfrm>
              <a:off x="2268360" y="3894120"/>
              <a:ext cx="1428840" cy="924120"/>
            </a:xfrm>
            <a:prstGeom prst="roundRect">
              <a:avLst>
                <a:gd name="adj" fmla="val 171"/>
              </a:avLst>
            </a:prstGeom>
            <a:solidFill>
              <a:srgbClr val="f07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20920" y="3881160"/>
              <a:ext cx="132372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 Narrow"/>
                </a:rPr>
                <a:t>Perform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6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 Narrow"/>
                </a:rPr>
                <a:t>Degrad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6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 Narrow"/>
                </a:rPr>
                <a:t>Evalu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20800" y="3076560"/>
            <a:ext cx="1282680" cy="1260360"/>
            <a:chOff x="820800" y="3076560"/>
            <a:chExt cx="1282680" cy="1260360"/>
          </a:xfrm>
        </p:grpSpPr>
        <p:grpSp>
          <p:nvGrpSpPr>
            <p:cNvPr id="244" name=""/>
            <p:cNvGrpSpPr/>
            <p:nvPr/>
          </p:nvGrpSpPr>
          <p:grpSpPr>
            <a:xfrm>
              <a:off x="820800" y="3076560"/>
              <a:ext cx="1282680" cy="1260360"/>
              <a:chOff x="820800" y="3076560"/>
              <a:chExt cx="1282680" cy="1260360"/>
            </a:xfrm>
          </p:grpSpPr>
          <p:sp>
            <p:nvSpPr>
              <p:cNvPr id="245" name=""/>
              <p:cNvSpPr/>
              <p:nvPr/>
            </p:nvSpPr>
            <p:spPr>
              <a:xfrm>
                <a:off x="820800" y="3076560"/>
                <a:ext cx="1282680" cy="1260360"/>
              </a:xfrm>
              <a:custGeom>
                <a:avLst/>
                <a:gdLst/>
                <a:ahLst/>
                <a:rect l="l" t="t" r="r" b="b"/>
                <a:pathLst>
                  <a:path w="3563" h="3501">
                    <a:moveTo>
                      <a:pt x="0" y="0"/>
                    </a:moveTo>
                    <a:lnTo>
                      <a:pt x="3562" y="0"/>
                    </a:lnTo>
                    <a:lnTo>
                      <a:pt x="3562" y="3062"/>
                    </a:lnTo>
                    <a:lnTo>
                      <a:pt x="3116" y="3500"/>
                    </a:lnTo>
                    <a:lnTo>
                      <a:pt x="0" y="35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943280" y="4178160"/>
                <a:ext cx="160200" cy="158760"/>
              </a:xfrm>
              <a:custGeom>
                <a:avLst/>
                <a:gdLst/>
                <a:ahLst/>
                <a:rect l="l" t="t" r="r" b="b"/>
                <a:pathLst>
                  <a:path w="447" h="439">
                    <a:moveTo>
                      <a:pt x="0" y="438"/>
                    </a:moveTo>
                    <a:lnTo>
                      <a:pt x="116" y="0"/>
                    </a:lnTo>
                    <a:cubicBezTo>
                      <a:pt x="227" y="62"/>
                      <a:pt x="223" y="26"/>
                      <a:pt x="446" y="0"/>
                    </a:cubicBezTo>
                    <a:lnTo>
                      <a:pt x="0" y="438"/>
                    </a:lnTo>
                  </a:path>
                </a:pathLst>
              </a:custGeom>
              <a:solidFill>
                <a:srgbClr val="dbaf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844560" y="3077640"/>
              <a:ext cx="123516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Resour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6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requir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6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Ran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6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expr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518640" y="4498920"/>
            <a:ext cx="1198800" cy="1260360"/>
            <a:chOff x="3518640" y="4498920"/>
            <a:chExt cx="1198800" cy="1260360"/>
          </a:xfrm>
        </p:grpSpPr>
        <p:grpSp>
          <p:nvGrpSpPr>
            <p:cNvPr id="249" name=""/>
            <p:cNvGrpSpPr/>
            <p:nvPr/>
          </p:nvGrpSpPr>
          <p:grpSpPr>
            <a:xfrm>
              <a:off x="3529080" y="4498920"/>
              <a:ext cx="1176120" cy="1260360"/>
              <a:chOff x="3529080" y="4498920"/>
              <a:chExt cx="1176120" cy="1260360"/>
            </a:xfrm>
          </p:grpSpPr>
          <p:sp>
            <p:nvSpPr>
              <p:cNvPr id="250" name=""/>
              <p:cNvSpPr/>
              <p:nvPr/>
            </p:nvSpPr>
            <p:spPr>
              <a:xfrm>
                <a:off x="3529080" y="4498920"/>
                <a:ext cx="1176120" cy="1260360"/>
              </a:xfrm>
              <a:custGeom>
                <a:avLst/>
                <a:gdLst/>
                <a:ahLst/>
                <a:rect l="l" t="t" r="r" b="b"/>
                <a:pathLst>
                  <a:path w="3268" h="3501">
                    <a:moveTo>
                      <a:pt x="0" y="0"/>
                    </a:moveTo>
                    <a:lnTo>
                      <a:pt x="3267" y="0"/>
                    </a:lnTo>
                    <a:lnTo>
                      <a:pt x="3267" y="3062"/>
                    </a:lnTo>
                    <a:lnTo>
                      <a:pt x="2858" y="3500"/>
                    </a:lnTo>
                    <a:lnTo>
                      <a:pt x="0" y="35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cc99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57600" y="5600880"/>
                <a:ext cx="147600" cy="158400"/>
              </a:xfrm>
              <a:custGeom>
                <a:avLst/>
                <a:gdLst/>
                <a:ahLst/>
                <a:rect l="l" t="t" r="r" b="b"/>
                <a:pathLst>
                  <a:path w="410" h="439">
                    <a:moveTo>
                      <a:pt x="0" y="438"/>
                    </a:moveTo>
                    <a:lnTo>
                      <a:pt x="106" y="0"/>
                    </a:lnTo>
                    <a:cubicBezTo>
                      <a:pt x="209" y="62"/>
                      <a:pt x="204" y="26"/>
                      <a:pt x="409" y="0"/>
                    </a:cubicBezTo>
                    <a:lnTo>
                      <a:pt x="0" y="438"/>
                    </a:lnTo>
                  </a:path>
                </a:pathLst>
              </a:custGeom>
              <a:solidFill>
                <a:srgbClr val="dbaf83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3518640" y="4498920"/>
              <a:ext cx="11988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Perform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6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Pro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722840" y="3225960"/>
            <a:ext cx="1184040" cy="1260360"/>
            <a:chOff x="4722840" y="3225960"/>
            <a:chExt cx="1184040" cy="1260360"/>
          </a:xfrm>
        </p:grpSpPr>
        <p:grpSp>
          <p:nvGrpSpPr>
            <p:cNvPr id="254" name=""/>
            <p:cNvGrpSpPr/>
            <p:nvPr/>
          </p:nvGrpSpPr>
          <p:grpSpPr>
            <a:xfrm>
              <a:off x="4722840" y="3225960"/>
              <a:ext cx="1176480" cy="1260360"/>
              <a:chOff x="4722840" y="3225960"/>
              <a:chExt cx="1176480" cy="1260360"/>
            </a:xfrm>
          </p:grpSpPr>
          <p:sp>
            <p:nvSpPr>
              <p:cNvPr id="255" name=""/>
              <p:cNvSpPr/>
              <p:nvPr/>
            </p:nvSpPr>
            <p:spPr>
              <a:xfrm>
                <a:off x="4722840" y="3225960"/>
                <a:ext cx="1176480" cy="1260360"/>
              </a:xfrm>
              <a:custGeom>
                <a:avLst/>
                <a:gdLst/>
                <a:ahLst/>
                <a:rect l="l" t="t" r="r" b="b"/>
                <a:pathLst>
                  <a:path w="3267" h="3501">
                    <a:moveTo>
                      <a:pt x="0" y="0"/>
                    </a:moveTo>
                    <a:lnTo>
                      <a:pt x="3266" y="0"/>
                    </a:lnTo>
                    <a:lnTo>
                      <a:pt x="3266" y="3062"/>
                    </a:lnTo>
                    <a:lnTo>
                      <a:pt x="2857" y="3500"/>
                    </a:lnTo>
                    <a:lnTo>
                      <a:pt x="0" y="35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751360" y="4327560"/>
                <a:ext cx="147960" cy="158760"/>
              </a:xfrm>
              <a:custGeom>
                <a:avLst/>
                <a:gdLst/>
                <a:ahLst/>
                <a:rect l="l" t="t" r="r" b="b"/>
                <a:pathLst>
                  <a:path w="410" h="439">
                    <a:moveTo>
                      <a:pt x="0" y="438"/>
                    </a:moveTo>
                    <a:lnTo>
                      <a:pt x="106" y="0"/>
                    </a:lnTo>
                    <a:cubicBezTo>
                      <a:pt x="208" y="62"/>
                      <a:pt x="204" y="26"/>
                      <a:pt x="409" y="0"/>
                    </a:cubicBezTo>
                    <a:lnTo>
                      <a:pt x="0" y="438"/>
                    </a:lnTo>
                  </a:path>
                </a:pathLst>
              </a:custGeom>
              <a:solidFill>
                <a:srgbClr val="dbaf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4890960" y="3226680"/>
              <a:ext cx="101592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Job Fi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6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Execu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6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I/O fi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6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Check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8160" y="5684760"/>
            <a:ext cx="1349280" cy="744480"/>
            <a:chOff x="38160" y="5684760"/>
            <a:chExt cx="1349280" cy="744480"/>
          </a:xfrm>
        </p:grpSpPr>
        <p:sp>
          <p:nvSpPr>
            <p:cNvPr id="259" name=""/>
            <p:cNvSpPr/>
            <p:nvPr/>
          </p:nvSpPr>
          <p:spPr>
            <a:xfrm>
              <a:off x="38160" y="5684760"/>
              <a:ext cx="1349280" cy="744480"/>
            </a:xfrm>
            <a:custGeom>
              <a:avLst/>
              <a:gdLst/>
              <a:ahLst/>
              <a:rect l="l" t="t" r="r" b="b"/>
              <a:pathLst>
                <a:path w="3749" h="2066">
                  <a:moveTo>
                    <a:pt x="336" y="689"/>
                  </a:moveTo>
                  <a:lnTo>
                    <a:pt x="298" y="692"/>
                  </a:lnTo>
                  <a:lnTo>
                    <a:pt x="265" y="701"/>
                  </a:lnTo>
                  <a:lnTo>
                    <a:pt x="235" y="706"/>
                  </a:lnTo>
                  <a:lnTo>
                    <a:pt x="205" y="718"/>
                  </a:lnTo>
                  <a:lnTo>
                    <a:pt x="172" y="731"/>
                  </a:lnTo>
                  <a:lnTo>
                    <a:pt x="142" y="747"/>
                  </a:lnTo>
                  <a:lnTo>
                    <a:pt x="118" y="762"/>
                  </a:lnTo>
                  <a:lnTo>
                    <a:pt x="95" y="778"/>
                  </a:lnTo>
                  <a:lnTo>
                    <a:pt x="71" y="800"/>
                  </a:lnTo>
                  <a:lnTo>
                    <a:pt x="56" y="821"/>
                  </a:lnTo>
                  <a:lnTo>
                    <a:pt x="39" y="843"/>
                  </a:lnTo>
                  <a:lnTo>
                    <a:pt x="25" y="869"/>
                  </a:lnTo>
                  <a:lnTo>
                    <a:pt x="9" y="891"/>
                  </a:lnTo>
                  <a:lnTo>
                    <a:pt x="0" y="920"/>
                  </a:lnTo>
                  <a:lnTo>
                    <a:pt x="0" y="946"/>
                  </a:lnTo>
                  <a:lnTo>
                    <a:pt x="0" y="972"/>
                  </a:lnTo>
                  <a:lnTo>
                    <a:pt x="0" y="989"/>
                  </a:lnTo>
                  <a:lnTo>
                    <a:pt x="0" y="1011"/>
                  </a:lnTo>
                  <a:lnTo>
                    <a:pt x="0" y="1029"/>
                  </a:lnTo>
                  <a:lnTo>
                    <a:pt x="9" y="1045"/>
                  </a:lnTo>
                  <a:lnTo>
                    <a:pt x="18" y="1063"/>
                  </a:lnTo>
                  <a:lnTo>
                    <a:pt x="25" y="1079"/>
                  </a:lnTo>
                  <a:lnTo>
                    <a:pt x="32" y="1097"/>
                  </a:lnTo>
                  <a:lnTo>
                    <a:pt x="47" y="1113"/>
                  </a:lnTo>
                  <a:lnTo>
                    <a:pt x="65" y="1127"/>
                  </a:lnTo>
                  <a:lnTo>
                    <a:pt x="71" y="1143"/>
                  </a:lnTo>
                  <a:lnTo>
                    <a:pt x="88" y="1157"/>
                  </a:lnTo>
                  <a:lnTo>
                    <a:pt x="101" y="1170"/>
                  </a:lnTo>
                  <a:lnTo>
                    <a:pt x="127" y="1183"/>
                  </a:lnTo>
                  <a:lnTo>
                    <a:pt x="142" y="1195"/>
                  </a:lnTo>
                  <a:lnTo>
                    <a:pt x="164" y="1208"/>
                  </a:lnTo>
                  <a:lnTo>
                    <a:pt x="181" y="1217"/>
                  </a:lnTo>
                  <a:lnTo>
                    <a:pt x="181" y="1214"/>
                  </a:lnTo>
                  <a:lnTo>
                    <a:pt x="158" y="1235"/>
                  </a:lnTo>
                  <a:lnTo>
                    <a:pt x="142" y="1256"/>
                  </a:lnTo>
                  <a:lnTo>
                    <a:pt x="118" y="1278"/>
                  </a:lnTo>
                  <a:lnTo>
                    <a:pt x="110" y="1303"/>
                  </a:lnTo>
                  <a:lnTo>
                    <a:pt x="95" y="1328"/>
                  </a:lnTo>
                  <a:lnTo>
                    <a:pt x="88" y="1355"/>
                  </a:lnTo>
                  <a:lnTo>
                    <a:pt x="79" y="1380"/>
                  </a:lnTo>
                  <a:lnTo>
                    <a:pt x="79" y="1407"/>
                  </a:lnTo>
                  <a:lnTo>
                    <a:pt x="79" y="1419"/>
                  </a:lnTo>
                  <a:lnTo>
                    <a:pt x="79" y="1436"/>
                  </a:lnTo>
                  <a:lnTo>
                    <a:pt x="88" y="1450"/>
                  </a:lnTo>
                  <a:lnTo>
                    <a:pt x="88" y="1463"/>
                  </a:lnTo>
                  <a:lnTo>
                    <a:pt x="95" y="1475"/>
                  </a:lnTo>
                  <a:lnTo>
                    <a:pt x="95" y="1493"/>
                  </a:lnTo>
                  <a:lnTo>
                    <a:pt x="110" y="1518"/>
                  </a:lnTo>
                  <a:lnTo>
                    <a:pt x="127" y="1540"/>
                  </a:lnTo>
                  <a:lnTo>
                    <a:pt x="142" y="1565"/>
                  </a:lnTo>
                  <a:lnTo>
                    <a:pt x="164" y="1587"/>
                  </a:lnTo>
                  <a:lnTo>
                    <a:pt x="190" y="1608"/>
                  </a:lnTo>
                  <a:lnTo>
                    <a:pt x="219" y="1626"/>
                  </a:lnTo>
                  <a:lnTo>
                    <a:pt x="244" y="1643"/>
                  </a:lnTo>
                  <a:lnTo>
                    <a:pt x="273" y="1656"/>
                  </a:lnTo>
                  <a:lnTo>
                    <a:pt x="314" y="1668"/>
                  </a:lnTo>
                  <a:lnTo>
                    <a:pt x="345" y="1678"/>
                  </a:lnTo>
                  <a:lnTo>
                    <a:pt x="384" y="1682"/>
                  </a:lnTo>
                  <a:lnTo>
                    <a:pt x="398" y="1686"/>
                  </a:lnTo>
                  <a:lnTo>
                    <a:pt x="422" y="1690"/>
                  </a:lnTo>
                  <a:lnTo>
                    <a:pt x="438" y="1690"/>
                  </a:lnTo>
                  <a:lnTo>
                    <a:pt x="454" y="1690"/>
                  </a:lnTo>
                  <a:lnTo>
                    <a:pt x="478" y="1690"/>
                  </a:lnTo>
                  <a:lnTo>
                    <a:pt x="499" y="1686"/>
                  </a:lnTo>
                  <a:lnTo>
                    <a:pt x="499" y="1690"/>
                  </a:lnTo>
                  <a:lnTo>
                    <a:pt x="524" y="1720"/>
                  </a:lnTo>
                  <a:lnTo>
                    <a:pt x="547" y="1746"/>
                  </a:lnTo>
                  <a:lnTo>
                    <a:pt x="580" y="1773"/>
                  </a:lnTo>
                  <a:lnTo>
                    <a:pt x="610" y="1792"/>
                  </a:lnTo>
                  <a:lnTo>
                    <a:pt x="642" y="1819"/>
                  </a:lnTo>
                  <a:lnTo>
                    <a:pt x="672" y="1841"/>
                  </a:lnTo>
                  <a:lnTo>
                    <a:pt x="713" y="1857"/>
                  </a:lnTo>
                  <a:lnTo>
                    <a:pt x="743" y="1875"/>
                  </a:lnTo>
                  <a:lnTo>
                    <a:pt x="782" y="1892"/>
                  </a:lnTo>
                  <a:lnTo>
                    <a:pt x="820" y="1905"/>
                  </a:lnTo>
                  <a:lnTo>
                    <a:pt x="868" y="1914"/>
                  </a:lnTo>
                  <a:lnTo>
                    <a:pt x="907" y="1927"/>
                  </a:lnTo>
                  <a:lnTo>
                    <a:pt x="946" y="1931"/>
                  </a:lnTo>
                  <a:lnTo>
                    <a:pt x="993" y="1940"/>
                  </a:lnTo>
                  <a:lnTo>
                    <a:pt x="1041" y="1940"/>
                  </a:lnTo>
                  <a:lnTo>
                    <a:pt x="1077" y="1943"/>
                  </a:lnTo>
                  <a:lnTo>
                    <a:pt x="1124" y="1940"/>
                  </a:lnTo>
                  <a:lnTo>
                    <a:pt x="1172" y="1940"/>
                  </a:lnTo>
                  <a:lnTo>
                    <a:pt x="1219" y="1931"/>
                  </a:lnTo>
                  <a:lnTo>
                    <a:pt x="1258" y="1927"/>
                  </a:lnTo>
                  <a:lnTo>
                    <a:pt x="1305" y="1914"/>
                  </a:lnTo>
                  <a:lnTo>
                    <a:pt x="1342" y="1900"/>
                  </a:lnTo>
                  <a:lnTo>
                    <a:pt x="1382" y="1887"/>
                  </a:lnTo>
                  <a:lnTo>
                    <a:pt x="1430" y="1871"/>
                  </a:lnTo>
                  <a:lnTo>
                    <a:pt x="1422" y="1871"/>
                  </a:lnTo>
                  <a:lnTo>
                    <a:pt x="1443" y="1892"/>
                  </a:lnTo>
                  <a:lnTo>
                    <a:pt x="1469" y="1914"/>
                  </a:lnTo>
                  <a:lnTo>
                    <a:pt x="1493" y="1935"/>
                  </a:lnTo>
                  <a:lnTo>
                    <a:pt x="1522" y="1952"/>
                  </a:lnTo>
                  <a:lnTo>
                    <a:pt x="1547" y="1971"/>
                  </a:lnTo>
                  <a:lnTo>
                    <a:pt x="1576" y="1988"/>
                  </a:lnTo>
                  <a:lnTo>
                    <a:pt x="1601" y="2000"/>
                  </a:lnTo>
                  <a:lnTo>
                    <a:pt x="1633" y="2012"/>
                  </a:lnTo>
                  <a:lnTo>
                    <a:pt x="1669" y="2025"/>
                  </a:lnTo>
                  <a:lnTo>
                    <a:pt x="1702" y="2038"/>
                  </a:lnTo>
                  <a:lnTo>
                    <a:pt x="1734" y="2046"/>
                  </a:lnTo>
                  <a:lnTo>
                    <a:pt x="1773" y="2051"/>
                  </a:lnTo>
                  <a:lnTo>
                    <a:pt x="1803" y="2060"/>
                  </a:lnTo>
                  <a:lnTo>
                    <a:pt x="1835" y="2065"/>
                  </a:lnTo>
                  <a:lnTo>
                    <a:pt x="1874" y="2065"/>
                  </a:lnTo>
                  <a:lnTo>
                    <a:pt x="1913" y="2065"/>
                  </a:lnTo>
                  <a:lnTo>
                    <a:pt x="1937" y="2065"/>
                  </a:lnTo>
                  <a:lnTo>
                    <a:pt x="1960" y="2065"/>
                  </a:lnTo>
                  <a:lnTo>
                    <a:pt x="1984" y="2065"/>
                  </a:lnTo>
                  <a:lnTo>
                    <a:pt x="2005" y="2060"/>
                  </a:lnTo>
                  <a:lnTo>
                    <a:pt x="2029" y="2056"/>
                  </a:lnTo>
                  <a:lnTo>
                    <a:pt x="2055" y="2056"/>
                  </a:lnTo>
                  <a:lnTo>
                    <a:pt x="2100" y="2043"/>
                  </a:lnTo>
                  <a:lnTo>
                    <a:pt x="2139" y="2029"/>
                  </a:lnTo>
                  <a:lnTo>
                    <a:pt x="2186" y="2017"/>
                  </a:lnTo>
                  <a:lnTo>
                    <a:pt x="2226" y="2000"/>
                  </a:lnTo>
                  <a:lnTo>
                    <a:pt x="2264" y="1978"/>
                  </a:lnTo>
                  <a:lnTo>
                    <a:pt x="2294" y="1957"/>
                  </a:lnTo>
                  <a:lnTo>
                    <a:pt x="2326" y="1935"/>
                  </a:lnTo>
                  <a:lnTo>
                    <a:pt x="2357" y="1910"/>
                  </a:lnTo>
                  <a:lnTo>
                    <a:pt x="2389" y="1880"/>
                  </a:lnTo>
                  <a:lnTo>
                    <a:pt x="2413" y="1849"/>
                  </a:lnTo>
                  <a:lnTo>
                    <a:pt x="2436" y="1819"/>
                  </a:lnTo>
                  <a:lnTo>
                    <a:pt x="2458" y="1789"/>
                  </a:lnTo>
                  <a:lnTo>
                    <a:pt x="2466" y="1773"/>
                  </a:lnTo>
                  <a:lnTo>
                    <a:pt x="2475" y="1755"/>
                  </a:lnTo>
                  <a:lnTo>
                    <a:pt x="2475" y="1755"/>
                  </a:lnTo>
                  <a:lnTo>
                    <a:pt x="2507" y="1767"/>
                  </a:lnTo>
                  <a:lnTo>
                    <a:pt x="2538" y="1780"/>
                  </a:lnTo>
                  <a:lnTo>
                    <a:pt x="2567" y="1789"/>
                  </a:lnTo>
                  <a:lnTo>
                    <a:pt x="2600" y="1797"/>
                  </a:lnTo>
                  <a:lnTo>
                    <a:pt x="2630" y="1807"/>
                  </a:lnTo>
                  <a:lnTo>
                    <a:pt x="2671" y="1810"/>
                  </a:lnTo>
                  <a:lnTo>
                    <a:pt x="2701" y="1814"/>
                  </a:lnTo>
                  <a:lnTo>
                    <a:pt x="2740" y="1814"/>
                  </a:lnTo>
                  <a:lnTo>
                    <a:pt x="2764" y="1814"/>
                  </a:lnTo>
                  <a:lnTo>
                    <a:pt x="2788" y="1810"/>
                  </a:lnTo>
                  <a:lnTo>
                    <a:pt x="2811" y="1810"/>
                  </a:lnTo>
                  <a:lnTo>
                    <a:pt x="2843" y="1807"/>
                  </a:lnTo>
                  <a:lnTo>
                    <a:pt x="2865" y="1802"/>
                  </a:lnTo>
                  <a:lnTo>
                    <a:pt x="2888" y="1797"/>
                  </a:lnTo>
                  <a:lnTo>
                    <a:pt x="2912" y="1789"/>
                  </a:lnTo>
                  <a:lnTo>
                    <a:pt x="2936" y="1786"/>
                  </a:lnTo>
                  <a:lnTo>
                    <a:pt x="2951" y="1776"/>
                  </a:lnTo>
                  <a:lnTo>
                    <a:pt x="2975" y="1767"/>
                  </a:lnTo>
                  <a:lnTo>
                    <a:pt x="2998" y="1758"/>
                  </a:lnTo>
                  <a:lnTo>
                    <a:pt x="3020" y="1751"/>
                  </a:lnTo>
                  <a:lnTo>
                    <a:pt x="3037" y="1742"/>
                  </a:lnTo>
                  <a:lnTo>
                    <a:pt x="3052" y="1729"/>
                  </a:lnTo>
                  <a:lnTo>
                    <a:pt x="3091" y="1702"/>
                  </a:lnTo>
                  <a:lnTo>
                    <a:pt x="3123" y="1678"/>
                  </a:lnTo>
                  <a:lnTo>
                    <a:pt x="3138" y="1665"/>
                  </a:lnTo>
                  <a:lnTo>
                    <a:pt x="3154" y="1651"/>
                  </a:lnTo>
                  <a:lnTo>
                    <a:pt x="3170" y="1634"/>
                  </a:lnTo>
                  <a:lnTo>
                    <a:pt x="3177" y="1617"/>
                  </a:lnTo>
                  <a:lnTo>
                    <a:pt x="3192" y="1604"/>
                  </a:lnTo>
                  <a:lnTo>
                    <a:pt x="3201" y="1587"/>
                  </a:lnTo>
                  <a:lnTo>
                    <a:pt x="3208" y="1570"/>
                  </a:lnTo>
                  <a:lnTo>
                    <a:pt x="3216" y="1552"/>
                  </a:lnTo>
                  <a:lnTo>
                    <a:pt x="3224" y="1536"/>
                  </a:lnTo>
                  <a:lnTo>
                    <a:pt x="3233" y="1514"/>
                  </a:lnTo>
                  <a:lnTo>
                    <a:pt x="3233" y="1497"/>
                  </a:lnTo>
                  <a:lnTo>
                    <a:pt x="3240" y="1479"/>
                  </a:lnTo>
                  <a:lnTo>
                    <a:pt x="3240" y="1463"/>
                  </a:lnTo>
                  <a:lnTo>
                    <a:pt x="3240" y="1441"/>
                  </a:lnTo>
                  <a:lnTo>
                    <a:pt x="3240" y="1441"/>
                  </a:lnTo>
                  <a:lnTo>
                    <a:pt x="3263" y="1436"/>
                  </a:lnTo>
                  <a:lnTo>
                    <a:pt x="3296" y="1432"/>
                  </a:lnTo>
                  <a:lnTo>
                    <a:pt x="3317" y="1428"/>
                  </a:lnTo>
                  <a:lnTo>
                    <a:pt x="3341" y="1419"/>
                  </a:lnTo>
                  <a:lnTo>
                    <a:pt x="3371" y="1415"/>
                  </a:lnTo>
                  <a:lnTo>
                    <a:pt x="3396" y="1407"/>
                  </a:lnTo>
                  <a:lnTo>
                    <a:pt x="3418" y="1397"/>
                  </a:lnTo>
                  <a:lnTo>
                    <a:pt x="3443" y="1389"/>
                  </a:lnTo>
                  <a:lnTo>
                    <a:pt x="3466" y="1380"/>
                  </a:lnTo>
                  <a:lnTo>
                    <a:pt x="3481" y="1367"/>
                  </a:lnTo>
                  <a:lnTo>
                    <a:pt x="3504" y="1359"/>
                  </a:lnTo>
                  <a:lnTo>
                    <a:pt x="3529" y="1346"/>
                  </a:lnTo>
                  <a:lnTo>
                    <a:pt x="3567" y="1321"/>
                  </a:lnTo>
                  <a:lnTo>
                    <a:pt x="3599" y="1290"/>
                  </a:lnTo>
                  <a:lnTo>
                    <a:pt x="3615" y="1278"/>
                  </a:lnTo>
                  <a:lnTo>
                    <a:pt x="3630" y="1259"/>
                  </a:lnTo>
                  <a:lnTo>
                    <a:pt x="3644" y="1248"/>
                  </a:lnTo>
                  <a:lnTo>
                    <a:pt x="3662" y="1230"/>
                  </a:lnTo>
                  <a:lnTo>
                    <a:pt x="3677" y="1214"/>
                  </a:lnTo>
                  <a:lnTo>
                    <a:pt x="3685" y="1195"/>
                  </a:lnTo>
                  <a:lnTo>
                    <a:pt x="3692" y="1178"/>
                  </a:lnTo>
                  <a:lnTo>
                    <a:pt x="3707" y="1161"/>
                  </a:lnTo>
                  <a:lnTo>
                    <a:pt x="3716" y="1140"/>
                  </a:lnTo>
                  <a:lnTo>
                    <a:pt x="3725" y="1123"/>
                  </a:lnTo>
                  <a:lnTo>
                    <a:pt x="3730" y="1106"/>
                  </a:lnTo>
                  <a:lnTo>
                    <a:pt x="3730" y="1084"/>
                  </a:lnTo>
                  <a:lnTo>
                    <a:pt x="3739" y="1063"/>
                  </a:lnTo>
                  <a:lnTo>
                    <a:pt x="3739" y="1045"/>
                  </a:lnTo>
                  <a:lnTo>
                    <a:pt x="3739" y="1023"/>
                  </a:lnTo>
                  <a:lnTo>
                    <a:pt x="3748" y="1002"/>
                  </a:lnTo>
                  <a:lnTo>
                    <a:pt x="3739" y="984"/>
                  </a:lnTo>
                  <a:lnTo>
                    <a:pt x="3739" y="968"/>
                  </a:lnTo>
                  <a:lnTo>
                    <a:pt x="3739" y="949"/>
                  </a:lnTo>
                  <a:lnTo>
                    <a:pt x="3730" y="933"/>
                  </a:lnTo>
                  <a:lnTo>
                    <a:pt x="3730" y="912"/>
                  </a:lnTo>
                  <a:lnTo>
                    <a:pt x="3725" y="894"/>
                  </a:lnTo>
                  <a:lnTo>
                    <a:pt x="3716" y="877"/>
                  </a:lnTo>
                  <a:lnTo>
                    <a:pt x="3716" y="860"/>
                  </a:lnTo>
                  <a:lnTo>
                    <a:pt x="3707" y="843"/>
                  </a:lnTo>
                  <a:lnTo>
                    <a:pt x="3692" y="826"/>
                  </a:lnTo>
                  <a:lnTo>
                    <a:pt x="3685" y="814"/>
                  </a:lnTo>
                  <a:lnTo>
                    <a:pt x="3677" y="795"/>
                  </a:lnTo>
                  <a:lnTo>
                    <a:pt x="3662" y="778"/>
                  </a:lnTo>
                  <a:lnTo>
                    <a:pt x="3644" y="766"/>
                  </a:lnTo>
                  <a:lnTo>
                    <a:pt x="3623" y="735"/>
                  </a:lnTo>
                  <a:lnTo>
                    <a:pt x="3623" y="735"/>
                  </a:lnTo>
                  <a:lnTo>
                    <a:pt x="3630" y="718"/>
                  </a:lnTo>
                  <a:lnTo>
                    <a:pt x="3636" y="701"/>
                  </a:lnTo>
                  <a:lnTo>
                    <a:pt x="3644" y="683"/>
                  </a:lnTo>
                  <a:lnTo>
                    <a:pt x="3644" y="667"/>
                  </a:lnTo>
                  <a:lnTo>
                    <a:pt x="3653" y="649"/>
                  </a:lnTo>
                  <a:lnTo>
                    <a:pt x="3653" y="633"/>
                  </a:lnTo>
                  <a:lnTo>
                    <a:pt x="3653" y="615"/>
                  </a:lnTo>
                  <a:lnTo>
                    <a:pt x="3662" y="599"/>
                  </a:lnTo>
                  <a:lnTo>
                    <a:pt x="3653" y="568"/>
                  </a:lnTo>
                  <a:lnTo>
                    <a:pt x="3653" y="542"/>
                  </a:lnTo>
                  <a:lnTo>
                    <a:pt x="3644" y="511"/>
                  </a:lnTo>
                  <a:lnTo>
                    <a:pt x="3630" y="485"/>
                  </a:lnTo>
                  <a:lnTo>
                    <a:pt x="3623" y="460"/>
                  </a:lnTo>
                  <a:lnTo>
                    <a:pt x="3606" y="434"/>
                  </a:lnTo>
                  <a:lnTo>
                    <a:pt x="3583" y="408"/>
                  </a:lnTo>
                  <a:lnTo>
                    <a:pt x="3561" y="387"/>
                  </a:lnTo>
                  <a:lnTo>
                    <a:pt x="3535" y="366"/>
                  </a:lnTo>
                  <a:lnTo>
                    <a:pt x="3513" y="344"/>
                  </a:lnTo>
                  <a:lnTo>
                    <a:pt x="3490" y="327"/>
                  </a:lnTo>
                  <a:lnTo>
                    <a:pt x="3459" y="310"/>
                  </a:lnTo>
                  <a:lnTo>
                    <a:pt x="3427" y="297"/>
                  </a:lnTo>
                  <a:lnTo>
                    <a:pt x="3389" y="283"/>
                  </a:lnTo>
                  <a:lnTo>
                    <a:pt x="3356" y="271"/>
                  </a:lnTo>
                  <a:lnTo>
                    <a:pt x="3317" y="262"/>
                  </a:lnTo>
                  <a:lnTo>
                    <a:pt x="3317" y="262"/>
                  </a:lnTo>
                  <a:lnTo>
                    <a:pt x="3308" y="233"/>
                  </a:lnTo>
                  <a:lnTo>
                    <a:pt x="3303" y="206"/>
                  </a:lnTo>
                  <a:lnTo>
                    <a:pt x="3287" y="181"/>
                  </a:lnTo>
                  <a:lnTo>
                    <a:pt x="3270" y="159"/>
                  </a:lnTo>
                  <a:lnTo>
                    <a:pt x="3246" y="133"/>
                  </a:lnTo>
                  <a:lnTo>
                    <a:pt x="3224" y="112"/>
                  </a:lnTo>
                  <a:lnTo>
                    <a:pt x="3201" y="95"/>
                  </a:lnTo>
                  <a:lnTo>
                    <a:pt x="3177" y="77"/>
                  </a:lnTo>
                  <a:lnTo>
                    <a:pt x="3145" y="61"/>
                  </a:lnTo>
                  <a:lnTo>
                    <a:pt x="3115" y="43"/>
                  </a:lnTo>
                  <a:lnTo>
                    <a:pt x="3082" y="30"/>
                  </a:lnTo>
                  <a:lnTo>
                    <a:pt x="3052" y="21"/>
                  </a:lnTo>
                  <a:lnTo>
                    <a:pt x="3014" y="13"/>
                  </a:lnTo>
                  <a:lnTo>
                    <a:pt x="2981" y="9"/>
                  </a:lnTo>
                  <a:lnTo>
                    <a:pt x="2942" y="4"/>
                  </a:lnTo>
                  <a:lnTo>
                    <a:pt x="2906" y="0"/>
                  </a:lnTo>
                  <a:lnTo>
                    <a:pt x="2880" y="4"/>
                  </a:lnTo>
                  <a:lnTo>
                    <a:pt x="2856" y="4"/>
                  </a:lnTo>
                  <a:lnTo>
                    <a:pt x="2834" y="4"/>
                  </a:lnTo>
                  <a:lnTo>
                    <a:pt x="2811" y="9"/>
                  </a:lnTo>
                  <a:lnTo>
                    <a:pt x="2788" y="13"/>
                  </a:lnTo>
                  <a:lnTo>
                    <a:pt x="2772" y="18"/>
                  </a:lnTo>
                  <a:lnTo>
                    <a:pt x="2748" y="26"/>
                  </a:lnTo>
                  <a:lnTo>
                    <a:pt x="2725" y="30"/>
                  </a:lnTo>
                  <a:lnTo>
                    <a:pt x="2710" y="40"/>
                  </a:lnTo>
                  <a:lnTo>
                    <a:pt x="2684" y="47"/>
                  </a:lnTo>
                  <a:lnTo>
                    <a:pt x="2671" y="56"/>
                  </a:lnTo>
                  <a:lnTo>
                    <a:pt x="2647" y="64"/>
                  </a:lnTo>
                  <a:lnTo>
                    <a:pt x="2630" y="77"/>
                  </a:lnTo>
                  <a:lnTo>
                    <a:pt x="2615" y="90"/>
                  </a:lnTo>
                  <a:lnTo>
                    <a:pt x="2600" y="98"/>
                  </a:lnTo>
                  <a:lnTo>
                    <a:pt x="2585" y="112"/>
                  </a:lnTo>
                  <a:lnTo>
                    <a:pt x="2585" y="112"/>
                  </a:lnTo>
                  <a:lnTo>
                    <a:pt x="2567" y="98"/>
                  </a:lnTo>
                  <a:lnTo>
                    <a:pt x="2553" y="90"/>
                  </a:lnTo>
                  <a:lnTo>
                    <a:pt x="2538" y="77"/>
                  </a:lnTo>
                  <a:lnTo>
                    <a:pt x="2520" y="64"/>
                  </a:lnTo>
                  <a:lnTo>
                    <a:pt x="2507" y="56"/>
                  </a:lnTo>
                  <a:lnTo>
                    <a:pt x="2490" y="47"/>
                  </a:lnTo>
                  <a:lnTo>
                    <a:pt x="2466" y="40"/>
                  </a:lnTo>
                  <a:lnTo>
                    <a:pt x="2452" y="30"/>
                  </a:lnTo>
                  <a:lnTo>
                    <a:pt x="2427" y="26"/>
                  </a:lnTo>
                  <a:lnTo>
                    <a:pt x="2413" y="18"/>
                  </a:lnTo>
                  <a:lnTo>
                    <a:pt x="2389" y="13"/>
                  </a:lnTo>
                  <a:lnTo>
                    <a:pt x="2366" y="9"/>
                  </a:lnTo>
                  <a:lnTo>
                    <a:pt x="2350" y="4"/>
                  </a:lnTo>
                  <a:lnTo>
                    <a:pt x="2326" y="4"/>
                  </a:lnTo>
                  <a:lnTo>
                    <a:pt x="2303" y="4"/>
                  </a:lnTo>
                  <a:lnTo>
                    <a:pt x="2281" y="0"/>
                  </a:lnTo>
                  <a:lnTo>
                    <a:pt x="2255" y="4"/>
                  </a:lnTo>
                  <a:lnTo>
                    <a:pt x="2226" y="4"/>
                  </a:lnTo>
                  <a:lnTo>
                    <a:pt x="2201" y="9"/>
                  </a:lnTo>
                  <a:lnTo>
                    <a:pt x="2178" y="13"/>
                  </a:lnTo>
                  <a:lnTo>
                    <a:pt x="2156" y="21"/>
                  </a:lnTo>
                  <a:lnTo>
                    <a:pt x="2131" y="26"/>
                  </a:lnTo>
                  <a:lnTo>
                    <a:pt x="2109" y="34"/>
                  </a:lnTo>
                  <a:lnTo>
                    <a:pt x="2085" y="43"/>
                  </a:lnTo>
                  <a:lnTo>
                    <a:pt x="2061" y="56"/>
                  </a:lnTo>
                  <a:lnTo>
                    <a:pt x="2038" y="68"/>
                  </a:lnTo>
                  <a:lnTo>
                    <a:pt x="2023" y="82"/>
                  </a:lnTo>
                  <a:lnTo>
                    <a:pt x="2005" y="95"/>
                  </a:lnTo>
                  <a:lnTo>
                    <a:pt x="1984" y="108"/>
                  </a:lnTo>
                  <a:lnTo>
                    <a:pt x="1967" y="125"/>
                  </a:lnTo>
                  <a:lnTo>
                    <a:pt x="1951" y="142"/>
                  </a:lnTo>
                  <a:lnTo>
                    <a:pt x="1945" y="159"/>
                  </a:lnTo>
                  <a:lnTo>
                    <a:pt x="1945" y="164"/>
                  </a:lnTo>
                  <a:lnTo>
                    <a:pt x="1913" y="142"/>
                  </a:lnTo>
                  <a:lnTo>
                    <a:pt x="1897" y="133"/>
                  </a:lnTo>
                  <a:lnTo>
                    <a:pt x="1874" y="120"/>
                  </a:lnTo>
                  <a:lnTo>
                    <a:pt x="1859" y="112"/>
                  </a:lnTo>
                  <a:lnTo>
                    <a:pt x="1835" y="104"/>
                  </a:lnTo>
                  <a:lnTo>
                    <a:pt x="1820" y="98"/>
                  </a:lnTo>
                  <a:lnTo>
                    <a:pt x="1797" y="90"/>
                  </a:lnTo>
                  <a:lnTo>
                    <a:pt x="1773" y="86"/>
                  </a:lnTo>
                  <a:lnTo>
                    <a:pt x="1757" y="77"/>
                  </a:lnTo>
                  <a:lnTo>
                    <a:pt x="1734" y="74"/>
                  </a:lnTo>
                  <a:lnTo>
                    <a:pt x="1710" y="68"/>
                  </a:lnTo>
                  <a:lnTo>
                    <a:pt x="1687" y="68"/>
                  </a:lnTo>
                  <a:lnTo>
                    <a:pt x="1665" y="64"/>
                  </a:lnTo>
                  <a:lnTo>
                    <a:pt x="1639" y="64"/>
                  </a:lnTo>
                  <a:lnTo>
                    <a:pt x="1624" y="64"/>
                  </a:lnTo>
                  <a:lnTo>
                    <a:pt x="1585" y="64"/>
                  </a:lnTo>
                  <a:lnTo>
                    <a:pt x="1555" y="68"/>
                  </a:lnTo>
                  <a:lnTo>
                    <a:pt x="1522" y="74"/>
                  </a:lnTo>
                  <a:lnTo>
                    <a:pt x="1499" y="77"/>
                  </a:lnTo>
                  <a:lnTo>
                    <a:pt x="1469" y="86"/>
                  </a:lnTo>
                  <a:lnTo>
                    <a:pt x="1436" y="90"/>
                  </a:lnTo>
                  <a:lnTo>
                    <a:pt x="1407" y="104"/>
                  </a:lnTo>
                  <a:lnTo>
                    <a:pt x="1382" y="112"/>
                  </a:lnTo>
                  <a:lnTo>
                    <a:pt x="1359" y="125"/>
                  </a:lnTo>
                  <a:lnTo>
                    <a:pt x="1329" y="142"/>
                  </a:lnTo>
                  <a:lnTo>
                    <a:pt x="1305" y="154"/>
                  </a:lnTo>
                  <a:lnTo>
                    <a:pt x="1289" y="172"/>
                  </a:lnTo>
                  <a:lnTo>
                    <a:pt x="1267" y="189"/>
                  </a:lnTo>
                  <a:lnTo>
                    <a:pt x="1242" y="206"/>
                  </a:lnTo>
                  <a:lnTo>
                    <a:pt x="1226" y="228"/>
                  </a:lnTo>
                  <a:lnTo>
                    <a:pt x="1210" y="249"/>
                  </a:lnTo>
                  <a:lnTo>
                    <a:pt x="1210" y="249"/>
                  </a:lnTo>
                  <a:lnTo>
                    <a:pt x="1178" y="237"/>
                  </a:lnTo>
                  <a:lnTo>
                    <a:pt x="1142" y="223"/>
                  </a:lnTo>
                  <a:lnTo>
                    <a:pt x="1102" y="215"/>
                  </a:lnTo>
                  <a:lnTo>
                    <a:pt x="1070" y="206"/>
                  </a:lnTo>
                  <a:lnTo>
                    <a:pt x="1032" y="198"/>
                  </a:lnTo>
                  <a:lnTo>
                    <a:pt x="993" y="194"/>
                  </a:lnTo>
                  <a:lnTo>
                    <a:pt x="952" y="189"/>
                  </a:lnTo>
                  <a:lnTo>
                    <a:pt x="914" y="189"/>
                  </a:lnTo>
                  <a:lnTo>
                    <a:pt x="883" y="189"/>
                  </a:lnTo>
                  <a:lnTo>
                    <a:pt x="851" y="194"/>
                  </a:lnTo>
                  <a:lnTo>
                    <a:pt x="827" y="198"/>
                  </a:lnTo>
                  <a:lnTo>
                    <a:pt x="797" y="198"/>
                  </a:lnTo>
                  <a:lnTo>
                    <a:pt x="767" y="206"/>
                  </a:lnTo>
                  <a:lnTo>
                    <a:pt x="743" y="211"/>
                  </a:lnTo>
                  <a:lnTo>
                    <a:pt x="713" y="215"/>
                  </a:lnTo>
                  <a:lnTo>
                    <a:pt x="687" y="223"/>
                  </a:lnTo>
                  <a:lnTo>
                    <a:pt x="664" y="233"/>
                  </a:lnTo>
                  <a:lnTo>
                    <a:pt x="633" y="245"/>
                  </a:lnTo>
                  <a:lnTo>
                    <a:pt x="610" y="254"/>
                  </a:lnTo>
                  <a:lnTo>
                    <a:pt x="585" y="267"/>
                  </a:lnTo>
                  <a:lnTo>
                    <a:pt x="562" y="279"/>
                  </a:lnTo>
                  <a:lnTo>
                    <a:pt x="540" y="293"/>
                  </a:lnTo>
                  <a:lnTo>
                    <a:pt x="524" y="305"/>
                  </a:lnTo>
                  <a:lnTo>
                    <a:pt x="499" y="319"/>
                  </a:lnTo>
                  <a:lnTo>
                    <a:pt x="478" y="335"/>
                  </a:lnTo>
                  <a:lnTo>
                    <a:pt x="461" y="349"/>
                  </a:lnTo>
                  <a:lnTo>
                    <a:pt x="445" y="366"/>
                  </a:lnTo>
                  <a:lnTo>
                    <a:pt x="431" y="384"/>
                  </a:lnTo>
                  <a:lnTo>
                    <a:pt x="416" y="403"/>
                  </a:lnTo>
                  <a:lnTo>
                    <a:pt x="398" y="421"/>
                  </a:lnTo>
                  <a:lnTo>
                    <a:pt x="384" y="439"/>
                  </a:lnTo>
                  <a:lnTo>
                    <a:pt x="377" y="460"/>
                  </a:lnTo>
                  <a:lnTo>
                    <a:pt x="368" y="477"/>
                  </a:lnTo>
                  <a:lnTo>
                    <a:pt x="353" y="498"/>
                  </a:lnTo>
                  <a:lnTo>
                    <a:pt x="345" y="520"/>
                  </a:lnTo>
                  <a:lnTo>
                    <a:pt x="345" y="542"/>
                  </a:lnTo>
                  <a:lnTo>
                    <a:pt x="336" y="563"/>
                  </a:lnTo>
                  <a:lnTo>
                    <a:pt x="327" y="584"/>
                  </a:lnTo>
                  <a:lnTo>
                    <a:pt x="327" y="606"/>
                  </a:lnTo>
                  <a:lnTo>
                    <a:pt x="327" y="628"/>
                  </a:lnTo>
                  <a:lnTo>
                    <a:pt x="327" y="658"/>
                  </a:lnTo>
                  <a:lnTo>
                    <a:pt x="336" y="68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160" y="5772960"/>
              <a:ext cx="1349280" cy="56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80000" anchor="ctr" anchorCtr="1">
              <a:spAutoFit/>
            </a:bodyPr>
            <a:p>
              <a:pPr algn="ctr">
                <a:lnSpc>
                  <a:spcPts val="305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722840" y="6153120"/>
            <a:ext cx="1506600" cy="743040"/>
            <a:chOff x="4722840" y="6153120"/>
            <a:chExt cx="1506600" cy="743040"/>
          </a:xfrm>
        </p:grpSpPr>
        <p:sp>
          <p:nvSpPr>
            <p:cNvPr id="262" name=""/>
            <p:cNvSpPr/>
            <p:nvPr/>
          </p:nvSpPr>
          <p:spPr>
            <a:xfrm>
              <a:off x="4722840" y="6153120"/>
              <a:ext cx="1506600" cy="743040"/>
            </a:xfrm>
            <a:custGeom>
              <a:avLst/>
              <a:gdLst/>
              <a:ahLst/>
              <a:rect l="l" t="t" r="r" b="b"/>
              <a:pathLst>
                <a:path w="4187" h="2065">
                  <a:moveTo>
                    <a:pt x="375" y="688"/>
                  </a:moveTo>
                  <a:lnTo>
                    <a:pt x="332" y="691"/>
                  </a:lnTo>
                  <a:lnTo>
                    <a:pt x="295" y="701"/>
                  </a:lnTo>
                  <a:lnTo>
                    <a:pt x="262" y="704"/>
                  </a:lnTo>
                  <a:lnTo>
                    <a:pt x="228" y="718"/>
                  </a:lnTo>
                  <a:lnTo>
                    <a:pt x="193" y="731"/>
                  </a:lnTo>
                  <a:lnTo>
                    <a:pt x="159" y="747"/>
                  </a:lnTo>
                  <a:lnTo>
                    <a:pt x="132" y="762"/>
                  </a:lnTo>
                  <a:lnTo>
                    <a:pt x="106" y="778"/>
                  </a:lnTo>
                  <a:lnTo>
                    <a:pt x="79" y="799"/>
                  </a:lnTo>
                  <a:lnTo>
                    <a:pt x="63" y="821"/>
                  </a:lnTo>
                  <a:lnTo>
                    <a:pt x="43" y="842"/>
                  </a:lnTo>
                  <a:lnTo>
                    <a:pt x="29" y="869"/>
                  </a:lnTo>
                  <a:lnTo>
                    <a:pt x="10" y="890"/>
                  </a:lnTo>
                  <a:lnTo>
                    <a:pt x="0" y="919"/>
                  </a:lnTo>
                  <a:lnTo>
                    <a:pt x="0" y="946"/>
                  </a:lnTo>
                  <a:lnTo>
                    <a:pt x="0" y="972"/>
                  </a:lnTo>
                  <a:lnTo>
                    <a:pt x="0" y="989"/>
                  </a:lnTo>
                  <a:lnTo>
                    <a:pt x="0" y="1011"/>
                  </a:lnTo>
                  <a:lnTo>
                    <a:pt x="0" y="1027"/>
                  </a:lnTo>
                  <a:lnTo>
                    <a:pt x="10" y="1044"/>
                  </a:lnTo>
                  <a:lnTo>
                    <a:pt x="19" y="1062"/>
                  </a:lnTo>
                  <a:lnTo>
                    <a:pt x="29" y="1078"/>
                  </a:lnTo>
                  <a:lnTo>
                    <a:pt x="36" y="1097"/>
                  </a:lnTo>
                  <a:lnTo>
                    <a:pt x="53" y="1113"/>
                  </a:lnTo>
                  <a:lnTo>
                    <a:pt x="72" y="1126"/>
                  </a:lnTo>
                  <a:lnTo>
                    <a:pt x="79" y="1142"/>
                  </a:lnTo>
                  <a:lnTo>
                    <a:pt x="98" y="1156"/>
                  </a:lnTo>
                  <a:lnTo>
                    <a:pt x="114" y="1169"/>
                  </a:lnTo>
                  <a:lnTo>
                    <a:pt x="142" y="1182"/>
                  </a:lnTo>
                  <a:lnTo>
                    <a:pt x="159" y="1195"/>
                  </a:lnTo>
                  <a:lnTo>
                    <a:pt x="183" y="1208"/>
                  </a:lnTo>
                  <a:lnTo>
                    <a:pt x="202" y="1216"/>
                  </a:lnTo>
                  <a:lnTo>
                    <a:pt x="202" y="1213"/>
                  </a:lnTo>
                  <a:lnTo>
                    <a:pt x="175" y="1234"/>
                  </a:lnTo>
                  <a:lnTo>
                    <a:pt x="159" y="1256"/>
                  </a:lnTo>
                  <a:lnTo>
                    <a:pt x="132" y="1277"/>
                  </a:lnTo>
                  <a:lnTo>
                    <a:pt x="122" y="1303"/>
                  </a:lnTo>
                  <a:lnTo>
                    <a:pt x="106" y="1327"/>
                  </a:lnTo>
                  <a:lnTo>
                    <a:pt x="98" y="1354"/>
                  </a:lnTo>
                  <a:lnTo>
                    <a:pt x="89" y="1380"/>
                  </a:lnTo>
                  <a:lnTo>
                    <a:pt x="89" y="1406"/>
                  </a:lnTo>
                  <a:lnTo>
                    <a:pt x="89" y="1418"/>
                  </a:lnTo>
                  <a:lnTo>
                    <a:pt x="89" y="1435"/>
                  </a:lnTo>
                  <a:lnTo>
                    <a:pt x="98" y="1449"/>
                  </a:lnTo>
                  <a:lnTo>
                    <a:pt x="98" y="1462"/>
                  </a:lnTo>
                  <a:lnTo>
                    <a:pt x="106" y="1475"/>
                  </a:lnTo>
                  <a:lnTo>
                    <a:pt x="106" y="1491"/>
                  </a:lnTo>
                  <a:lnTo>
                    <a:pt x="122" y="1518"/>
                  </a:lnTo>
                  <a:lnTo>
                    <a:pt x="142" y="1539"/>
                  </a:lnTo>
                  <a:lnTo>
                    <a:pt x="159" y="1565"/>
                  </a:lnTo>
                  <a:lnTo>
                    <a:pt x="183" y="1586"/>
                  </a:lnTo>
                  <a:lnTo>
                    <a:pt x="212" y="1607"/>
                  </a:lnTo>
                  <a:lnTo>
                    <a:pt x="246" y="1626"/>
                  </a:lnTo>
                  <a:lnTo>
                    <a:pt x="272" y="1643"/>
                  </a:lnTo>
                  <a:lnTo>
                    <a:pt x="305" y="1655"/>
                  </a:lnTo>
                  <a:lnTo>
                    <a:pt x="352" y="1667"/>
                  </a:lnTo>
                  <a:lnTo>
                    <a:pt x="385" y="1677"/>
                  </a:lnTo>
                  <a:lnTo>
                    <a:pt x="428" y="1681"/>
                  </a:lnTo>
                  <a:lnTo>
                    <a:pt x="445" y="1684"/>
                  </a:lnTo>
                  <a:lnTo>
                    <a:pt x="472" y="1690"/>
                  </a:lnTo>
                  <a:lnTo>
                    <a:pt x="488" y="1690"/>
                  </a:lnTo>
                  <a:lnTo>
                    <a:pt x="507" y="1690"/>
                  </a:lnTo>
                  <a:lnTo>
                    <a:pt x="534" y="1690"/>
                  </a:lnTo>
                  <a:lnTo>
                    <a:pt x="558" y="1684"/>
                  </a:lnTo>
                  <a:lnTo>
                    <a:pt x="558" y="1690"/>
                  </a:lnTo>
                  <a:lnTo>
                    <a:pt x="584" y="1720"/>
                  </a:lnTo>
                  <a:lnTo>
                    <a:pt x="611" y="1745"/>
                  </a:lnTo>
                  <a:lnTo>
                    <a:pt x="647" y="1771"/>
                  </a:lnTo>
                  <a:lnTo>
                    <a:pt x="681" y="1791"/>
                  </a:lnTo>
                  <a:lnTo>
                    <a:pt x="717" y="1818"/>
                  </a:lnTo>
                  <a:lnTo>
                    <a:pt x="751" y="1840"/>
                  </a:lnTo>
                  <a:lnTo>
                    <a:pt x="796" y="1856"/>
                  </a:lnTo>
                  <a:lnTo>
                    <a:pt x="830" y="1875"/>
                  </a:lnTo>
                  <a:lnTo>
                    <a:pt x="873" y="1892"/>
                  </a:lnTo>
                  <a:lnTo>
                    <a:pt x="916" y="1904"/>
                  </a:lnTo>
                  <a:lnTo>
                    <a:pt x="969" y="1913"/>
                  </a:lnTo>
                  <a:lnTo>
                    <a:pt x="1013" y="1926"/>
                  </a:lnTo>
                  <a:lnTo>
                    <a:pt x="1056" y="1930"/>
                  </a:lnTo>
                  <a:lnTo>
                    <a:pt x="1109" y="1939"/>
                  </a:lnTo>
                  <a:lnTo>
                    <a:pt x="1162" y="1939"/>
                  </a:lnTo>
                  <a:lnTo>
                    <a:pt x="1203" y="1942"/>
                  </a:lnTo>
                  <a:lnTo>
                    <a:pt x="1256" y="1939"/>
                  </a:lnTo>
                  <a:lnTo>
                    <a:pt x="1309" y="1939"/>
                  </a:lnTo>
                  <a:lnTo>
                    <a:pt x="1361" y="1930"/>
                  </a:lnTo>
                  <a:lnTo>
                    <a:pt x="1404" y="1926"/>
                  </a:lnTo>
                  <a:lnTo>
                    <a:pt x="1457" y="1913"/>
                  </a:lnTo>
                  <a:lnTo>
                    <a:pt x="1499" y="1899"/>
                  </a:lnTo>
                  <a:lnTo>
                    <a:pt x="1544" y="1886"/>
                  </a:lnTo>
                  <a:lnTo>
                    <a:pt x="1597" y="1870"/>
                  </a:lnTo>
                  <a:lnTo>
                    <a:pt x="1587" y="1870"/>
                  </a:lnTo>
                  <a:lnTo>
                    <a:pt x="1612" y="1892"/>
                  </a:lnTo>
                  <a:lnTo>
                    <a:pt x="1640" y="1913"/>
                  </a:lnTo>
                  <a:lnTo>
                    <a:pt x="1667" y="1934"/>
                  </a:lnTo>
                  <a:lnTo>
                    <a:pt x="1701" y="1952"/>
                  </a:lnTo>
                  <a:lnTo>
                    <a:pt x="1727" y="1970"/>
                  </a:lnTo>
                  <a:lnTo>
                    <a:pt x="1760" y="1986"/>
                  </a:lnTo>
                  <a:lnTo>
                    <a:pt x="1787" y="2000"/>
                  </a:lnTo>
                  <a:lnTo>
                    <a:pt x="1823" y="2011"/>
                  </a:lnTo>
                  <a:lnTo>
                    <a:pt x="1864" y="2024"/>
                  </a:lnTo>
                  <a:lnTo>
                    <a:pt x="1900" y="2037"/>
                  </a:lnTo>
                  <a:lnTo>
                    <a:pt x="1937" y="2046"/>
                  </a:lnTo>
                  <a:lnTo>
                    <a:pt x="1980" y="2050"/>
                  </a:lnTo>
                  <a:lnTo>
                    <a:pt x="2013" y="2059"/>
                  </a:lnTo>
                  <a:lnTo>
                    <a:pt x="2049" y="2064"/>
                  </a:lnTo>
                  <a:lnTo>
                    <a:pt x="2093" y="2064"/>
                  </a:lnTo>
                  <a:lnTo>
                    <a:pt x="2136" y="2064"/>
                  </a:lnTo>
                  <a:lnTo>
                    <a:pt x="2163" y="2064"/>
                  </a:lnTo>
                  <a:lnTo>
                    <a:pt x="2189" y="2064"/>
                  </a:lnTo>
                  <a:lnTo>
                    <a:pt x="2216" y="2064"/>
                  </a:lnTo>
                  <a:lnTo>
                    <a:pt x="2240" y="2059"/>
                  </a:lnTo>
                  <a:lnTo>
                    <a:pt x="2266" y="2055"/>
                  </a:lnTo>
                  <a:lnTo>
                    <a:pt x="2295" y="2055"/>
                  </a:lnTo>
                  <a:lnTo>
                    <a:pt x="2346" y="2042"/>
                  </a:lnTo>
                  <a:lnTo>
                    <a:pt x="2389" y="2029"/>
                  </a:lnTo>
                  <a:lnTo>
                    <a:pt x="2442" y="2016"/>
                  </a:lnTo>
                  <a:lnTo>
                    <a:pt x="2485" y="2000"/>
                  </a:lnTo>
                  <a:lnTo>
                    <a:pt x="2528" y="1977"/>
                  </a:lnTo>
                  <a:lnTo>
                    <a:pt x="2562" y="1956"/>
                  </a:lnTo>
                  <a:lnTo>
                    <a:pt x="2598" y="1934"/>
                  </a:lnTo>
                  <a:lnTo>
                    <a:pt x="2631" y="1909"/>
                  </a:lnTo>
                  <a:lnTo>
                    <a:pt x="2668" y="1878"/>
                  </a:lnTo>
                  <a:lnTo>
                    <a:pt x="2694" y="1848"/>
                  </a:lnTo>
                  <a:lnTo>
                    <a:pt x="2721" y="1818"/>
                  </a:lnTo>
                  <a:lnTo>
                    <a:pt x="2745" y="1788"/>
                  </a:lnTo>
                  <a:lnTo>
                    <a:pt x="2755" y="1771"/>
                  </a:lnTo>
                  <a:lnTo>
                    <a:pt x="2764" y="1754"/>
                  </a:lnTo>
                  <a:lnTo>
                    <a:pt x="2764" y="1754"/>
                  </a:lnTo>
                  <a:lnTo>
                    <a:pt x="2800" y="1767"/>
                  </a:lnTo>
                  <a:lnTo>
                    <a:pt x="2834" y="1779"/>
                  </a:lnTo>
                  <a:lnTo>
                    <a:pt x="2867" y="1788"/>
                  </a:lnTo>
                  <a:lnTo>
                    <a:pt x="2904" y="1797"/>
                  </a:lnTo>
                  <a:lnTo>
                    <a:pt x="2937" y="1806"/>
                  </a:lnTo>
                  <a:lnTo>
                    <a:pt x="2983" y="1809"/>
                  </a:lnTo>
                  <a:lnTo>
                    <a:pt x="3016" y="1814"/>
                  </a:lnTo>
                  <a:lnTo>
                    <a:pt x="3060" y="1814"/>
                  </a:lnTo>
                  <a:lnTo>
                    <a:pt x="3087" y="1814"/>
                  </a:lnTo>
                  <a:lnTo>
                    <a:pt x="3113" y="1809"/>
                  </a:lnTo>
                  <a:lnTo>
                    <a:pt x="3140" y="1809"/>
                  </a:lnTo>
                  <a:lnTo>
                    <a:pt x="3175" y="1806"/>
                  </a:lnTo>
                  <a:lnTo>
                    <a:pt x="3199" y="1801"/>
                  </a:lnTo>
                  <a:lnTo>
                    <a:pt x="3226" y="1797"/>
                  </a:lnTo>
                  <a:lnTo>
                    <a:pt x="3252" y="1788"/>
                  </a:lnTo>
                  <a:lnTo>
                    <a:pt x="3278" y="1785"/>
                  </a:lnTo>
                  <a:lnTo>
                    <a:pt x="3296" y="1775"/>
                  </a:lnTo>
                  <a:lnTo>
                    <a:pt x="3323" y="1767"/>
                  </a:lnTo>
                  <a:lnTo>
                    <a:pt x="3349" y="1757"/>
                  </a:lnTo>
                  <a:lnTo>
                    <a:pt x="3372" y="1751"/>
                  </a:lnTo>
                  <a:lnTo>
                    <a:pt x="3392" y="1741"/>
                  </a:lnTo>
                  <a:lnTo>
                    <a:pt x="3409" y="1727"/>
                  </a:lnTo>
                  <a:lnTo>
                    <a:pt x="3451" y="1701"/>
                  </a:lnTo>
                  <a:lnTo>
                    <a:pt x="3488" y="1677"/>
                  </a:lnTo>
                  <a:lnTo>
                    <a:pt x="3504" y="1663"/>
                  </a:lnTo>
                  <a:lnTo>
                    <a:pt x="3522" y="1650"/>
                  </a:lnTo>
                  <a:lnTo>
                    <a:pt x="3541" y="1633"/>
                  </a:lnTo>
                  <a:lnTo>
                    <a:pt x="3549" y="1616"/>
                  </a:lnTo>
                  <a:lnTo>
                    <a:pt x="3565" y="1603"/>
                  </a:lnTo>
                  <a:lnTo>
                    <a:pt x="3575" y="1586"/>
                  </a:lnTo>
                  <a:lnTo>
                    <a:pt x="3582" y="1569"/>
                  </a:lnTo>
                  <a:lnTo>
                    <a:pt x="3591" y="1552"/>
                  </a:lnTo>
                  <a:lnTo>
                    <a:pt x="3601" y="1536"/>
                  </a:lnTo>
                  <a:lnTo>
                    <a:pt x="3610" y="1512"/>
                  </a:lnTo>
                  <a:lnTo>
                    <a:pt x="3610" y="1496"/>
                  </a:lnTo>
                  <a:lnTo>
                    <a:pt x="3618" y="1478"/>
                  </a:lnTo>
                  <a:lnTo>
                    <a:pt x="3618" y="1462"/>
                  </a:lnTo>
                  <a:lnTo>
                    <a:pt x="3618" y="1441"/>
                  </a:lnTo>
                  <a:lnTo>
                    <a:pt x="3618" y="1441"/>
                  </a:lnTo>
                  <a:lnTo>
                    <a:pt x="3644" y="1435"/>
                  </a:lnTo>
                  <a:lnTo>
                    <a:pt x="3681" y="1431"/>
                  </a:lnTo>
                  <a:lnTo>
                    <a:pt x="3705" y="1428"/>
                  </a:lnTo>
                  <a:lnTo>
                    <a:pt x="3731" y="1418"/>
                  </a:lnTo>
                  <a:lnTo>
                    <a:pt x="3765" y="1414"/>
                  </a:lnTo>
                  <a:lnTo>
                    <a:pt x="3793" y="1406"/>
                  </a:lnTo>
                  <a:lnTo>
                    <a:pt x="3817" y="1397"/>
                  </a:lnTo>
                  <a:lnTo>
                    <a:pt x="3844" y="1388"/>
                  </a:lnTo>
                  <a:lnTo>
                    <a:pt x="3870" y="1380"/>
                  </a:lnTo>
                  <a:lnTo>
                    <a:pt x="3887" y="1367"/>
                  </a:lnTo>
                  <a:lnTo>
                    <a:pt x="3913" y="1358"/>
                  </a:lnTo>
                  <a:lnTo>
                    <a:pt x="3940" y="1346"/>
                  </a:lnTo>
                  <a:lnTo>
                    <a:pt x="3984" y="1321"/>
                  </a:lnTo>
                  <a:lnTo>
                    <a:pt x="4019" y="1290"/>
                  </a:lnTo>
                  <a:lnTo>
                    <a:pt x="4037" y="1277"/>
                  </a:lnTo>
                  <a:lnTo>
                    <a:pt x="4053" y="1259"/>
                  </a:lnTo>
                  <a:lnTo>
                    <a:pt x="4070" y="1247"/>
                  </a:lnTo>
                  <a:lnTo>
                    <a:pt x="4090" y="1229"/>
                  </a:lnTo>
                  <a:lnTo>
                    <a:pt x="4106" y="1213"/>
                  </a:lnTo>
                  <a:lnTo>
                    <a:pt x="4116" y="1195"/>
                  </a:lnTo>
                  <a:lnTo>
                    <a:pt x="4123" y="1178"/>
                  </a:lnTo>
                  <a:lnTo>
                    <a:pt x="4140" y="1161"/>
                  </a:lnTo>
                  <a:lnTo>
                    <a:pt x="4149" y="1139"/>
                  </a:lnTo>
                  <a:lnTo>
                    <a:pt x="4159" y="1122"/>
                  </a:lnTo>
                  <a:lnTo>
                    <a:pt x="4167" y="1105"/>
                  </a:lnTo>
                  <a:lnTo>
                    <a:pt x="4167" y="1084"/>
                  </a:lnTo>
                  <a:lnTo>
                    <a:pt x="4176" y="1062"/>
                  </a:lnTo>
                  <a:lnTo>
                    <a:pt x="4176" y="1044"/>
                  </a:lnTo>
                  <a:lnTo>
                    <a:pt x="4176" y="1023"/>
                  </a:lnTo>
                  <a:lnTo>
                    <a:pt x="4186" y="1001"/>
                  </a:lnTo>
                  <a:lnTo>
                    <a:pt x="4176" y="983"/>
                  </a:lnTo>
                  <a:lnTo>
                    <a:pt x="4176" y="967"/>
                  </a:lnTo>
                  <a:lnTo>
                    <a:pt x="4176" y="949"/>
                  </a:lnTo>
                  <a:lnTo>
                    <a:pt x="4167" y="933"/>
                  </a:lnTo>
                  <a:lnTo>
                    <a:pt x="4167" y="912"/>
                  </a:lnTo>
                  <a:lnTo>
                    <a:pt x="4159" y="893"/>
                  </a:lnTo>
                  <a:lnTo>
                    <a:pt x="4149" y="876"/>
                  </a:lnTo>
                  <a:lnTo>
                    <a:pt x="4149" y="859"/>
                  </a:lnTo>
                  <a:lnTo>
                    <a:pt x="4140" y="842"/>
                  </a:lnTo>
                  <a:lnTo>
                    <a:pt x="4123" y="826"/>
                  </a:lnTo>
                  <a:lnTo>
                    <a:pt x="4116" y="812"/>
                  </a:lnTo>
                  <a:lnTo>
                    <a:pt x="4106" y="795"/>
                  </a:lnTo>
                  <a:lnTo>
                    <a:pt x="4090" y="778"/>
                  </a:lnTo>
                  <a:lnTo>
                    <a:pt x="4070" y="765"/>
                  </a:lnTo>
                  <a:lnTo>
                    <a:pt x="4046" y="734"/>
                  </a:lnTo>
                  <a:lnTo>
                    <a:pt x="4046" y="734"/>
                  </a:lnTo>
                  <a:lnTo>
                    <a:pt x="4053" y="718"/>
                  </a:lnTo>
                  <a:lnTo>
                    <a:pt x="4061" y="701"/>
                  </a:lnTo>
                  <a:lnTo>
                    <a:pt x="4070" y="683"/>
                  </a:lnTo>
                  <a:lnTo>
                    <a:pt x="4070" y="667"/>
                  </a:lnTo>
                  <a:lnTo>
                    <a:pt x="4080" y="649"/>
                  </a:lnTo>
                  <a:lnTo>
                    <a:pt x="4080" y="633"/>
                  </a:lnTo>
                  <a:lnTo>
                    <a:pt x="4080" y="615"/>
                  </a:lnTo>
                  <a:lnTo>
                    <a:pt x="4090" y="597"/>
                  </a:lnTo>
                  <a:lnTo>
                    <a:pt x="4080" y="567"/>
                  </a:lnTo>
                  <a:lnTo>
                    <a:pt x="4080" y="542"/>
                  </a:lnTo>
                  <a:lnTo>
                    <a:pt x="4070" y="511"/>
                  </a:lnTo>
                  <a:lnTo>
                    <a:pt x="4053" y="485"/>
                  </a:lnTo>
                  <a:lnTo>
                    <a:pt x="4046" y="460"/>
                  </a:lnTo>
                  <a:lnTo>
                    <a:pt x="4027" y="434"/>
                  </a:lnTo>
                  <a:lnTo>
                    <a:pt x="4000" y="408"/>
                  </a:lnTo>
                  <a:lnTo>
                    <a:pt x="3976" y="387"/>
                  </a:lnTo>
                  <a:lnTo>
                    <a:pt x="3948" y="366"/>
                  </a:lnTo>
                  <a:lnTo>
                    <a:pt x="3923" y="344"/>
                  </a:lnTo>
                  <a:lnTo>
                    <a:pt x="3897" y="327"/>
                  </a:lnTo>
                  <a:lnTo>
                    <a:pt x="3864" y="310"/>
                  </a:lnTo>
                  <a:lnTo>
                    <a:pt x="3827" y="297"/>
                  </a:lnTo>
                  <a:lnTo>
                    <a:pt x="3784" y="283"/>
                  </a:lnTo>
                  <a:lnTo>
                    <a:pt x="3748" y="270"/>
                  </a:lnTo>
                  <a:lnTo>
                    <a:pt x="3705" y="262"/>
                  </a:lnTo>
                  <a:lnTo>
                    <a:pt x="3705" y="262"/>
                  </a:lnTo>
                  <a:lnTo>
                    <a:pt x="3695" y="233"/>
                  </a:lnTo>
                  <a:lnTo>
                    <a:pt x="3687" y="206"/>
                  </a:lnTo>
                  <a:lnTo>
                    <a:pt x="3671" y="181"/>
                  </a:lnTo>
                  <a:lnTo>
                    <a:pt x="3652" y="159"/>
                  </a:lnTo>
                  <a:lnTo>
                    <a:pt x="3626" y="133"/>
                  </a:lnTo>
                  <a:lnTo>
                    <a:pt x="3601" y="112"/>
                  </a:lnTo>
                  <a:lnTo>
                    <a:pt x="3575" y="95"/>
                  </a:lnTo>
                  <a:lnTo>
                    <a:pt x="3549" y="77"/>
                  </a:lnTo>
                  <a:lnTo>
                    <a:pt x="3512" y="61"/>
                  </a:lnTo>
                  <a:lnTo>
                    <a:pt x="3478" y="43"/>
                  </a:lnTo>
                  <a:lnTo>
                    <a:pt x="3443" y="30"/>
                  </a:lnTo>
                  <a:lnTo>
                    <a:pt x="3409" y="21"/>
                  </a:lnTo>
                  <a:lnTo>
                    <a:pt x="3366" y="13"/>
                  </a:lnTo>
                  <a:lnTo>
                    <a:pt x="3329" y="9"/>
                  </a:lnTo>
                  <a:lnTo>
                    <a:pt x="3286" y="4"/>
                  </a:lnTo>
                  <a:lnTo>
                    <a:pt x="3245" y="0"/>
                  </a:lnTo>
                  <a:lnTo>
                    <a:pt x="3217" y="4"/>
                  </a:lnTo>
                  <a:lnTo>
                    <a:pt x="3190" y="4"/>
                  </a:lnTo>
                  <a:lnTo>
                    <a:pt x="3166" y="4"/>
                  </a:lnTo>
                  <a:lnTo>
                    <a:pt x="3140" y="9"/>
                  </a:lnTo>
                  <a:lnTo>
                    <a:pt x="3113" y="13"/>
                  </a:lnTo>
                  <a:lnTo>
                    <a:pt x="3095" y="18"/>
                  </a:lnTo>
                  <a:lnTo>
                    <a:pt x="3069" y="26"/>
                  </a:lnTo>
                  <a:lnTo>
                    <a:pt x="3043" y="30"/>
                  </a:lnTo>
                  <a:lnTo>
                    <a:pt x="3026" y="40"/>
                  </a:lnTo>
                  <a:lnTo>
                    <a:pt x="2997" y="47"/>
                  </a:lnTo>
                  <a:lnTo>
                    <a:pt x="2983" y="56"/>
                  </a:lnTo>
                  <a:lnTo>
                    <a:pt x="2957" y="64"/>
                  </a:lnTo>
                  <a:lnTo>
                    <a:pt x="2937" y="77"/>
                  </a:lnTo>
                  <a:lnTo>
                    <a:pt x="2920" y="90"/>
                  </a:lnTo>
                  <a:lnTo>
                    <a:pt x="2904" y="98"/>
                  </a:lnTo>
                  <a:lnTo>
                    <a:pt x="2887" y="112"/>
                  </a:lnTo>
                  <a:lnTo>
                    <a:pt x="2887" y="112"/>
                  </a:lnTo>
                  <a:lnTo>
                    <a:pt x="2867" y="98"/>
                  </a:lnTo>
                  <a:lnTo>
                    <a:pt x="2851" y="90"/>
                  </a:lnTo>
                  <a:lnTo>
                    <a:pt x="2834" y="77"/>
                  </a:lnTo>
                  <a:lnTo>
                    <a:pt x="2814" y="64"/>
                  </a:lnTo>
                  <a:lnTo>
                    <a:pt x="2800" y="56"/>
                  </a:lnTo>
                  <a:lnTo>
                    <a:pt x="2781" y="47"/>
                  </a:lnTo>
                  <a:lnTo>
                    <a:pt x="2755" y="40"/>
                  </a:lnTo>
                  <a:lnTo>
                    <a:pt x="2737" y="30"/>
                  </a:lnTo>
                  <a:lnTo>
                    <a:pt x="2711" y="26"/>
                  </a:lnTo>
                  <a:lnTo>
                    <a:pt x="2694" y="18"/>
                  </a:lnTo>
                  <a:lnTo>
                    <a:pt x="2668" y="13"/>
                  </a:lnTo>
                  <a:lnTo>
                    <a:pt x="2641" y="9"/>
                  </a:lnTo>
                  <a:lnTo>
                    <a:pt x="2625" y="4"/>
                  </a:lnTo>
                  <a:lnTo>
                    <a:pt x="2598" y="4"/>
                  </a:lnTo>
                  <a:lnTo>
                    <a:pt x="2572" y="4"/>
                  </a:lnTo>
                  <a:lnTo>
                    <a:pt x="2548" y="0"/>
                  </a:lnTo>
                  <a:lnTo>
                    <a:pt x="2519" y="4"/>
                  </a:lnTo>
                  <a:lnTo>
                    <a:pt x="2485" y="4"/>
                  </a:lnTo>
                  <a:lnTo>
                    <a:pt x="2458" y="9"/>
                  </a:lnTo>
                  <a:lnTo>
                    <a:pt x="2432" y="13"/>
                  </a:lnTo>
                  <a:lnTo>
                    <a:pt x="2408" y="21"/>
                  </a:lnTo>
                  <a:lnTo>
                    <a:pt x="2379" y="26"/>
                  </a:lnTo>
                  <a:lnTo>
                    <a:pt x="2355" y="34"/>
                  </a:lnTo>
                  <a:lnTo>
                    <a:pt x="2328" y="43"/>
                  </a:lnTo>
                  <a:lnTo>
                    <a:pt x="2302" y="56"/>
                  </a:lnTo>
                  <a:lnTo>
                    <a:pt x="2275" y="68"/>
                  </a:lnTo>
                  <a:lnTo>
                    <a:pt x="2259" y="82"/>
                  </a:lnTo>
                  <a:lnTo>
                    <a:pt x="2240" y="95"/>
                  </a:lnTo>
                  <a:lnTo>
                    <a:pt x="2216" y="108"/>
                  </a:lnTo>
                  <a:lnTo>
                    <a:pt x="2196" y="125"/>
                  </a:lnTo>
                  <a:lnTo>
                    <a:pt x="2179" y="142"/>
                  </a:lnTo>
                  <a:lnTo>
                    <a:pt x="2173" y="159"/>
                  </a:lnTo>
                  <a:lnTo>
                    <a:pt x="2173" y="164"/>
                  </a:lnTo>
                  <a:lnTo>
                    <a:pt x="2136" y="142"/>
                  </a:lnTo>
                  <a:lnTo>
                    <a:pt x="2120" y="133"/>
                  </a:lnTo>
                  <a:lnTo>
                    <a:pt x="2093" y="120"/>
                  </a:lnTo>
                  <a:lnTo>
                    <a:pt x="2076" y="112"/>
                  </a:lnTo>
                  <a:lnTo>
                    <a:pt x="2049" y="104"/>
                  </a:lnTo>
                  <a:lnTo>
                    <a:pt x="2033" y="98"/>
                  </a:lnTo>
                  <a:lnTo>
                    <a:pt x="2006" y="90"/>
                  </a:lnTo>
                  <a:lnTo>
                    <a:pt x="1980" y="85"/>
                  </a:lnTo>
                  <a:lnTo>
                    <a:pt x="1963" y="77"/>
                  </a:lnTo>
                  <a:lnTo>
                    <a:pt x="1937" y="74"/>
                  </a:lnTo>
                  <a:lnTo>
                    <a:pt x="1910" y="68"/>
                  </a:lnTo>
                  <a:lnTo>
                    <a:pt x="1884" y="68"/>
                  </a:lnTo>
                  <a:lnTo>
                    <a:pt x="1860" y="64"/>
                  </a:lnTo>
                  <a:lnTo>
                    <a:pt x="1831" y="64"/>
                  </a:lnTo>
                  <a:lnTo>
                    <a:pt x="1813" y="64"/>
                  </a:lnTo>
                  <a:lnTo>
                    <a:pt x="1770" y="64"/>
                  </a:lnTo>
                  <a:lnTo>
                    <a:pt x="1737" y="68"/>
                  </a:lnTo>
                  <a:lnTo>
                    <a:pt x="1701" y="74"/>
                  </a:lnTo>
                  <a:lnTo>
                    <a:pt x="1674" y="77"/>
                  </a:lnTo>
                  <a:lnTo>
                    <a:pt x="1640" y="85"/>
                  </a:lnTo>
                  <a:lnTo>
                    <a:pt x="1605" y="90"/>
                  </a:lnTo>
                  <a:lnTo>
                    <a:pt x="1571" y="104"/>
                  </a:lnTo>
                  <a:lnTo>
                    <a:pt x="1544" y="112"/>
                  </a:lnTo>
                  <a:lnTo>
                    <a:pt x="1518" y="125"/>
                  </a:lnTo>
                  <a:lnTo>
                    <a:pt x="1484" y="142"/>
                  </a:lnTo>
                  <a:lnTo>
                    <a:pt x="1457" y="154"/>
                  </a:lnTo>
                  <a:lnTo>
                    <a:pt x="1439" y="172"/>
                  </a:lnTo>
                  <a:lnTo>
                    <a:pt x="1414" y="189"/>
                  </a:lnTo>
                  <a:lnTo>
                    <a:pt x="1388" y="206"/>
                  </a:lnTo>
                  <a:lnTo>
                    <a:pt x="1369" y="228"/>
                  </a:lnTo>
                  <a:lnTo>
                    <a:pt x="1351" y="249"/>
                  </a:lnTo>
                  <a:lnTo>
                    <a:pt x="1351" y="249"/>
                  </a:lnTo>
                  <a:lnTo>
                    <a:pt x="1316" y="237"/>
                  </a:lnTo>
                  <a:lnTo>
                    <a:pt x="1275" y="223"/>
                  </a:lnTo>
                  <a:lnTo>
                    <a:pt x="1231" y="215"/>
                  </a:lnTo>
                  <a:lnTo>
                    <a:pt x="1196" y="206"/>
                  </a:lnTo>
                  <a:lnTo>
                    <a:pt x="1152" y="198"/>
                  </a:lnTo>
                  <a:lnTo>
                    <a:pt x="1109" y="193"/>
                  </a:lnTo>
                  <a:lnTo>
                    <a:pt x="1064" y="189"/>
                  </a:lnTo>
                  <a:lnTo>
                    <a:pt x="1020" y="189"/>
                  </a:lnTo>
                  <a:lnTo>
                    <a:pt x="987" y="189"/>
                  </a:lnTo>
                  <a:lnTo>
                    <a:pt x="950" y="193"/>
                  </a:lnTo>
                  <a:lnTo>
                    <a:pt x="924" y="198"/>
                  </a:lnTo>
                  <a:lnTo>
                    <a:pt x="890" y="198"/>
                  </a:lnTo>
                  <a:lnTo>
                    <a:pt x="857" y="206"/>
                  </a:lnTo>
                  <a:lnTo>
                    <a:pt x="830" y="211"/>
                  </a:lnTo>
                  <a:lnTo>
                    <a:pt x="796" y="215"/>
                  </a:lnTo>
                  <a:lnTo>
                    <a:pt x="767" y="223"/>
                  </a:lnTo>
                  <a:lnTo>
                    <a:pt x="741" y="233"/>
                  </a:lnTo>
                  <a:lnTo>
                    <a:pt x="708" y="245"/>
                  </a:lnTo>
                  <a:lnTo>
                    <a:pt x="681" y="254"/>
                  </a:lnTo>
                  <a:lnTo>
                    <a:pt x="655" y="267"/>
                  </a:lnTo>
                  <a:lnTo>
                    <a:pt x="628" y="279"/>
                  </a:lnTo>
                  <a:lnTo>
                    <a:pt x="604" y="293"/>
                  </a:lnTo>
                  <a:lnTo>
                    <a:pt x="584" y="305"/>
                  </a:lnTo>
                  <a:lnTo>
                    <a:pt x="558" y="317"/>
                  </a:lnTo>
                  <a:lnTo>
                    <a:pt x="534" y="335"/>
                  </a:lnTo>
                  <a:lnTo>
                    <a:pt x="515" y="348"/>
                  </a:lnTo>
                  <a:lnTo>
                    <a:pt x="498" y="366"/>
                  </a:lnTo>
                  <a:lnTo>
                    <a:pt x="481" y="384"/>
                  </a:lnTo>
                  <a:lnTo>
                    <a:pt x="464" y="403"/>
                  </a:lnTo>
                  <a:lnTo>
                    <a:pt x="445" y="421"/>
                  </a:lnTo>
                  <a:lnTo>
                    <a:pt x="428" y="439"/>
                  </a:lnTo>
                  <a:lnTo>
                    <a:pt x="421" y="460"/>
                  </a:lnTo>
                  <a:lnTo>
                    <a:pt x="411" y="477"/>
                  </a:lnTo>
                  <a:lnTo>
                    <a:pt x="395" y="498"/>
                  </a:lnTo>
                  <a:lnTo>
                    <a:pt x="385" y="519"/>
                  </a:lnTo>
                  <a:lnTo>
                    <a:pt x="385" y="542"/>
                  </a:lnTo>
                  <a:lnTo>
                    <a:pt x="375" y="563"/>
                  </a:lnTo>
                  <a:lnTo>
                    <a:pt x="366" y="584"/>
                  </a:lnTo>
                  <a:lnTo>
                    <a:pt x="366" y="606"/>
                  </a:lnTo>
                  <a:lnTo>
                    <a:pt x="366" y="627"/>
                  </a:lnTo>
                  <a:lnTo>
                    <a:pt x="366" y="657"/>
                  </a:lnTo>
                  <a:lnTo>
                    <a:pt x="375" y="68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2840" y="6240600"/>
              <a:ext cx="1506600" cy="56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80000" anchor="ctr" anchorCtr="1">
              <a:spAutoFit/>
            </a:bodyPr>
            <a:p>
              <a:pPr algn="ctr">
                <a:lnSpc>
                  <a:spcPts val="305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ridF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8532720" y="1716120"/>
            <a:ext cx="1430280" cy="811080"/>
            <a:chOff x="8532720" y="1716120"/>
            <a:chExt cx="1430280" cy="811080"/>
          </a:xfrm>
        </p:grpSpPr>
        <p:sp>
          <p:nvSpPr>
            <p:cNvPr id="265" name=""/>
            <p:cNvSpPr/>
            <p:nvPr/>
          </p:nvSpPr>
          <p:spPr>
            <a:xfrm>
              <a:off x="8532720" y="1716120"/>
              <a:ext cx="1430280" cy="811080"/>
            </a:xfrm>
            <a:custGeom>
              <a:avLst/>
              <a:gdLst/>
              <a:ahLst/>
              <a:rect l="l" t="t" r="r" b="b"/>
              <a:pathLst>
                <a:path w="3973" h="2254">
                  <a:moveTo>
                    <a:pt x="356" y="752"/>
                  </a:moveTo>
                  <a:lnTo>
                    <a:pt x="315" y="755"/>
                  </a:lnTo>
                  <a:lnTo>
                    <a:pt x="281" y="766"/>
                  </a:lnTo>
                  <a:lnTo>
                    <a:pt x="249" y="769"/>
                  </a:lnTo>
                  <a:lnTo>
                    <a:pt x="217" y="784"/>
                  </a:lnTo>
                  <a:lnTo>
                    <a:pt x="183" y="798"/>
                  </a:lnTo>
                  <a:lnTo>
                    <a:pt x="151" y="817"/>
                  </a:lnTo>
                  <a:lnTo>
                    <a:pt x="126" y="832"/>
                  </a:lnTo>
                  <a:lnTo>
                    <a:pt x="100" y="850"/>
                  </a:lnTo>
                  <a:lnTo>
                    <a:pt x="75" y="873"/>
                  </a:lnTo>
                  <a:lnTo>
                    <a:pt x="60" y="897"/>
                  </a:lnTo>
                  <a:lnTo>
                    <a:pt x="41" y="920"/>
                  </a:lnTo>
                  <a:lnTo>
                    <a:pt x="28" y="949"/>
                  </a:lnTo>
                  <a:lnTo>
                    <a:pt x="9" y="972"/>
                  </a:lnTo>
                  <a:lnTo>
                    <a:pt x="0" y="1004"/>
                  </a:lnTo>
                  <a:lnTo>
                    <a:pt x="0" y="1033"/>
                  </a:lnTo>
                  <a:lnTo>
                    <a:pt x="0" y="1062"/>
                  </a:lnTo>
                  <a:lnTo>
                    <a:pt x="0" y="1079"/>
                  </a:lnTo>
                  <a:lnTo>
                    <a:pt x="0" y="1105"/>
                  </a:lnTo>
                  <a:lnTo>
                    <a:pt x="0" y="1122"/>
                  </a:lnTo>
                  <a:lnTo>
                    <a:pt x="9" y="1141"/>
                  </a:lnTo>
                  <a:lnTo>
                    <a:pt x="19" y="1160"/>
                  </a:lnTo>
                  <a:lnTo>
                    <a:pt x="28" y="1178"/>
                  </a:lnTo>
                  <a:lnTo>
                    <a:pt x="34" y="1197"/>
                  </a:lnTo>
                  <a:lnTo>
                    <a:pt x="51" y="1216"/>
                  </a:lnTo>
                  <a:lnTo>
                    <a:pt x="68" y="1230"/>
                  </a:lnTo>
                  <a:lnTo>
                    <a:pt x="75" y="1248"/>
                  </a:lnTo>
                  <a:lnTo>
                    <a:pt x="94" y="1263"/>
                  </a:lnTo>
                  <a:lnTo>
                    <a:pt x="107" y="1277"/>
                  </a:lnTo>
                  <a:lnTo>
                    <a:pt x="134" y="1291"/>
                  </a:lnTo>
                  <a:lnTo>
                    <a:pt x="151" y="1305"/>
                  </a:lnTo>
                  <a:lnTo>
                    <a:pt x="173" y="1320"/>
                  </a:lnTo>
                  <a:lnTo>
                    <a:pt x="192" y="1328"/>
                  </a:lnTo>
                  <a:lnTo>
                    <a:pt x="192" y="1325"/>
                  </a:lnTo>
                  <a:lnTo>
                    <a:pt x="166" y="1348"/>
                  </a:lnTo>
                  <a:lnTo>
                    <a:pt x="151" y="1371"/>
                  </a:lnTo>
                  <a:lnTo>
                    <a:pt x="126" y="1394"/>
                  </a:lnTo>
                  <a:lnTo>
                    <a:pt x="117" y="1423"/>
                  </a:lnTo>
                  <a:lnTo>
                    <a:pt x="100" y="1451"/>
                  </a:lnTo>
                  <a:lnTo>
                    <a:pt x="94" y="1478"/>
                  </a:lnTo>
                  <a:lnTo>
                    <a:pt x="85" y="1507"/>
                  </a:lnTo>
                  <a:lnTo>
                    <a:pt x="85" y="1536"/>
                  </a:lnTo>
                  <a:lnTo>
                    <a:pt x="85" y="1549"/>
                  </a:lnTo>
                  <a:lnTo>
                    <a:pt x="85" y="1569"/>
                  </a:lnTo>
                  <a:lnTo>
                    <a:pt x="94" y="1582"/>
                  </a:lnTo>
                  <a:lnTo>
                    <a:pt x="94" y="1596"/>
                  </a:lnTo>
                  <a:lnTo>
                    <a:pt x="100" y="1611"/>
                  </a:lnTo>
                  <a:lnTo>
                    <a:pt x="100" y="1629"/>
                  </a:lnTo>
                  <a:lnTo>
                    <a:pt x="117" y="1658"/>
                  </a:lnTo>
                  <a:lnTo>
                    <a:pt x="134" y="1681"/>
                  </a:lnTo>
                  <a:lnTo>
                    <a:pt x="151" y="1710"/>
                  </a:lnTo>
                  <a:lnTo>
                    <a:pt x="173" y="1733"/>
                  </a:lnTo>
                  <a:lnTo>
                    <a:pt x="201" y="1756"/>
                  </a:lnTo>
                  <a:lnTo>
                    <a:pt x="233" y="1776"/>
                  </a:lnTo>
                  <a:lnTo>
                    <a:pt x="258" y="1794"/>
                  </a:lnTo>
                  <a:lnTo>
                    <a:pt x="290" y="1808"/>
                  </a:lnTo>
                  <a:lnTo>
                    <a:pt x="333" y="1821"/>
                  </a:lnTo>
                  <a:lnTo>
                    <a:pt x="365" y="1831"/>
                  </a:lnTo>
                  <a:lnTo>
                    <a:pt x="407" y="1837"/>
                  </a:lnTo>
                  <a:lnTo>
                    <a:pt x="422" y="1840"/>
                  </a:lnTo>
                  <a:lnTo>
                    <a:pt x="448" y="1845"/>
                  </a:lnTo>
                  <a:lnTo>
                    <a:pt x="463" y="1845"/>
                  </a:lnTo>
                  <a:lnTo>
                    <a:pt x="482" y="1845"/>
                  </a:lnTo>
                  <a:lnTo>
                    <a:pt x="507" y="1845"/>
                  </a:lnTo>
                  <a:lnTo>
                    <a:pt x="529" y="1840"/>
                  </a:lnTo>
                  <a:lnTo>
                    <a:pt x="529" y="1845"/>
                  </a:lnTo>
                  <a:lnTo>
                    <a:pt x="554" y="1877"/>
                  </a:lnTo>
                  <a:lnTo>
                    <a:pt x="580" y="1906"/>
                  </a:lnTo>
                  <a:lnTo>
                    <a:pt x="614" y="1935"/>
                  </a:lnTo>
                  <a:lnTo>
                    <a:pt x="646" y="1957"/>
                  </a:lnTo>
                  <a:lnTo>
                    <a:pt x="680" y="1985"/>
                  </a:lnTo>
                  <a:lnTo>
                    <a:pt x="712" y="2010"/>
                  </a:lnTo>
                  <a:lnTo>
                    <a:pt x="755" y="2028"/>
                  </a:lnTo>
                  <a:lnTo>
                    <a:pt x="787" y="2048"/>
                  </a:lnTo>
                  <a:lnTo>
                    <a:pt x="829" y="2066"/>
                  </a:lnTo>
                  <a:lnTo>
                    <a:pt x="870" y="2080"/>
                  </a:lnTo>
                  <a:lnTo>
                    <a:pt x="919" y="2089"/>
                  </a:lnTo>
                  <a:lnTo>
                    <a:pt x="961" y="2103"/>
                  </a:lnTo>
                  <a:lnTo>
                    <a:pt x="1002" y="2109"/>
                  </a:lnTo>
                  <a:lnTo>
                    <a:pt x="1053" y="2118"/>
                  </a:lnTo>
                  <a:lnTo>
                    <a:pt x="1102" y="2118"/>
                  </a:lnTo>
                  <a:lnTo>
                    <a:pt x="1141" y="2122"/>
                  </a:lnTo>
                  <a:lnTo>
                    <a:pt x="1192" y="2118"/>
                  </a:lnTo>
                  <a:lnTo>
                    <a:pt x="1241" y="2118"/>
                  </a:lnTo>
                  <a:lnTo>
                    <a:pt x="1292" y="2109"/>
                  </a:lnTo>
                  <a:lnTo>
                    <a:pt x="1333" y="2103"/>
                  </a:lnTo>
                  <a:lnTo>
                    <a:pt x="1383" y="2089"/>
                  </a:lnTo>
                  <a:lnTo>
                    <a:pt x="1422" y="2075"/>
                  </a:lnTo>
                  <a:lnTo>
                    <a:pt x="1465" y="2060"/>
                  </a:lnTo>
                  <a:lnTo>
                    <a:pt x="1516" y="2043"/>
                  </a:lnTo>
                  <a:lnTo>
                    <a:pt x="1507" y="2043"/>
                  </a:lnTo>
                  <a:lnTo>
                    <a:pt x="1529" y="2066"/>
                  </a:lnTo>
                  <a:lnTo>
                    <a:pt x="1557" y="2089"/>
                  </a:lnTo>
                  <a:lnTo>
                    <a:pt x="1582" y="2112"/>
                  </a:lnTo>
                  <a:lnTo>
                    <a:pt x="1614" y="2132"/>
                  </a:lnTo>
                  <a:lnTo>
                    <a:pt x="1639" y="2152"/>
                  </a:lnTo>
                  <a:lnTo>
                    <a:pt x="1671" y="2169"/>
                  </a:lnTo>
                  <a:lnTo>
                    <a:pt x="1697" y="2184"/>
                  </a:lnTo>
                  <a:lnTo>
                    <a:pt x="1731" y="2197"/>
                  </a:lnTo>
                  <a:lnTo>
                    <a:pt x="1769" y="2211"/>
                  </a:lnTo>
                  <a:lnTo>
                    <a:pt x="1803" y="2226"/>
                  </a:lnTo>
                  <a:lnTo>
                    <a:pt x="1838" y="2234"/>
                  </a:lnTo>
                  <a:lnTo>
                    <a:pt x="1878" y="2239"/>
                  </a:lnTo>
                  <a:lnTo>
                    <a:pt x="1910" y="2250"/>
                  </a:lnTo>
                  <a:lnTo>
                    <a:pt x="1945" y="2253"/>
                  </a:lnTo>
                  <a:lnTo>
                    <a:pt x="1986" y="2253"/>
                  </a:lnTo>
                  <a:lnTo>
                    <a:pt x="2027" y="2253"/>
                  </a:lnTo>
                  <a:lnTo>
                    <a:pt x="2053" y="2253"/>
                  </a:lnTo>
                  <a:lnTo>
                    <a:pt x="2077" y="2253"/>
                  </a:lnTo>
                  <a:lnTo>
                    <a:pt x="2102" y="2253"/>
                  </a:lnTo>
                  <a:lnTo>
                    <a:pt x="2125" y="2250"/>
                  </a:lnTo>
                  <a:lnTo>
                    <a:pt x="2151" y="2244"/>
                  </a:lnTo>
                  <a:lnTo>
                    <a:pt x="2177" y="2244"/>
                  </a:lnTo>
                  <a:lnTo>
                    <a:pt x="2226" y="2230"/>
                  </a:lnTo>
                  <a:lnTo>
                    <a:pt x="2266" y="2216"/>
                  </a:lnTo>
                  <a:lnTo>
                    <a:pt x="2317" y="2201"/>
                  </a:lnTo>
                  <a:lnTo>
                    <a:pt x="2358" y="2184"/>
                  </a:lnTo>
                  <a:lnTo>
                    <a:pt x="2399" y="2160"/>
                  </a:lnTo>
                  <a:lnTo>
                    <a:pt x="2431" y="2135"/>
                  </a:lnTo>
                  <a:lnTo>
                    <a:pt x="2465" y="2112"/>
                  </a:lnTo>
                  <a:lnTo>
                    <a:pt x="2497" y="2086"/>
                  </a:lnTo>
                  <a:lnTo>
                    <a:pt x="2531" y="2051"/>
                  </a:lnTo>
                  <a:lnTo>
                    <a:pt x="2556" y="2017"/>
                  </a:lnTo>
                  <a:lnTo>
                    <a:pt x="2582" y="1985"/>
                  </a:lnTo>
                  <a:lnTo>
                    <a:pt x="2605" y="1953"/>
                  </a:lnTo>
                  <a:lnTo>
                    <a:pt x="2614" y="1935"/>
                  </a:lnTo>
                  <a:lnTo>
                    <a:pt x="2623" y="1916"/>
                  </a:lnTo>
                  <a:lnTo>
                    <a:pt x="2623" y="1916"/>
                  </a:lnTo>
                  <a:lnTo>
                    <a:pt x="2657" y="1930"/>
                  </a:lnTo>
                  <a:lnTo>
                    <a:pt x="2689" y="1943"/>
                  </a:lnTo>
                  <a:lnTo>
                    <a:pt x="2721" y="1953"/>
                  </a:lnTo>
                  <a:lnTo>
                    <a:pt x="2755" y="1962"/>
                  </a:lnTo>
                  <a:lnTo>
                    <a:pt x="2787" y="1972"/>
                  </a:lnTo>
                  <a:lnTo>
                    <a:pt x="2831" y="1977"/>
                  </a:lnTo>
                  <a:lnTo>
                    <a:pt x="2863" y="1982"/>
                  </a:lnTo>
                  <a:lnTo>
                    <a:pt x="2904" y="1982"/>
                  </a:lnTo>
                  <a:lnTo>
                    <a:pt x="2929" y="1982"/>
                  </a:lnTo>
                  <a:lnTo>
                    <a:pt x="2953" y="1977"/>
                  </a:lnTo>
                  <a:lnTo>
                    <a:pt x="2979" y="1977"/>
                  </a:lnTo>
                  <a:lnTo>
                    <a:pt x="3013" y="1972"/>
                  </a:lnTo>
                  <a:lnTo>
                    <a:pt x="3036" y="1968"/>
                  </a:lnTo>
                  <a:lnTo>
                    <a:pt x="3061" y="1962"/>
                  </a:lnTo>
                  <a:lnTo>
                    <a:pt x="3087" y="1953"/>
                  </a:lnTo>
                  <a:lnTo>
                    <a:pt x="3111" y="1949"/>
                  </a:lnTo>
                  <a:lnTo>
                    <a:pt x="3127" y="1939"/>
                  </a:lnTo>
                  <a:lnTo>
                    <a:pt x="3153" y="1930"/>
                  </a:lnTo>
                  <a:lnTo>
                    <a:pt x="3177" y="1919"/>
                  </a:lnTo>
                  <a:lnTo>
                    <a:pt x="3200" y="1911"/>
                  </a:lnTo>
                  <a:lnTo>
                    <a:pt x="3219" y="1902"/>
                  </a:lnTo>
                  <a:lnTo>
                    <a:pt x="3234" y="1887"/>
                  </a:lnTo>
                  <a:lnTo>
                    <a:pt x="3275" y="1859"/>
                  </a:lnTo>
                  <a:lnTo>
                    <a:pt x="3310" y="1831"/>
                  </a:lnTo>
                  <a:lnTo>
                    <a:pt x="3326" y="1817"/>
                  </a:lnTo>
                  <a:lnTo>
                    <a:pt x="3341" y="1802"/>
                  </a:lnTo>
                  <a:lnTo>
                    <a:pt x="3360" y="1784"/>
                  </a:lnTo>
                  <a:lnTo>
                    <a:pt x="3367" y="1765"/>
                  </a:lnTo>
                  <a:lnTo>
                    <a:pt x="3383" y="1751"/>
                  </a:lnTo>
                  <a:lnTo>
                    <a:pt x="3392" y="1733"/>
                  </a:lnTo>
                  <a:lnTo>
                    <a:pt x="3399" y="1713"/>
                  </a:lnTo>
                  <a:lnTo>
                    <a:pt x="3409" y="1695"/>
                  </a:lnTo>
                  <a:lnTo>
                    <a:pt x="3417" y="1677"/>
                  </a:lnTo>
                  <a:lnTo>
                    <a:pt x="3426" y="1652"/>
                  </a:lnTo>
                  <a:lnTo>
                    <a:pt x="3426" y="1634"/>
                  </a:lnTo>
                  <a:lnTo>
                    <a:pt x="3433" y="1615"/>
                  </a:lnTo>
                  <a:lnTo>
                    <a:pt x="3433" y="1596"/>
                  </a:lnTo>
                  <a:lnTo>
                    <a:pt x="3433" y="1573"/>
                  </a:lnTo>
                  <a:lnTo>
                    <a:pt x="3433" y="1573"/>
                  </a:lnTo>
                  <a:lnTo>
                    <a:pt x="3458" y="1569"/>
                  </a:lnTo>
                  <a:lnTo>
                    <a:pt x="3492" y="1563"/>
                  </a:lnTo>
                  <a:lnTo>
                    <a:pt x="3515" y="1559"/>
                  </a:lnTo>
                  <a:lnTo>
                    <a:pt x="3541" y="1549"/>
                  </a:lnTo>
                  <a:lnTo>
                    <a:pt x="3573" y="1544"/>
                  </a:lnTo>
                  <a:lnTo>
                    <a:pt x="3599" y="1536"/>
                  </a:lnTo>
                  <a:lnTo>
                    <a:pt x="3622" y="1526"/>
                  </a:lnTo>
                  <a:lnTo>
                    <a:pt x="3648" y="1516"/>
                  </a:lnTo>
                  <a:lnTo>
                    <a:pt x="3673" y="1507"/>
                  </a:lnTo>
                  <a:lnTo>
                    <a:pt x="3689" y="1493"/>
                  </a:lnTo>
                  <a:lnTo>
                    <a:pt x="3714" y="1484"/>
                  </a:lnTo>
                  <a:lnTo>
                    <a:pt x="3739" y="1469"/>
                  </a:lnTo>
                  <a:lnTo>
                    <a:pt x="3780" y="1442"/>
                  </a:lnTo>
                  <a:lnTo>
                    <a:pt x="3814" y="1409"/>
                  </a:lnTo>
                  <a:lnTo>
                    <a:pt x="3831" y="1394"/>
                  </a:lnTo>
                  <a:lnTo>
                    <a:pt x="3846" y="1375"/>
                  </a:lnTo>
                  <a:lnTo>
                    <a:pt x="3863" y="1363"/>
                  </a:lnTo>
                  <a:lnTo>
                    <a:pt x="3880" y="1343"/>
                  </a:lnTo>
                  <a:lnTo>
                    <a:pt x="3897" y="1325"/>
                  </a:lnTo>
                  <a:lnTo>
                    <a:pt x="3906" y="1305"/>
                  </a:lnTo>
                  <a:lnTo>
                    <a:pt x="3912" y="1286"/>
                  </a:lnTo>
                  <a:lnTo>
                    <a:pt x="3929" y="1268"/>
                  </a:lnTo>
                  <a:lnTo>
                    <a:pt x="3938" y="1245"/>
                  </a:lnTo>
                  <a:lnTo>
                    <a:pt x="3946" y="1226"/>
                  </a:lnTo>
                  <a:lnTo>
                    <a:pt x="3953" y="1207"/>
                  </a:lnTo>
                  <a:lnTo>
                    <a:pt x="3953" y="1183"/>
                  </a:lnTo>
                  <a:lnTo>
                    <a:pt x="3963" y="1160"/>
                  </a:lnTo>
                  <a:lnTo>
                    <a:pt x="3963" y="1141"/>
                  </a:lnTo>
                  <a:lnTo>
                    <a:pt x="3963" y="1117"/>
                  </a:lnTo>
                  <a:lnTo>
                    <a:pt x="3972" y="1094"/>
                  </a:lnTo>
                  <a:lnTo>
                    <a:pt x="3963" y="1075"/>
                  </a:lnTo>
                  <a:lnTo>
                    <a:pt x="3963" y="1056"/>
                  </a:lnTo>
                  <a:lnTo>
                    <a:pt x="3963" y="1037"/>
                  </a:lnTo>
                  <a:lnTo>
                    <a:pt x="3953" y="1019"/>
                  </a:lnTo>
                  <a:lnTo>
                    <a:pt x="3953" y="995"/>
                  </a:lnTo>
                  <a:lnTo>
                    <a:pt x="3946" y="976"/>
                  </a:lnTo>
                  <a:lnTo>
                    <a:pt x="3938" y="958"/>
                  </a:lnTo>
                  <a:lnTo>
                    <a:pt x="3938" y="938"/>
                  </a:lnTo>
                  <a:lnTo>
                    <a:pt x="3929" y="920"/>
                  </a:lnTo>
                  <a:lnTo>
                    <a:pt x="3912" y="902"/>
                  </a:lnTo>
                  <a:lnTo>
                    <a:pt x="3906" y="887"/>
                  </a:lnTo>
                  <a:lnTo>
                    <a:pt x="3897" y="869"/>
                  </a:lnTo>
                  <a:lnTo>
                    <a:pt x="3880" y="850"/>
                  </a:lnTo>
                  <a:lnTo>
                    <a:pt x="3863" y="836"/>
                  </a:lnTo>
                  <a:lnTo>
                    <a:pt x="3840" y="803"/>
                  </a:lnTo>
                  <a:lnTo>
                    <a:pt x="3840" y="803"/>
                  </a:lnTo>
                  <a:lnTo>
                    <a:pt x="3846" y="784"/>
                  </a:lnTo>
                  <a:lnTo>
                    <a:pt x="3853" y="766"/>
                  </a:lnTo>
                  <a:lnTo>
                    <a:pt x="3863" y="746"/>
                  </a:lnTo>
                  <a:lnTo>
                    <a:pt x="3863" y="729"/>
                  </a:lnTo>
                  <a:lnTo>
                    <a:pt x="3871" y="709"/>
                  </a:lnTo>
                  <a:lnTo>
                    <a:pt x="3871" y="691"/>
                  </a:lnTo>
                  <a:lnTo>
                    <a:pt x="3871" y="671"/>
                  </a:lnTo>
                  <a:lnTo>
                    <a:pt x="3880" y="654"/>
                  </a:lnTo>
                  <a:lnTo>
                    <a:pt x="3871" y="620"/>
                  </a:lnTo>
                  <a:lnTo>
                    <a:pt x="3871" y="592"/>
                  </a:lnTo>
                  <a:lnTo>
                    <a:pt x="3863" y="559"/>
                  </a:lnTo>
                  <a:lnTo>
                    <a:pt x="3846" y="530"/>
                  </a:lnTo>
                  <a:lnTo>
                    <a:pt x="3840" y="502"/>
                  </a:lnTo>
                  <a:lnTo>
                    <a:pt x="3821" y="474"/>
                  </a:lnTo>
                  <a:lnTo>
                    <a:pt x="3797" y="445"/>
                  </a:lnTo>
                  <a:lnTo>
                    <a:pt x="3773" y="422"/>
                  </a:lnTo>
                  <a:lnTo>
                    <a:pt x="3746" y="399"/>
                  </a:lnTo>
                  <a:lnTo>
                    <a:pt x="3723" y="376"/>
                  </a:lnTo>
                  <a:lnTo>
                    <a:pt x="3698" y="357"/>
                  </a:lnTo>
                  <a:lnTo>
                    <a:pt x="3666" y="338"/>
                  </a:lnTo>
                  <a:lnTo>
                    <a:pt x="3631" y="324"/>
                  </a:lnTo>
                  <a:lnTo>
                    <a:pt x="3590" y="310"/>
                  </a:lnTo>
                  <a:lnTo>
                    <a:pt x="3556" y="295"/>
                  </a:lnTo>
                  <a:lnTo>
                    <a:pt x="3515" y="287"/>
                  </a:lnTo>
                  <a:lnTo>
                    <a:pt x="3515" y="287"/>
                  </a:lnTo>
                  <a:lnTo>
                    <a:pt x="3507" y="254"/>
                  </a:lnTo>
                  <a:lnTo>
                    <a:pt x="3499" y="226"/>
                  </a:lnTo>
                  <a:lnTo>
                    <a:pt x="3483" y="197"/>
                  </a:lnTo>
                  <a:lnTo>
                    <a:pt x="3465" y="174"/>
                  </a:lnTo>
                  <a:lnTo>
                    <a:pt x="3440" y="146"/>
                  </a:lnTo>
                  <a:lnTo>
                    <a:pt x="3417" y="123"/>
                  </a:lnTo>
                  <a:lnTo>
                    <a:pt x="3392" y="104"/>
                  </a:lnTo>
                  <a:lnTo>
                    <a:pt x="3367" y="84"/>
                  </a:lnTo>
                  <a:lnTo>
                    <a:pt x="3332" y="66"/>
                  </a:lnTo>
                  <a:lnTo>
                    <a:pt x="3300" y="46"/>
                  </a:lnTo>
                  <a:lnTo>
                    <a:pt x="3266" y="32"/>
                  </a:lnTo>
                  <a:lnTo>
                    <a:pt x="3234" y="23"/>
                  </a:lnTo>
                  <a:lnTo>
                    <a:pt x="3194" y="14"/>
                  </a:lnTo>
                  <a:lnTo>
                    <a:pt x="3159" y="9"/>
                  </a:lnTo>
                  <a:lnTo>
                    <a:pt x="3119" y="6"/>
                  </a:lnTo>
                  <a:lnTo>
                    <a:pt x="3079" y="0"/>
                  </a:lnTo>
                  <a:lnTo>
                    <a:pt x="3052" y="6"/>
                  </a:lnTo>
                  <a:lnTo>
                    <a:pt x="3027" y="6"/>
                  </a:lnTo>
                  <a:lnTo>
                    <a:pt x="3004" y="6"/>
                  </a:lnTo>
                  <a:lnTo>
                    <a:pt x="2979" y="9"/>
                  </a:lnTo>
                  <a:lnTo>
                    <a:pt x="2953" y="14"/>
                  </a:lnTo>
                  <a:lnTo>
                    <a:pt x="2938" y="20"/>
                  </a:lnTo>
                  <a:lnTo>
                    <a:pt x="2912" y="29"/>
                  </a:lnTo>
                  <a:lnTo>
                    <a:pt x="2887" y="32"/>
                  </a:lnTo>
                  <a:lnTo>
                    <a:pt x="2872" y="43"/>
                  </a:lnTo>
                  <a:lnTo>
                    <a:pt x="2844" y="52"/>
                  </a:lnTo>
                  <a:lnTo>
                    <a:pt x="2831" y="61"/>
                  </a:lnTo>
                  <a:lnTo>
                    <a:pt x="2806" y="69"/>
                  </a:lnTo>
                  <a:lnTo>
                    <a:pt x="2787" y="84"/>
                  </a:lnTo>
                  <a:lnTo>
                    <a:pt x="2771" y="98"/>
                  </a:lnTo>
                  <a:lnTo>
                    <a:pt x="2755" y="108"/>
                  </a:lnTo>
                  <a:lnTo>
                    <a:pt x="2739" y="123"/>
                  </a:lnTo>
                  <a:lnTo>
                    <a:pt x="2739" y="123"/>
                  </a:lnTo>
                  <a:lnTo>
                    <a:pt x="2721" y="108"/>
                  </a:lnTo>
                  <a:lnTo>
                    <a:pt x="2705" y="98"/>
                  </a:lnTo>
                  <a:lnTo>
                    <a:pt x="2689" y="84"/>
                  </a:lnTo>
                  <a:lnTo>
                    <a:pt x="2671" y="69"/>
                  </a:lnTo>
                  <a:lnTo>
                    <a:pt x="2657" y="61"/>
                  </a:lnTo>
                  <a:lnTo>
                    <a:pt x="2639" y="52"/>
                  </a:lnTo>
                  <a:lnTo>
                    <a:pt x="2614" y="43"/>
                  </a:lnTo>
                  <a:lnTo>
                    <a:pt x="2597" y="32"/>
                  </a:lnTo>
                  <a:lnTo>
                    <a:pt x="2573" y="29"/>
                  </a:lnTo>
                  <a:lnTo>
                    <a:pt x="2556" y="20"/>
                  </a:lnTo>
                  <a:lnTo>
                    <a:pt x="2531" y="14"/>
                  </a:lnTo>
                  <a:lnTo>
                    <a:pt x="2507" y="9"/>
                  </a:lnTo>
                  <a:lnTo>
                    <a:pt x="2490" y="6"/>
                  </a:lnTo>
                  <a:lnTo>
                    <a:pt x="2465" y="6"/>
                  </a:lnTo>
                  <a:lnTo>
                    <a:pt x="2441" y="6"/>
                  </a:lnTo>
                  <a:lnTo>
                    <a:pt x="2417" y="0"/>
                  </a:lnTo>
                  <a:lnTo>
                    <a:pt x="2390" y="6"/>
                  </a:lnTo>
                  <a:lnTo>
                    <a:pt x="2358" y="6"/>
                  </a:lnTo>
                  <a:lnTo>
                    <a:pt x="2333" y="9"/>
                  </a:lnTo>
                  <a:lnTo>
                    <a:pt x="2307" y="14"/>
                  </a:lnTo>
                  <a:lnTo>
                    <a:pt x="2285" y="23"/>
                  </a:lnTo>
                  <a:lnTo>
                    <a:pt x="2258" y="29"/>
                  </a:lnTo>
                  <a:lnTo>
                    <a:pt x="2234" y="37"/>
                  </a:lnTo>
                  <a:lnTo>
                    <a:pt x="2209" y="46"/>
                  </a:lnTo>
                  <a:lnTo>
                    <a:pt x="2185" y="61"/>
                  </a:lnTo>
                  <a:lnTo>
                    <a:pt x="2160" y="75"/>
                  </a:lnTo>
                  <a:lnTo>
                    <a:pt x="2143" y="89"/>
                  </a:lnTo>
                  <a:lnTo>
                    <a:pt x="2125" y="104"/>
                  </a:lnTo>
                  <a:lnTo>
                    <a:pt x="2102" y="118"/>
                  </a:lnTo>
                  <a:lnTo>
                    <a:pt x="2085" y="136"/>
                  </a:lnTo>
                  <a:lnTo>
                    <a:pt x="2068" y="155"/>
                  </a:lnTo>
                  <a:lnTo>
                    <a:pt x="2061" y="174"/>
                  </a:lnTo>
                  <a:lnTo>
                    <a:pt x="2061" y="179"/>
                  </a:lnTo>
                  <a:lnTo>
                    <a:pt x="2027" y="155"/>
                  </a:lnTo>
                  <a:lnTo>
                    <a:pt x="2011" y="146"/>
                  </a:lnTo>
                  <a:lnTo>
                    <a:pt x="1986" y="131"/>
                  </a:lnTo>
                  <a:lnTo>
                    <a:pt x="1970" y="123"/>
                  </a:lnTo>
                  <a:lnTo>
                    <a:pt x="1945" y="112"/>
                  </a:lnTo>
                  <a:lnTo>
                    <a:pt x="1929" y="108"/>
                  </a:lnTo>
                  <a:lnTo>
                    <a:pt x="1904" y="98"/>
                  </a:lnTo>
                  <a:lnTo>
                    <a:pt x="1878" y="94"/>
                  </a:lnTo>
                  <a:lnTo>
                    <a:pt x="1863" y="84"/>
                  </a:lnTo>
                  <a:lnTo>
                    <a:pt x="1838" y="80"/>
                  </a:lnTo>
                  <a:lnTo>
                    <a:pt x="1812" y="75"/>
                  </a:lnTo>
                  <a:lnTo>
                    <a:pt x="1787" y="75"/>
                  </a:lnTo>
                  <a:lnTo>
                    <a:pt x="1765" y="69"/>
                  </a:lnTo>
                  <a:lnTo>
                    <a:pt x="1737" y="69"/>
                  </a:lnTo>
                  <a:lnTo>
                    <a:pt x="1721" y="69"/>
                  </a:lnTo>
                  <a:lnTo>
                    <a:pt x="1680" y="69"/>
                  </a:lnTo>
                  <a:lnTo>
                    <a:pt x="1648" y="75"/>
                  </a:lnTo>
                  <a:lnTo>
                    <a:pt x="1614" y="80"/>
                  </a:lnTo>
                  <a:lnTo>
                    <a:pt x="1589" y="84"/>
                  </a:lnTo>
                  <a:lnTo>
                    <a:pt x="1557" y="94"/>
                  </a:lnTo>
                  <a:lnTo>
                    <a:pt x="1522" y="98"/>
                  </a:lnTo>
                  <a:lnTo>
                    <a:pt x="1490" y="112"/>
                  </a:lnTo>
                  <a:lnTo>
                    <a:pt x="1465" y="123"/>
                  </a:lnTo>
                  <a:lnTo>
                    <a:pt x="1441" y="136"/>
                  </a:lnTo>
                  <a:lnTo>
                    <a:pt x="1409" y="155"/>
                  </a:lnTo>
                  <a:lnTo>
                    <a:pt x="1383" y="169"/>
                  </a:lnTo>
                  <a:lnTo>
                    <a:pt x="1365" y="187"/>
                  </a:lnTo>
                  <a:lnTo>
                    <a:pt x="1343" y="206"/>
                  </a:lnTo>
                  <a:lnTo>
                    <a:pt x="1317" y="226"/>
                  </a:lnTo>
                  <a:lnTo>
                    <a:pt x="1299" y="249"/>
                  </a:lnTo>
                  <a:lnTo>
                    <a:pt x="1283" y="272"/>
                  </a:lnTo>
                  <a:lnTo>
                    <a:pt x="1283" y="272"/>
                  </a:lnTo>
                  <a:lnTo>
                    <a:pt x="1249" y="259"/>
                  </a:lnTo>
                  <a:lnTo>
                    <a:pt x="1209" y="244"/>
                  </a:lnTo>
                  <a:lnTo>
                    <a:pt x="1169" y="235"/>
                  </a:lnTo>
                  <a:lnTo>
                    <a:pt x="1134" y="226"/>
                  </a:lnTo>
                  <a:lnTo>
                    <a:pt x="1094" y="216"/>
                  </a:lnTo>
                  <a:lnTo>
                    <a:pt x="1053" y="212"/>
                  </a:lnTo>
                  <a:lnTo>
                    <a:pt x="1009" y="206"/>
                  </a:lnTo>
                  <a:lnTo>
                    <a:pt x="968" y="206"/>
                  </a:lnTo>
                  <a:lnTo>
                    <a:pt x="936" y="206"/>
                  </a:lnTo>
                  <a:lnTo>
                    <a:pt x="902" y="212"/>
                  </a:lnTo>
                  <a:lnTo>
                    <a:pt x="876" y="216"/>
                  </a:lnTo>
                  <a:lnTo>
                    <a:pt x="844" y="216"/>
                  </a:lnTo>
                  <a:lnTo>
                    <a:pt x="812" y="226"/>
                  </a:lnTo>
                  <a:lnTo>
                    <a:pt x="787" y="229"/>
                  </a:lnTo>
                  <a:lnTo>
                    <a:pt x="755" y="235"/>
                  </a:lnTo>
                  <a:lnTo>
                    <a:pt x="729" y="244"/>
                  </a:lnTo>
                  <a:lnTo>
                    <a:pt x="703" y="254"/>
                  </a:lnTo>
                  <a:lnTo>
                    <a:pt x="671" y="267"/>
                  </a:lnTo>
                  <a:lnTo>
                    <a:pt x="646" y="278"/>
                  </a:lnTo>
                  <a:lnTo>
                    <a:pt x="621" y="292"/>
                  </a:lnTo>
                  <a:lnTo>
                    <a:pt x="595" y="304"/>
                  </a:lnTo>
                  <a:lnTo>
                    <a:pt x="573" y="320"/>
                  </a:lnTo>
                  <a:lnTo>
                    <a:pt x="554" y="333"/>
                  </a:lnTo>
                  <a:lnTo>
                    <a:pt x="529" y="347"/>
                  </a:lnTo>
                  <a:lnTo>
                    <a:pt x="507" y="366"/>
                  </a:lnTo>
                  <a:lnTo>
                    <a:pt x="488" y="381"/>
                  </a:lnTo>
                  <a:lnTo>
                    <a:pt x="473" y="399"/>
                  </a:lnTo>
                  <a:lnTo>
                    <a:pt x="456" y="419"/>
                  </a:lnTo>
                  <a:lnTo>
                    <a:pt x="441" y="441"/>
                  </a:lnTo>
                  <a:lnTo>
                    <a:pt x="422" y="460"/>
                  </a:lnTo>
                  <a:lnTo>
                    <a:pt x="407" y="480"/>
                  </a:lnTo>
                  <a:lnTo>
                    <a:pt x="399" y="502"/>
                  </a:lnTo>
                  <a:lnTo>
                    <a:pt x="390" y="521"/>
                  </a:lnTo>
                  <a:lnTo>
                    <a:pt x="375" y="545"/>
                  </a:lnTo>
                  <a:lnTo>
                    <a:pt x="365" y="568"/>
                  </a:lnTo>
                  <a:lnTo>
                    <a:pt x="365" y="592"/>
                  </a:lnTo>
                  <a:lnTo>
                    <a:pt x="356" y="615"/>
                  </a:lnTo>
                  <a:lnTo>
                    <a:pt x="347" y="637"/>
                  </a:lnTo>
                  <a:lnTo>
                    <a:pt x="347" y="663"/>
                  </a:lnTo>
                  <a:lnTo>
                    <a:pt x="347" y="686"/>
                  </a:lnTo>
                  <a:lnTo>
                    <a:pt x="347" y="718"/>
                  </a:lnTo>
                  <a:lnTo>
                    <a:pt x="356" y="75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32720" y="1819800"/>
              <a:ext cx="143028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180000" anchor="ctr" anchorCtr="1">
              <a:spAutoFit/>
            </a:bodyPr>
            <a:p>
              <a:pPr algn="ctr">
                <a:lnSpc>
                  <a:spcPts val="305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GateKee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327720" y="3233880"/>
            <a:ext cx="1268640" cy="744480"/>
            <a:chOff x="6327720" y="3233880"/>
            <a:chExt cx="1268640" cy="744480"/>
          </a:xfrm>
        </p:grpSpPr>
        <p:sp>
          <p:nvSpPr>
            <p:cNvPr id="268" name=""/>
            <p:cNvSpPr/>
            <p:nvPr/>
          </p:nvSpPr>
          <p:spPr>
            <a:xfrm>
              <a:off x="6327720" y="3233880"/>
              <a:ext cx="1268640" cy="744480"/>
            </a:xfrm>
            <a:custGeom>
              <a:avLst/>
              <a:gdLst/>
              <a:ahLst/>
              <a:rect l="l" t="t" r="r" b="b"/>
              <a:pathLst>
                <a:path w="3525" h="2066">
                  <a:moveTo>
                    <a:pt x="316" y="689"/>
                  </a:moveTo>
                  <a:lnTo>
                    <a:pt x="280" y="692"/>
                  </a:lnTo>
                  <a:lnTo>
                    <a:pt x="249" y="701"/>
                  </a:lnTo>
                  <a:lnTo>
                    <a:pt x="220" y="706"/>
                  </a:lnTo>
                  <a:lnTo>
                    <a:pt x="193" y="718"/>
                  </a:lnTo>
                  <a:lnTo>
                    <a:pt x="162" y="731"/>
                  </a:lnTo>
                  <a:lnTo>
                    <a:pt x="133" y="747"/>
                  </a:lnTo>
                  <a:lnTo>
                    <a:pt x="111" y="762"/>
                  </a:lnTo>
                  <a:lnTo>
                    <a:pt x="89" y="778"/>
                  </a:lnTo>
                  <a:lnTo>
                    <a:pt x="67" y="800"/>
                  </a:lnTo>
                  <a:lnTo>
                    <a:pt x="53" y="821"/>
                  </a:lnTo>
                  <a:lnTo>
                    <a:pt x="36" y="843"/>
                  </a:lnTo>
                  <a:lnTo>
                    <a:pt x="24" y="869"/>
                  </a:lnTo>
                  <a:lnTo>
                    <a:pt x="8" y="891"/>
                  </a:lnTo>
                  <a:lnTo>
                    <a:pt x="0" y="920"/>
                  </a:lnTo>
                  <a:lnTo>
                    <a:pt x="0" y="946"/>
                  </a:lnTo>
                  <a:lnTo>
                    <a:pt x="0" y="972"/>
                  </a:lnTo>
                  <a:lnTo>
                    <a:pt x="0" y="989"/>
                  </a:lnTo>
                  <a:lnTo>
                    <a:pt x="0" y="1011"/>
                  </a:lnTo>
                  <a:lnTo>
                    <a:pt x="0" y="1029"/>
                  </a:lnTo>
                  <a:lnTo>
                    <a:pt x="8" y="1045"/>
                  </a:lnTo>
                  <a:lnTo>
                    <a:pt x="17" y="1063"/>
                  </a:lnTo>
                  <a:lnTo>
                    <a:pt x="24" y="1079"/>
                  </a:lnTo>
                  <a:lnTo>
                    <a:pt x="31" y="1097"/>
                  </a:lnTo>
                  <a:lnTo>
                    <a:pt x="44" y="1113"/>
                  </a:lnTo>
                  <a:lnTo>
                    <a:pt x="61" y="1127"/>
                  </a:lnTo>
                  <a:lnTo>
                    <a:pt x="67" y="1143"/>
                  </a:lnTo>
                  <a:lnTo>
                    <a:pt x="83" y="1157"/>
                  </a:lnTo>
                  <a:lnTo>
                    <a:pt x="95" y="1170"/>
                  </a:lnTo>
                  <a:lnTo>
                    <a:pt x="119" y="1183"/>
                  </a:lnTo>
                  <a:lnTo>
                    <a:pt x="133" y="1195"/>
                  </a:lnTo>
                  <a:lnTo>
                    <a:pt x="154" y="1208"/>
                  </a:lnTo>
                  <a:lnTo>
                    <a:pt x="170" y="1217"/>
                  </a:lnTo>
                  <a:lnTo>
                    <a:pt x="170" y="1214"/>
                  </a:lnTo>
                  <a:lnTo>
                    <a:pt x="148" y="1235"/>
                  </a:lnTo>
                  <a:lnTo>
                    <a:pt x="133" y="1256"/>
                  </a:lnTo>
                  <a:lnTo>
                    <a:pt x="111" y="1278"/>
                  </a:lnTo>
                  <a:lnTo>
                    <a:pt x="104" y="1303"/>
                  </a:lnTo>
                  <a:lnTo>
                    <a:pt x="89" y="1328"/>
                  </a:lnTo>
                  <a:lnTo>
                    <a:pt x="83" y="1355"/>
                  </a:lnTo>
                  <a:lnTo>
                    <a:pt x="75" y="1380"/>
                  </a:lnTo>
                  <a:lnTo>
                    <a:pt x="75" y="1407"/>
                  </a:lnTo>
                  <a:lnTo>
                    <a:pt x="75" y="1419"/>
                  </a:lnTo>
                  <a:lnTo>
                    <a:pt x="75" y="1436"/>
                  </a:lnTo>
                  <a:lnTo>
                    <a:pt x="83" y="1450"/>
                  </a:lnTo>
                  <a:lnTo>
                    <a:pt x="83" y="1463"/>
                  </a:lnTo>
                  <a:lnTo>
                    <a:pt x="89" y="1475"/>
                  </a:lnTo>
                  <a:lnTo>
                    <a:pt x="89" y="1493"/>
                  </a:lnTo>
                  <a:lnTo>
                    <a:pt x="104" y="1518"/>
                  </a:lnTo>
                  <a:lnTo>
                    <a:pt x="119" y="1540"/>
                  </a:lnTo>
                  <a:lnTo>
                    <a:pt x="133" y="1565"/>
                  </a:lnTo>
                  <a:lnTo>
                    <a:pt x="154" y="1587"/>
                  </a:lnTo>
                  <a:lnTo>
                    <a:pt x="179" y="1608"/>
                  </a:lnTo>
                  <a:lnTo>
                    <a:pt x="206" y="1626"/>
                  </a:lnTo>
                  <a:lnTo>
                    <a:pt x="229" y="1643"/>
                  </a:lnTo>
                  <a:lnTo>
                    <a:pt x="257" y="1656"/>
                  </a:lnTo>
                  <a:lnTo>
                    <a:pt x="295" y="1668"/>
                  </a:lnTo>
                  <a:lnTo>
                    <a:pt x="324" y="1678"/>
                  </a:lnTo>
                  <a:lnTo>
                    <a:pt x="360" y="1682"/>
                  </a:lnTo>
                  <a:lnTo>
                    <a:pt x="375" y="1686"/>
                  </a:lnTo>
                  <a:lnTo>
                    <a:pt x="397" y="1690"/>
                  </a:lnTo>
                  <a:lnTo>
                    <a:pt x="411" y="1690"/>
                  </a:lnTo>
                  <a:lnTo>
                    <a:pt x="428" y="1690"/>
                  </a:lnTo>
                  <a:lnTo>
                    <a:pt x="450" y="1690"/>
                  </a:lnTo>
                  <a:lnTo>
                    <a:pt x="470" y="1686"/>
                  </a:lnTo>
                  <a:lnTo>
                    <a:pt x="470" y="1690"/>
                  </a:lnTo>
                  <a:lnTo>
                    <a:pt x="492" y="1720"/>
                  </a:lnTo>
                  <a:lnTo>
                    <a:pt x="515" y="1746"/>
                  </a:lnTo>
                  <a:lnTo>
                    <a:pt x="545" y="1773"/>
                  </a:lnTo>
                  <a:lnTo>
                    <a:pt x="573" y="1792"/>
                  </a:lnTo>
                  <a:lnTo>
                    <a:pt x="604" y="1819"/>
                  </a:lnTo>
                  <a:lnTo>
                    <a:pt x="632" y="1841"/>
                  </a:lnTo>
                  <a:lnTo>
                    <a:pt x="670" y="1857"/>
                  </a:lnTo>
                  <a:lnTo>
                    <a:pt x="699" y="1875"/>
                  </a:lnTo>
                  <a:lnTo>
                    <a:pt x="735" y="1892"/>
                  </a:lnTo>
                  <a:lnTo>
                    <a:pt x="772" y="1905"/>
                  </a:lnTo>
                  <a:lnTo>
                    <a:pt x="816" y="1914"/>
                  </a:lnTo>
                  <a:lnTo>
                    <a:pt x="853" y="1927"/>
                  </a:lnTo>
                  <a:lnTo>
                    <a:pt x="890" y="1931"/>
                  </a:lnTo>
                  <a:lnTo>
                    <a:pt x="934" y="1940"/>
                  </a:lnTo>
                  <a:lnTo>
                    <a:pt x="978" y="1940"/>
                  </a:lnTo>
                  <a:lnTo>
                    <a:pt x="1013" y="1943"/>
                  </a:lnTo>
                  <a:lnTo>
                    <a:pt x="1057" y="1940"/>
                  </a:lnTo>
                  <a:lnTo>
                    <a:pt x="1102" y="1940"/>
                  </a:lnTo>
                  <a:lnTo>
                    <a:pt x="1146" y="1931"/>
                  </a:lnTo>
                  <a:lnTo>
                    <a:pt x="1183" y="1927"/>
                  </a:lnTo>
                  <a:lnTo>
                    <a:pt x="1227" y="1914"/>
                  </a:lnTo>
                  <a:lnTo>
                    <a:pt x="1262" y="1900"/>
                  </a:lnTo>
                  <a:lnTo>
                    <a:pt x="1301" y="1887"/>
                  </a:lnTo>
                  <a:lnTo>
                    <a:pt x="1345" y="1871"/>
                  </a:lnTo>
                  <a:lnTo>
                    <a:pt x="1337" y="1871"/>
                  </a:lnTo>
                  <a:lnTo>
                    <a:pt x="1357" y="1892"/>
                  </a:lnTo>
                  <a:lnTo>
                    <a:pt x="1381" y="1914"/>
                  </a:lnTo>
                  <a:lnTo>
                    <a:pt x="1403" y="1935"/>
                  </a:lnTo>
                  <a:lnTo>
                    <a:pt x="1432" y="1952"/>
                  </a:lnTo>
                  <a:lnTo>
                    <a:pt x="1454" y="1971"/>
                  </a:lnTo>
                  <a:lnTo>
                    <a:pt x="1483" y="1988"/>
                  </a:lnTo>
                  <a:lnTo>
                    <a:pt x="1505" y="2000"/>
                  </a:lnTo>
                  <a:lnTo>
                    <a:pt x="1536" y="2012"/>
                  </a:lnTo>
                  <a:lnTo>
                    <a:pt x="1570" y="2025"/>
                  </a:lnTo>
                  <a:lnTo>
                    <a:pt x="1601" y="2038"/>
                  </a:lnTo>
                  <a:lnTo>
                    <a:pt x="1630" y="2046"/>
                  </a:lnTo>
                  <a:lnTo>
                    <a:pt x="1667" y="2051"/>
                  </a:lnTo>
                  <a:lnTo>
                    <a:pt x="1695" y="2060"/>
                  </a:lnTo>
                  <a:lnTo>
                    <a:pt x="1725" y="2065"/>
                  </a:lnTo>
                  <a:lnTo>
                    <a:pt x="1763" y="2065"/>
                  </a:lnTo>
                  <a:lnTo>
                    <a:pt x="1799" y="2065"/>
                  </a:lnTo>
                  <a:lnTo>
                    <a:pt x="1821" y="2065"/>
                  </a:lnTo>
                  <a:lnTo>
                    <a:pt x="1843" y="2065"/>
                  </a:lnTo>
                  <a:lnTo>
                    <a:pt x="1865" y="2065"/>
                  </a:lnTo>
                  <a:lnTo>
                    <a:pt x="1886" y="2060"/>
                  </a:lnTo>
                  <a:lnTo>
                    <a:pt x="1908" y="2056"/>
                  </a:lnTo>
                  <a:lnTo>
                    <a:pt x="1932" y="2056"/>
                  </a:lnTo>
                  <a:lnTo>
                    <a:pt x="1974" y="2043"/>
                  </a:lnTo>
                  <a:lnTo>
                    <a:pt x="2011" y="2029"/>
                  </a:lnTo>
                  <a:lnTo>
                    <a:pt x="2056" y="2017"/>
                  </a:lnTo>
                  <a:lnTo>
                    <a:pt x="2092" y="2000"/>
                  </a:lnTo>
                  <a:lnTo>
                    <a:pt x="2129" y="1978"/>
                  </a:lnTo>
                  <a:lnTo>
                    <a:pt x="2157" y="1957"/>
                  </a:lnTo>
                  <a:lnTo>
                    <a:pt x="2187" y="1935"/>
                  </a:lnTo>
                  <a:lnTo>
                    <a:pt x="2216" y="1910"/>
                  </a:lnTo>
                  <a:lnTo>
                    <a:pt x="2247" y="1880"/>
                  </a:lnTo>
                  <a:lnTo>
                    <a:pt x="2269" y="1849"/>
                  </a:lnTo>
                  <a:lnTo>
                    <a:pt x="2291" y="1819"/>
                  </a:lnTo>
                  <a:lnTo>
                    <a:pt x="2311" y="1789"/>
                  </a:lnTo>
                  <a:lnTo>
                    <a:pt x="2319" y="1773"/>
                  </a:lnTo>
                  <a:lnTo>
                    <a:pt x="2327" y="1755"/>
                  </a:lnTo>
                  <a:lnTo>
                    <a:pt x="2327" y="1755"/>
                  </a:lnTo>
                  <a:lnTo>
                    <a:pt x="2358" y="1767"/>
                  </a:lnTo>
                  <a:lnTo>
                    <a:pt x="2386" y="1780"/>
                  </a:lnTo>
                  <a:lnTo>
                    <a:pt x="2414" y="1789"/>
                  </a:lnTo>
                  <a:lnTo>
                    <a:pt x="2445" y="1797"/>
                  </a:lnTo>
                  <a:lnTo>
                    <a:pt x="2473" y="1807"/>
                  </a:lnTo>
                  <a:lnTo>
                    <a:pt x="2511" y="1810"/>
                  </a:lnTo>
                  <a:lnTo>
                    <a:pt x="2540" y="1814"/>
                  </a:lnTo>
                  <a:lnTo>
                    <a:pt x="2576" y="1814"/>
                  </a:lnTo>
                  <a:lnTo>
                    <a:pt x="2598" y="1814"/>
                  </a:lnTo>
                  <a:lnTo>
                    <a:pt x="2621" y="1810"/>
                  </a:lnTo>
                  <a:lnTo>
                    <a:pt x="2643" y="1810"/>
                  </a:lnTo>
                  <a:lnTo>
                    <a:pt x="2673" y="1807"/>
                  </a:lnTo>
                  <a:lnTo>
                    <a:pt x="2694" y="1802"/>
                  </a:lnTo>
                  <a:lnTo>
                    <a:pt x="2716" y="1797"/>
                  </a:lnTo>
                  <a:lnTo>
                    <a:pt x="2738" y="1789"/>
                  </a:lnTo>
                  <a:lnTo>
                    <a:pt x="2760" y="1786"/>
                  </a:lnTo>
                  <a:lnTo>
                    <a:pt x="2775" y="1776"/>
                  </a:lnTo>
                  <a:lnTo>
                    <a:pt x="2797" y="1767"/>
                  </a:lnTo>
                  <a:lnTo>
                    <a:pt x="2820" y="1758"/>
                  </a:lnTo>
                  <a:lnTo>
                    <a:pt x="2840" y="1751"/>
                  </a:lnTo>
                  <a:lnTo>
                    <a:pt x="2856" y="1742"/>
                  </a:lnTo>
                  <a:lnTo>
                    <a:pt x="2871" y="1729"/>
                  </a:lnTo>
                  <a:lnTo>
                    <a:pt x="2907" y="1702"/>
                  </a:lnTo>
                  <a:lnTo>
                    <a:pt x="2937" y="1678"/>
                  </a:lnTo>
                  <a:lnTo>
                    <a:pt x="2951" y="1665"/>
                  </a:lnTo>
                  <a:lnTo>
                    <a:pt x="2965" y="1651"/>
                  </a:lnTo>
                  <a:lnTo>
                    <a:pt x="2982" y="1634"/>
                  </a:lnTo>
                  <a:lnTo>
                    <a:pt x="2987" y="1617"/>
                  </a:lnTo>
                  <a:lnTo>
                    <a:pt x="3002" y="1604"/>
                  </a:lnTo>
                  <a:lnTo>
                    <a:pt x="3009" y="1587"/>
                  </a:lnTo>
                  <a:lnTo>
                    <a:pt x="3016" y="1570"/>
                  </a:lnTo>
                  <a:lnTo>
                    <a:pt x="3024" y="1552"/>
                  </a:lnTo>
                  <a:lnTo>
                    <a:pt x="3033" y="1536"/>
                  </a:lnTo>
                  <a:lnTo>
                    <a:pt x="3040" y="1514"/>
                  </a:lnTo>
                  <a:lnTo>
                    <a:pt x="3040" y="1497"/>
                  </a:lnTo>
                  <a:lnTo>
                    <a:pt x="3046" y="1479"/>
                  </a:lnTo>
                  <a:lnTo>
                    <a:pt x="3046" y="1463"/>
                  </a:lnTo>
                  <a:lnTo>
                    <a:pt x="3046" y="1441"/>
                  </a:lnTo>
                  <a:lnTo>
                    <a:pt x="3046" y="1441"/>
                  </a:lnTo>
                  <a:lnTo>
                    <a:pt x="3069" y="1436"/>
                  </a:lnTo>
                  <a:lnTo>
                    <a:pt x="3099" y="1432"/>
                  </a:lnTo>
                  <a:lnTo>
                    <a:pt x="3120" y="1428"/>
                  </a:lnTo>
                  <a:lnTo>
                    <a:pt x="3142" y="1419"/>
                  </a:lnTo>
                  <a:lnTo>
                    <a:pt x="3169" y="1415"/>
                  </a:lnTo>
                  <a:lnTo>
                    <a:pt x="3195" y="1407"/>
                  </a:lnTo>
                  <a:lnTo>
                    <a:pt x="3214" y="1397"/>
                  </a:lnTo>
                  <a:lnTo>
                    <a:pt x="3237" y="1389"/>
                  </a:lnTo>
                  <a:lnTo>
                    <a:pt x="3259" y="1380"/>
                  </a:lnTo>
                  <a:lnTo>
                    <a:pt x="3273" y="1367"/>
                  </a:lnTo>
                  <a:lnTo>
                    <a:pt x="3295" y="1359"/>
                  </a:lnTo>
                  <a:lnTo>
                    <a:pt x="3318" y="1346"/>
                  </a:lnTo>
                  <a:lnTo>
                    <a:pt x="3354" y="1321"/>
                  </a:lnTo>
                  <a:lnTo>
                    <a:pt x="3384" y="1290"/>
                  </a:lnTo>
                  <a:lnTo>
                    <a:pt x="3399" y="1278"/>
                  </a:lnTo>
                  <a:lnTo>
                    <a:pt x="3413" y="1259"/>
                  </a:lnTo>
                  <a:lnTo>
                    <a:pt x="3427" y="1248"/>
                  </a:lnTo>
                  <a:lnTo>
                    <a:pt x="3444" y="1230"/>
                  </a:lnTo>
                  <a:lnTo>
                    <a:pt x="3457" y="1214"/>
                  </a:lnTo>
                  <a:lnTo>
                    <a:pt x="3466" y="1195"/>
                  </a:lnTo>
                  <a:lnTo>
                    <a:pt x="3471" y="1178"/>
                  </a:lnTo>
                  <a:lnTo>
                    <a:pt x="3486" y="1161"/>
                  </a:lnTo>
                  <a:lnTo>
                    <a:pt x="3493" y="1140"/>
                  </a:lnTo>
                  <a:lnTo>
                    <a:pt x="3502" y="1123"/>
                  </a:lnTo>
                  <a:lnTo>
                    <a:pt x="3508" y="1106"/>
                  </a:lnTo>
                  <a:lnTo>
                    <a:pt x="3508" y="1084"/>
                  </a:lnTo>
                  <a:lnTo>
                    <a:pt x="3517" y="1063"/>
                  </a:lnTo>
                  <a:lnTo>
                    <a:pt x="3517" y="1045"/>
                  </a:lnTo>
                  <a:lnTo>
                    <a:pt x="3517" y="1023"/>
                  </a:lnTo>
                  <a:lnTo>
                    <a:pt x="3524" y="1002"/>
                  </a:lnTo>
                  <a:lnTo>
                    <a:pt x="3517" y="984"/>
                  </a:lnTo>
                  <a:lnTo>
                    <a:pt x="3517" y="968"/>
                  </a:lnTo>
                  <a:lnTo>
                    <a:pt x="3517" y="949"/>
                  </a:lnTo>
                  <a:lnTo>
                    <a:pt x="3508" y="933"/>
                  </a:lnTo>
                  <a:lnTo>
                    <a:pt x="3508" y="912"/>
                  </a:lnTo>
                  <a:lnTo>
                    <a:pt x="3502" y="894"/>
                  </a:lnTo>
                  <a:lnTo>
                    <a:pt x="3493" y="877"/>
                  </a:lnTo>
                  <a:lnTo>
                    <a:pt x="3493" y="860"/>
                  </a:lnTo>
                  <a:lnTo>
                    <a:pt x="3486" y="843"/>
                  </a:lnTo>
                  <a:lnTo>
                    <a:pt x="3471" y="826"/>
                  </a:lnTo>
                  <a:lnTo>
                    <a:pt x="3466" y="814"/>
                  </a:lnTo>
                  <a:lnTo>
                    <a:pt x="3457" y="795"/>
                  </a:lnTo>
                  <a:lnTo>
                    <a:pt x="3444" y="778"/>
                  </a:lnTo>
                  <a:lnTo>
                    <a:pt x="3427" y="766"/>
                  </a:lnTo>
                  <a:lnTo>
                    <a:pt x="3406" y="735"/>
                  </a:lnTo>
                  <a:lnTo>
                    <a:pt x="3406" y="735"/>
                  </a:lnTo>
                  <a:lnTo>
                    <a:pt x="3413" y="718"/>
                  </a:lnTo>
                  <a:lnTo>
                    <a:pt x="3418" y="701"/>
                  </a:lnTo>
                  <a:lnTo>
                    <a:pt x="3427" y="683"/>
                  </a:lnTo>
                  <a:lnTo>
                    <a:pt x="3427" y="667"/>
                  </a:lnTo>
                  <a:lnTo>
                    <a:pt x="3435" y="649"/>
                  </a:lnTo>
                  <a:lnTo>
                    <a:pt x="3435" y="633"/>
                  </a:lnTo>
                  <a:lnTo>
                    <a:pt x="3435" y="615"/>
                  </a:lnTo>
                  <a:lnTo>
                    <a:pt x="3444" y="599"/>
                  </a:lnTo>
                  <a:lnTo>
                    <a:pt x="3435" y="568"/>
                  </a:lnTo>
                  <a:lnTo>
                    <a:pt x="3435" y="542"/>
                  </a:lnTo>
                  <a:lnTo>
                    <a:pt x="3427" y="511"/>
                  </a:lnTo>
                  <a:lnTo>
                    <a:pt x="3413" y="485"/>
                  </a:lnTo>
                  <a:lnTo>
                    <a:pt x="3406" y="460"/>
                  </a:lnTo>
                  <a:lnTo>
                    <a:pt x="3391" y="434"/>
                  </a:lnTo>
                  <a:lnTo>
                    <a:pt x="3369" y="408"/>
                  </a:lnTo>
                  <a:lnTo>
                    <a:pt x="3348" y="387"/>
                  </a:lnTo>
                  <a:lnTo>
                    <a:pt x="3324" y="366"/>
                  </a:lnTo>
                  <a:lnTo>
                    <a:pt x="3304" y="344"/>
                  </a:lnTo>
                  <a:lnTo>
                    <a:pt x="3282" y="327"/>
                  </a:lnTo>
                  <a:lnTo>
                    <a:pt x="3253" y="310"/>
                  </a:lnTo>
                  <a:lnTo>
                    <a:pt x="3222" y="297"/>
                  </a:lnTo>
                  <a:lnTo>
                    <a:pt x="3186" y="283"/>
                  </a:lnTo>
                  <a:lnTo>
                    <a:pt x="3156" y="271"/>
                  </a:lnTo>
                  <a:lnTo>
                    <a:pt x="3120" y="262"/>
                  </a:lnTo>
                  <a:lnTo>
                    <a:pt x="3120" y="262"/>
                  </a:lnTo>
                  <a:lnTo>
                    <a:pt x="3111" y="233"/>
                  </a:lnTo>
                  <a:lnTo>
                    <a:pt x="3105" y="206"/>
                  </a:lnTo>
                  <a:lnTo>
                    <a:pt x="3091" y="181"/>
                  </a:lnTo>
                  <a:lnTo>
                    <a:pt x="3074" y="159"/>
                  </a:lnTo>
                  <a:lnTo>
                    <a:pt x="3052" y="133"/>
                  </a:lnTo>
                  <a:lnTo>
                    <a:pt x="3033" y="112"/>
                  </a:lnTo>
                  <a:lnTo>
                    <a:pt x="3009" y="95"/>
                  </a:lnTo>
                  <a:lnTo>
                    <a:pt x="2987" y="77"/>
                  </a:lnTo>
                  <a:lnTo>
                    <a:pt x="2958" y="61"/>
                  </a:lnTo>
                  <a:lnTo>
                    <a:pt x="2929" y="43"/>
                  </a:lnTo>
                  <a:lnTo>
                    <a:pt x="2898" y="30"/>
                  </a:lnTo>
                  <a:lnTo>
                    <a:pt x="2871" y="21"/>
                  </a:lnTo>
                  <a:lnTo>
                    <a:pt x="2833" y="13"/>
                  </a:lnTo>
                  <a:lnTo>
                    <a:pt x="2803" y="9"/>
                  </a:lnTo>
                  <a:lnTo>
                    <a:pt x="2767" y="4"/>
                  </a:lnTo>
                  <a:lnTo>
                    <a:pt x="2733" y="0"/>
                  </a:lnTo>
                  <a:lnTo>
                    <a:pt x="2709" y="4"/>
                  </a:lnTo>
                  <a:lnTo>
                    <a:pt x="2685" y="4"/>
                  </a:lnTo>
                  <a:lnTo>
                    <a:pt x="2666" y="4"/>
                  </a:lnTo>
                  <a:lnTo>
                    <a:pt x="2643" y="9"/>
                  </a:lnTo>
                  <a:lnTo>
                    <a:pt x="2621" y="13"/>
                  </a:lnTo>
                  <a:lnTo>
                    <a:pt x="2607" y="18"/>
                  </a:lnTo>
                  <a:lnTo>
                    <a:pt x="2584" y="26"/>
                  </a:lnTo>
                  <a:lnTo>
                    <a:pt x="2562" y="30"/>
                  </a:lnTo>
                  <a:lnTo>
                    <a:pt x="2548" y="40"/>
                  </a:lnTo>
                  <a:lnTo>
                    <a:pt x="2523" y="47"/>
                  </a:lnTo>
                  <a:lnTo>
                    <a:pt x="2511" y="56"/>
                  </a:lnTo>
                  <a:lnTo>
                    <a:pt x="2489" y="64"/>
                  </a:lnTo>
                  <a:lnTo>
                    <a:pt x="2473" y="77"/>
                  </a:lnTo>
                  <a:lnTo>
                    <a:pt x="2459" y="90"/>
                  </a:lnTo>
                  <a:lnTo>
                    <a:pt x="2445" y="98"/>
                  </a:lnTo>
                  <a:lnTo>
                    <a:pt x="2431" y="112"/>
                  </a:lnTo>
                  <a:lnTo>
                    <a:pt x="2431" y="112"/>
                  </a:lnTo>
                  <a:lnTo>
                    <a:pt x="2414" y="98"/>
                  </a:lnTo>
                  <a:lnTo>
                    <a:pt x="2400" y="90"/>
                  </a:lnTo>
                  <a:lnTo>
                    <a:pt x="2386" y="77"/>
                  </a:lnTo>
                  <a:lnTo>
                    <a:pt x="2370" y="64"/>
                  </a:lnTo>
                  <a:lnTo>
                    <a:pt x="2358" y="56"/>
                  </a:lnTo>
                  <a:lnTo>
                    <a:pt x="2341" y="47"/>
                  </a:lnTo>
                  <a:lnTo>
                    <a:pt x="2319" y="40"/>
                  </a:lnTo>
                  <a:lnTo>
                    <a:pt x="2305" y="30"/>
                  </a:lnTo>
                  <a:lnTo>
                    <a:pt x="2283" y="26"/>
                  </a:lnTo>
                  <a:lnTo>
                    <a:pt x="2269" y="18"/>
                  </a:lnTo>
                  <a:lnTo>
                    <a:pt x="2247" y="13"/>
                  </a:lnTo>
                  <a:lnTo>
                    <a:pt x="2223" y="9"/>
                  </a:lnTo>
                  <a:lnTo>
                    <a:pt x="2210" y="4"/>
                  </a:lnTo>
                  <a:lnTo>
                    <a:pt x="2187" y="4"/>
                  </a:lnTo>
                  <a:lnTo>
                    <a:pt x="2165" y="4"/>
                  </a:lnTo>
                  <a:lnTo>
                    <a:pt x="2145" y="0"/>
                  </a:lnTo>
                  <a:lnTo>
                    <a:pt x="2121" y="4"/>
                  </a:lnTo>
                  <a:lnTo>
                    <a:pt x="2092" y="4"/>
                  </a:lnTo>
                  <a:lnTo>
                    <a:pt x="2070" y="9"/>
                  </a:lnTo>
                  <a:lnTo>
                    <a:pt x="2048" y="13"/>
                  </a:lnTo>
                  <a:lnTo>
                    <a:pt x="2027" y="21"/>
                  </a:lnTo>
                  <a:lnTo>
                    <a:pt x="2003" y="26"/>
                  </a:lnTo>
                  <a:lnTo>
                    <a:pt x="1983" y="34"/>
                  </a:lnTo>
                  <a:lnTo>
                    <a:pt x="1961" y="43"/>
                  </a:lnTo>
                  <a:lnTo>
                    <a:pt x="1938" y="56"/>
                  </a:lnTo>
                  <a:lnTo>
                    <a:pt x="1916" y="68"/>
                  </a:lnTo>
                  <a:lnTo>
                    <a:pt x="1902" y="82"/>
                  </a:lnTo>
                  <a:lnTo>
                    <a:pt x="1886" y="95"/>
                  </a:lnTo>
                  <a:lnTo>
                    <a:pt x="1865" y="108"/>
                  </a:lnTo>
                  <a:lnTo>
                    <a:pt x="1850" y="125"/>
                  </a:lnTo>
                  <a:lnTo>
                    <a:pt x="1835" y="142"/>
                  </a:lnTo>
                  <a:lnTo>
                    <a:pt x="1829" y="159"/>
                  </a:lnTo>
                  <a:lnTo>
                    <a:pt x="1829" y="164"/>
                  </a:lnTo>
                  <a:lnTo>
                    <a:pt x="1799" y="142"/>
                  </a:lnTo>
                  <a:lnTo>
                    <a:pt x="1785" y="133"/>
                  </a:lnTo>
                  <a:lnTo>
                    <a:pt x="1763" y="120"/>
                  </a:lnTo>
                  <a:lnTo>
                    <a:pt x="1748" y="112"/>
                  </a:lnTo>
                  <a:lnTo>
                    <a:pt x="1725" y="104"/>
                  </a:lnTo>
                  <a:lnTo>
                    <a:pt x="1712" y="98"/>
                  </a:lnTo>
                  <a:lnTo>
                    <a:pt x="1689" y="90"/>
                  </a:lnTo>
                  <a:lnTo>
                    <a:pt x="1667" y="86"/>
                  </a:lnTo>
                  <a:lnTo>
                    <a:pt x="1652" y="77"/>
                  </a:lnTo>
                  <a:lnTo>
                    <a:pt x="1630" y="74"/>
                  </a:lnTo>
                  <a:lnTo>
                    <a:pt x="1608" y="68"/>
                  </a:lnTo>
                  <a:lnTo>
                    <a:pt x="1586" y="68"/>
                  </a:lnTo>
                  <a:lnTo>
                    <a:pt x="1565" y="64"/>
                  </a:lnTo>
                  <a:lnTo>
                    <a:pt x="1541" y="64"/>
                  </a:lnTo>
                  <a:lnTo>
                    <a:pt x="1527" y="64"/>
                  </a:lnTo>
                  <a:lnTo>
                    <a:pt x="1490" y="64"/>
                  </a:lnTo>
                  <a:lnTo>
                    <a:pt x="1463" y="68"/>
                  </a:lnTo>
                  <a:lnTo>
                    <a:pt x="1432" y="74"/>
                  </a:lnTo>
                  <a:lnTo>
                    <a:pt x="1410" y="77"/>
                  </a:lnTo>
                  <a:lnTo>
                    <a:pt x="1381" y="86"/>
                  </a:lnTo>
                  <a:lnTo>
                    <a:pt x="1351" y="90"/>
                  </a:lnTo>
                  <a:lnTo>
                    <a:pt x="1323" y="104"/>
                  </a:lnTo>
                  <a:lnTo>
                    <a:pt x="1301" y="112"/>
                  </a:lnTo>
                  <a:lnTo>
                    <a:pt x="1278" y="125"/>
                  </a:lnTo>
                  <a:lnTo>
                    <a:pt x="1250" y="142"/>
                  </a:lnTo>
                  <a:lnTo>
                    <a:pt x="1227" y="154"/>
                  </a:lnTo>
                  <a:lnTo>
                    <a:pt x="1211" y="172"/>
                  </a:lnTo>
                  <a:lnTo>
                    <a:pt x="1191" y="189"/>
                  </a:lnTo>
                  <a:lnTo>
                    <a:pt x="1169" y="206"/>
                  </a:lnTo>
                  <a:lnTo>
                    <a:pt x="1152" y="228"/>
                  </a:lnTo>
                  <a:lnTo>
                    <a:pt x="1139" y="249"/>
                  </a:lnTo>
                  <a:lnTo>
                    <a:pt x="1139" y="249"/>
                  </a:lnTo>
                  <a:lnTo>
                    <a:pt x="1108" y="237"/>
                  </a:lnTo>
                  <a:lnTo>
                    <a:pt x="1074" y="223"/>
                  </a:lnTo>
                  <a:lnTo>
                    <a:pt x="1037" y="215"/>
                  </a:lnTo>
                  <a:lnTo>
                    <a:pt x="1006" y="206"/>
                  </a:lnTo>
                  <a:lnTo>
                    <a:pt x="970" y="198"/>
                  </a:lnTo>
                  <a:lnTo>
                    <a:pt x="934" y="194"/>
                  </a:lnTo>
                  <a:lnTo>
                    <a:pt x="895" y="189"/>
                  </a:lnTo>
                  <a:lnTo>
                    <a:pt x="859" y="189"/>
                  </a:lnTo>
                  <a:lnTo>
                    <a:pt x="830" y="189"/>
                  </a:lnTo>
                  <a:lnTo>
                    <a:pt x="800" y="194"/>
                  </a:lnTo>
                  <a:lnTo>
                    <a:pt x="778" y="198"/>
                  </a:lnTo>
                  <a:lnTo>
                    <a:pt x="750" y="198"/>
                  </a:lnTo>
                  <a:lnTo>
                    <a:pt x="721" y="206"/>
                  </a:lnTo>
                  <a:lnTo>
                    <a:pt x="699" y="211"/>
                  </a:lnTo>
                  <a:lnTo>
                    <a:pt x="670" y="215"/>
                  </a:lnTo>
                  <a:lnTo>
                    <a:pt x="646" y="223"/>
                  </a:lnTo>
                  <a:lnTo>
                    <a:pt x="624" y="233"/>
                  </a:lnTo>
                  <a:lnTo>
                    <a:pt x="595" y="245"/>
                  </a:lnTo>
                  <a:lnTo>
                    <a:pt x="573" y="254"/>
                  </a:lnTo>
                  <a:lnTo>
                    <a:pt x="551" y="267"/>
                  </a:lnTo>
                  <a:lnTo>
                    <a:pt x="529" y="279"/>
                  </a:lnTo>
                  <a:lnTo>
                    <a:pt x="508" y="293"/>
                  </a:lnTo>
                  <a:lnTo>
                    <a:pt x="492" y="305"/>
                  </a:lnTo>
                  <a:lnTo>
                    <a:pt x="470" y="319"/>
                  </a:lnTo>
                  <a:lnTo>
                    <a:pt x="450" y="335"/>
                  </a:lnTo>
                  <a:lnTo>
                    <a:pt x="433" y="349"/>
                  </a:lnTo>
                  <a:lnTo>
                    <a:pt x="419" y="366"/>
                  </a:lnTo>
                  <a:lnTo>
                    <a:pt x="405" y="384"/>
                  </a:lnTo>
                  <a:lnTo>
                    <a:pt x="391" y="403"/>
                  </a:lnTo>
                  <a:lnTo>
                    <a:pt x="375" y="421"/>
                  </a:lnTo>
                  <a:lnTo>
                    <a:pt x="360" y="439"/>
                  </a:lnTo>
                  <a:lnTo>
                    <a:pt x="355" y="460"/>
                  </a:lnTo>
                  <a:lnTo>
                    <a:pt x="346" y="477"/>
                  </a:lnTo>
                  <a:lnTo>
                    <a:pt x="332" y="498"/>
                  </a:lnTo>
                  <a:lnTo>
                    <a:pt x="324" y="520"/>
                  </a:lnTo>
                  <a:lnTo>
                    <a:pt x="324" y="542"/>
                  </a:lnTo>
                  <a:lnTo>
                    <a:pt x="316" y="563"/>
                  </a:lnTo>
                  <a:lnTo>
                    <a:pt x="308" y="584"/>
                  </a:lnTo>
                  <a:lnTo>
                    <a:pt x="308" y="606"/>
                  </a:lnTo>
                  <a:lnTo>
                    <a:pt x="308" y="628"/>
                  </a:lnTo>
                  <a:lnTo>
                    <a:pt x="308" y="658"/>
                  </a:lnTo>
                  <a:lnTo>
                    <a:pt x="316" y="68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27720" y="3304080"/>
              <a:ext cx="12686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180000" anchor="ctr" anchorCtr="1">
              <a:spAutoFit/>
            </a:bodyPr>
            <a:p>
              <a:pPr algn="ctr">
                <a:lnSpc>
                  <a:spcPts val="305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8375760" y="3144960"/>
            <a:ext cx="1506600" cy="744480"/>
            <a:chOff x="8375760" y="3144960"/>
            <a:chExt cx="1506600" cy="744480"/>
          </a:xfrm>
        </p:grpSpPr>
        <p:sp>
          <p:nvSpPr>
            <p:cNvPr id="271" name=""/>
            <p:cNvSpPr/>
            <p:nvPr/>
          </p:nvSpPr>
          <p:spPr>
            <a:xfrm>
              <a:off x="8375760" y="3144960"/>
              <a:ext cx="1506600" cy="744480"/>
            </a:xfrm>
            <a:custGeom>
              <a:avLst/>
              <a:gdLst/>
              <a:ahLst/>
              <a:rect l="l" t="t" r="r" b="b"/>
              <a:pathLst>
                <a:path w="4187" h="2066">
                  <a:moveTo>
                    <a:pt x="375" y="689"/>
                  </a:moveTo>
                  <a:lnTo>
                    <a:pt x="332" y="692"/>
                  </a:lnTo>
                  <a:lnTo>
                    <a:pt x="295" y="701"/>
                  </a:lnTo>
                  <a:lnTo>
                    <a:pt x="262" y="706"/>
                  </a:lnTo>
                  <a:lnTo>
                    <a:pt x="228" y="718"/>
                  </a:lnTo>
                  <a:lnTo>
                    <a:pt x="193" y="731"/>
                  </a:lnTo>
                  <a:lnTo>
                    <a:pt x="159" y="747"/>
                  </a:lnTo>
                  <a:lnTo>
                    <a:pt x="132" y="762"/>
                  </a:lnTo>
                  <a:lnTo>
                    <a:pt x="106" y="778"/>
                  </a:lnTo>
                  <a:lnTo>
                    <a:pt x="79" y="800"/>
                  </a:lnTo>
                  <a:lnTo>
                    <a:pt x="63" y="821"/>
                  </a:lnTo>
                  <a:lnTo>
                    <a:pt x="43" y="843"/>
                  </a:lnTo>
                  <a:lnTo>
                    <a:pt x="29" y="869"/>
                  </a:lnTo>
                  <a:lnTo>
                    <a:pt x="10" y="891"/>
                  </a:lnTo>
                  <a:lnTo>
                    <a:pt x="0" y="920"/>
                  </a:lnTo>
                  <a:lnTo>
                    <a:pt x="0" y="946"/>
                  </a:lnTo>
                  <a:lnTo>
                    <a:pt x="0" y="972"/>
                  </a:lnTo>
                  <a:lnTo>
                    <a:pt x="0" y="989"/>
                  </a:lnTo>
                  <a:lnTo>
                    <a:pt x="0" y="1011"/>
                  </a:lnTo>
                  <a:lnTo>
                    <a:pt x="0" y="1029"/>
                  </a:lnTo>
                  <a:lnTo>
                    <a:pt x="10" y="1045"/>
                  </a:lnTo>
                  <a:lnTo>
                    <a:pt x="19" y="1063"/>
                  </a:lnTo>
                  <a:lnTo>
                    <a:pt x="29" y="1079"/>
                  </a:lnTo>
                  <a:lnTo>
                    <a:pt x="36" y="1097"/>
                  </a:lnTo>
                  <a:lnTo>
                    <a:pt x="53" y="1113"/>
                  </a:lnTo>
                  <a:lnTo>
                    <a:pt x="72" y="1127"/>
                  </a:lnTo>
                  <a:lnTo>
                    <a:pt x="79" y="1143"/>
                  </a:lnTo>
                  <a:lnTo>
                    <a:pt x="98" y="1157"/>
                  </a:lnTo>
                  <a:lnTo>
                    <a:pt x="114" y="1170"/>
                  </a:lnTo>
                  <a:lnTo>
                    <a:pt x="142" y="1183"/>
                  </a:lnTo>
                  <a:lnTo>
                    <a:pt x="159" y="1195"/>
                  </a:lnTo>
                  <a:lnTo>
                    <a:pt x="183" y="1208"/>
                  </a:lnTo>
                  <a:lnTo>
                    <a:pt x="202" y="1217"/>
                  </a:lnTo>
                  <a:lnTo>
                    <a:pt x="202" y="1214"/>
                  </a:lnTo>
                  <a:lnTo>
                    <a:pt x="175" y="1235"/>
                  </a:lnTo>
                  <a:lnTo>
                    <a:pt x="159" y="1256"/>
                  </a:lnTo>
                  <a:lnTo>
                    <a:pt x="132" y="1278"/>
                  </a:lnTo>
                  <a:lnTo>
                    <a:pt x="122" y="1303"/>
                  </a:lnTo>
                  <a:lnTo>
                    <a:pt x="106" y="1328"/>
                  </a:lnTo>
                  <a:lnTo>
                    <a:pt x="98" y="1355"/>
                  </a:lnTo>
                  <a:lnTo>
                    <a:pt x="89" y="1380"/>
                  </a:lnTo>
                  <a:lnTo>
                    <a:pt x="89" y="1407"/>
                  </a:lnTo>
                  <a:lnTo>
                    <a:pt x="89" y="1419"/>
                  </a:lnTo>
                  <a:lnTo>
                    <a:pt x="89" y="1436"/>
                  </a:lnTo>
                  <a:lnTo>
                    <a:pt x="98" y="1450"/>
                  </a:lnTo>
                  <a:lnTo>
                    <a:pt x="98" y="1463"/>
                  </a:lnTo>
                  <a:lnTo>
                    <a:pt x="106" y="1475"/>
                  </a:lnTo>
                  <a:lnTo>
                    <a:pt x="106" y="1493"/>
                  </a:lnTo>
                  <a:lnTo>
                    <a:pt x="122" y="1518"/>
                  </a:lnTo>
                  <a:lnTo>
                    <a:pt x="142" y="1540"/>
                  </a:lnTo>
                  <a:lnTo>
                    <a:pt x="159" y="1565"/>
                  </a:lnTo>
                  <a:lnTo>
                    <a:pt x="183" y="1587"/>
                  </a:lnTo>
                  <a:lnTo>
                    <a:pt x="212" y="1608"/>
                  </a:lnTo>
                  <a:lnTo>
                    <a:pt x="246" y="1626"/>
                  </a:lnTo>
                  <a:lnTo>
                    <a:pt x="272" y="1643"/>
                  </a:lnTo>
                  <a:lnTo>
                    <a:pt x="305" y="1656"/>
                  </a:lnTo>
                  <a:lnTo>
                    <a:pt x="352" y="1668"/>
                  </a:lnTo>
                  <a:lnTo>
                    <a:pt x="385" y="1678"/>
                  </a:lnTo>
                  <a:lnTo>
                    <a:pt x="428" y="1682"/>
                  </a:lnTo>
                  <a:lnTo>
                    <a:pt x="445" y="1686"/>
                  </a:lnTo>
                  <a:lnTo>
                    <a:pt x="472" y="1690"/>
                  </a:lnTo>
                  <a:lnTo>
                    <a:pt x="488" y="1690"/>
                  </a:lnTo>
                  <a:lnTo>
                    <a:pt x="507" y="1690"/>
                  </a:lnTo>
                  <a:lnTo>
                    <a:pt x="534" y="1690"/>
                  </a:lnTo>
                  <a:lnTo>
                    <a:pt x="558" y="1686"/>
                  </a:lnTo>
                  <a:lnTo>
                    <a:pt x="558" y="1690"/>
                  </a:lnTo>
                  <a:lnTo>
                    <a:pt x="584" y="1720"/>
                  </a:lnTo>
                  <a:lnTo>
                    <a:pt x="611" y="1746"/>
                  </a:lnTo>
                  <a:lnTo>
                    <a:pt x="647" y="1773"/>
                  </a:lnTo>
                  <a:lnTo>
                    <a:pt x="681" y="1792"/>
                  </a:lnTo>
                  <a:lnTo>
                    <a:pt x="717" y="1819"/>
                  </a:lnTo>
                  <a:lnTo>
                    <a:pt x="751" y="1841"/>
                  </a:lnTo>
                  <a:lnTo>
                    <a:pt x="796" y="1857"/>
                  </a:lnTo>
                  <a:lnTo>
                    <a:pt x="830" y="1875"/>
                  </a:lnTo>
                  <a:lnTo>
                    <a:pt x="873" y="1892"/>
                  </a:lnTo>
                  <a:lnTo>
                    <a:pt x="916" y="1905"/>
                  </a:lnTo>
                  <a:lnTo>
                    <a:pt x="969" y="1914"/>
                  </a:lnTo>
                  <a:lnTo>
                    <a:pt x="1013" y="1927"/>
                  </a:lnTo>
                  <a:lnTo>
                    <a:pt x="1056" y="1931"/>
                  </a:lnTo>
                  <a:lnTo>
                    <a:pt x="1109" y="1940"/>
                  </a:lnTo>
                  <a:lnTo>
                    <a:pt x="1162" y="1940"/>
                  </a:lnTo>
                  <a:lnTo>
                    <a:pt x="1203" y="1943"/>
                  </a:lnTo>
                  <a:lnTo>
                    <a:pt x="1256" y="1940"/>
                  </a:lnTo>
                  <a:lnTo>
                    <a:pt x="1309" y="1940"/>
                  </a:lnTo>
                  <a:lnTo>
                    <a:pt x="1361" y="1931"/>
                  </a:lnTo>
                  <a:lnTo>
                    <a:pt x="1404" y="1927"/>
                  </a:lnTo>
                  <a:lnTo>
                    <a:pt x="1457" y="1914"/>
                  </a:lnTo>
                  <a:lnTo>
                    <a:pt x="1499" y="1900"/>
                  </a:lnTo>
                  <a:lnTo>
                    <a:pt x="1544" y="1887"/>
                  </a:lnTo>
                  <a:lnTo>
                    <a:pt x="1597" y="1871"/>
                  </a:lnTo>
                  <a:lnTo>
                    <a:pt x="1587" y="1871"/>
                  </a:lnTo>
                  <a:lnTo>
                    <a:pt x="1612" y="1892"/>
                  </a:lnTo>
                  <a:lnTo>
                    <a:pt x="1640" y="1914"/>
                  </a:lnTo>
                  <a:lnTo>
                    <a:pt x="1667" y="1935"/>
                  </a:lnTo>
                  <a:lnTo>
                    <a:pt x="1701" y="1952"/>
                  </a:lnTo>
                  <a:lnTo>
                    <a:pt x="1727" y="1971"/>
                  </a:lnTo>
                  <a:lnTo>
                    <a:pt x="1760" y="1988"/>
                  </a:lnTo>
                  <a:lnTo>
                    <a:pt x="1787" y="2000"/>
                  </a:lnTo>
                  <a:lnTo>
                    <a:pt x="1823" y="2012"/>
                  </a:lnTo>
                  <a:lnTo>
                    <a:pt x="1864" y="2025"/>
                  </a:lnTo>
                  <a:lnTo>
                    <a:pt x="1900" y="2038"/>
                  </a:lnTo>
                  <a:lnTo>
                    <a:pt x="1937" y="2046"/>
                  </a:lnTo>
                  <a:lnTo>
                    <a:pt x="1980" y="2051"/>
                  </a:lnTo>
                  <a:lnTo>
                    <a:pt x="2013" y="2060"/>
                  </a:lnTo>
                  <a:lnTo>
                    <a:pt x="2049" y="2065"/>
                  </a:lnTo>
                  <a:lnTo>
                    <a:pt x="2093" y="2065"/>
                  </a:lnTo>
                  <a:lnTo>
                    <a:pt x="2136" y="2065"/>
                  </a:lnTo>
                  <a:lnTo>
                    <a:pt x="2163" y="2065"/>
                  </a:lnTo>
                  <a:lnTo>
                    <a:pt x="2189" y="2065"/>
                  </a:lnTo>
                  <a:lnTo>
                    <a:pt x="2216" y="2065"/>
                  </a:lnTo>
                  <a:lnTo>
                    <a:pt x="2240" y="2060"/>
                  </a:lnTo>
                  <a:lnTo>
                    <a:pt x="2266" y="2056"/>
                  </a:lnTo>
                  <a:lnTo>
                    <a:pt x="2295" y="2056"/>
                  </a:lnTo>
                  <a:lnTo>
                    <a:pt x="2346" y="2043"/>
                  </a:lnTo>
                  <a:lnTo>
                    <a:pt x="2389" y="2029"/>
                  </a:lnTo>
                  <a:lnTo>
                    <a:pt x="2442" y="2017"/>
                  </a:lnTo>
                  <a:lnTo>
                    <a:pt x="2485" y="2000"/>
                  </a:lnTo>
                  <a:lnTo>
                    <a:pt x="2528" y="1978"/>
                  </a:lnTo>
                  <a:lnTo>
                    <a:pt x="2562" y="1957"/>
                  </a:lnTo>
                  <a:lnTo>
                    <a:pt x="2598" y="1935"/>
                  </a:lnTo>
                  <a:lnTo>
                    <a:pt x="2631" y="1910"/>
                  </a:lnTo>
                  <a:lnTo>
                    <a:pt x="2668" y="1880"/>
                  </a:lnTo>
                  <a:lnTo>
                    <a:pt x="2694" y="1849"/>
                  </a:lnTo>
                  <a:lnTo>
                    <a:pt x="2721" y="1819"/>
                  </a:lnTo>
                  <a:lnTo>
                    <a:pt x="2745" y="1789"/>
                  </a:lnTo>
                  <a:lnTo>
                    <a:pt x="2755" y="1773"/>
                  </a:lnTo>
                  <a:lnTo>
                    <a:pt x="2764" y="1755"/>
                  </a:lnTo>
                  <a:lnTo>
                    <a:pt x="2764" y="1755"/>
                  </a:lnTo>
                  <a:lnTo>
                    <a:pt x="2800" y="1767"/>
                  </a:lnTo>
                  <a:lnTo>
                    <a:pt x="2834" y="1780"/>
                  </a:lnTo>
                  <a:lnTo>
                    <a:pt x="2867" y="1789"/>
                  </a:lnTo>
                  <a:lnTo>
                    <a:pt x="2904" y="1797"/>
                  </a:lnTo>
                  <a:lnTo>
                    <a:pt x="2937" y="1807"/>
                  </a:lnTo>
                  <a:lnTo>
                    <a:pt x="2983" y="1810"/>
                  </a:lnTo>
                  <a:lnTo>
                    <a:pt x="3016" y="1814"/>
                  </a:lnTo>
                  <a:lnTo>
                    <a:pt x="3060" y="1814"/>
                  </a:lnTo>
                  <a:lnTo>
                    <a:pt x="3087" y="1814"/>
                  </a:lnTo>
                  <a:lnTo>
                    <a:pt x="3113" y="1810"/>
                  </a:lnTo>
                  <a:lnTo>
                    <a:pt x="3140" y="1810"/>
                  </a:lnTo>
                  <a:lnTo>
                    <a:pt x="3175" y="1807"/>
                  </a:lnTo>
                  <a:lnTo>
                    <a:pt x="3199" y="1802"/>
                  </a:lnTo>
                  <a:lnTo>
                    <a:pt x="3226" y="1797"/>
                  </a:lnTo>
                  <a:lnTo>
                    <a:pt x="3252" y="1789"/>
                  </a:lnTo>
                  <a:lnTo>
                    <a:pt x="3278" y="1786"/>
                  </a:lnTo>
                  <a:lnTo>
                    <a:pt x="3296" y="1776"/>
                  </a:lnTo>
                  <a:lnTo>
                    <a:pt x="3323" y="1767"/>
                  </a:lnTo>
                  <a:lnTo>
                    <a:pt x="3349" y="1758"/>
                  </a:lnTo>
                  <a:lnTo>
                    <a:pt x="3372" y="1751"/>
                  </a:lnTo>
                  <a:lnTo>
                    <a:pt x="3392" y="1742"/>
                  </a:lnTo>
                  <a:lnTo>
                    <a:pt x="3409" y="1729"/>
                  </a:lnTo>
                  <a:lnTo>
                    <a:pt x="3451" y="1702"/>
                  </a:lnTo>
                  <a:lnTo>
                    <a:pt x="3488" y="1678"/>
                  </a:lnTo>
                  <a:lnTo>
                    <a:pt x="3504" y="1665"/>
                  </a:lnTo>
                  <a:lnTo>
                    <a:pt x="3522" y="1651"/>
                  </a:lnTo>
                  <a:lnTo>
                    <a:pt x="3541" y="1634"/>
                  </a:lnTo>
                  <a:lnTo>
                    <a:pt x="3549" y="1617"/>
                  </a:lnTo>
                  <a:lnTo>
                    <a:pt x="3565" y="1604"/>
                  </a:lnTo>
                  <a:lnTo>
                    <a:pt x="3575" y="1587"/>
                  </a:lnTo>
                  <a:lnTo>
                    <a:pt x="3582" y="1570"/>
                  </a:lnTo>
                  <a:lnTo>
                    <a:pt x="3591" y="1552"/>
                  </a:lnTo>
                  <a:lnTo>
                    <a:pt x="3601" y="1536"/>
                  </a:lnTo>
                  <a:lnTo>
                    <a:pt x="3610" y="1514"/>
                  </a:lnTo>
                  <a:lnTo>
                    <a:pt x="3610" y="1497"/>
                  </a:lnTo>
                  <a:lnTo>
                    <a:pt x="3618" y="1479"/>
                  </a:lnTo>
                  <a:lnTo>
                    <a:pt x="3618" y="1463"/>
                  </a:lnTo>
                  <a:lnTo>
                    <a:pt x="3618" y="1441"/>
                  </a:lnTo>
                  <a:lnTo>
                    <a:pt x="3618" y="1441"/>
                  </a:lnTo>
                  <a:lnTo>
                    <a:pt x="3644" y="1436"/>
                  </a:lnTo>
                  <a:lnTo>
                    <a:pt x="3681" y="1432"/>
                  </a:lnTo>
                  <a:lnTo>
                    <a:pt x="3705" y="1428"/>
                  </a:lnTo>
                  <a:lnTo>
                    <a:pt x="3731" y="1419"/>
                  </a:lnTo>
                  <a:lnTo>
                    <a:pt x="3765" y="1415"/>
                  </a:lnTo>
                  <a:lnTo>
                    <a:pt x="3793" y="1407"/>
                  </a:lnTo>
                  <a:lnTo>
                    <a:pt x="3817" y="1397"/>
                  </a:lnTo>
                  <a:lnTo>
                    <a:pt x="3844" y="1389"/>
                  </a:lnTo>
                  <a:lnTo>
                    <a:pt x="3870" y="1380"/>
                  </a:lnTo>
                  <a:lnTo>
                    <a:pt x="3887" y="1367"/>
                  </a:lnTo>
                  <a:lnTo>
                    <a:pt x="3913" y="1359"/>
                  </a:lnTo>
                  <a:lnTo>
                    <a:pt x="3940" y="1346"/>
                  </a:lnTo>
                  <a:lnTo>
                    <a:pt x="3984" y="1321"/>
                  </a:lnTo>
                  <a:lnTo>
                    <a:pt x="4019" y="1290"/>
                  </a:lnTo>
                  <a:lnTo>
                    <a:pt x="4037" y="1278"/>
                  </a:lnTo>
                  <a:lnTo>
                    <a:pt x="4053" y="1259"/>
                  </a:lnTo>
                  <a:lnTo>
                    <a:pt x="4070" y="1248"/>
                  </a:lnTo>
                  <a:lnTo>
                    <a:pt x="4090" y="1230"/>
                  </a:lnTo>
                  <a:lnTo>
                    <a:pt x="4106" y="1214"/>
                  </a:lnTo>
                  <a:lnTo>
                    <a:pt x="4116" y="1195"/>
                  </a:lnTo>
                  <a:lnTo>
                    <a:pt x="4123" y="1178"/>
                  </a:lnTo>
                  <a:lnTo>
                    <a:pt x="4140" y="1161"/>
                  </a:lnTo>
                  <a:lnTo>
                    <a:pt x="4149" y="1140"/>
                  </a:lnTo>
                  <a:lnTo>
                    <a:pt x="4159" y="1123"/>
                  </a:lnTo>
                  <a:lnTo>
                    <a:pt x="4167" y="1106"/>
                  </a:lnTo>
                  <a:lnTo>
                    <a:pt x="4167" y="1084"/>
                  </a:lnTo>
                  <a:lnTo>
                    <a:pt x="4176" y="1063"/>
                  </a:lnTo>
                  <a:lnTo>
                    <a:pt x="4176" y="1045"/>
                  </a:lnTo>
                  <a:lnTo>
                    <a:pt x="4176" y="1023"/>
                  </a:lnTo>
                  <a:lnTo>
                    <a:pt x="4186" y="1002"/>
                  </a:lnTo>
                  <a:lnTo>
                    <a:pt x="4176" y="984"/>
                  </a:lnTo>
                  <a:lnTo>
                    <a:pt x="4176" y="968"/>
                  </a:lnTo>
                  <a:lnTo>
                    <a:pt x="4176" y="949"/>
                  </a:lnTo>
                  <a:lnTo>
                    <a:pt x="4167" y="933"/>
                  </a:lnTo>
                  <a:lnTo>
                    <a:pt x="4167" y="912"/>
                  </a:lnTo>
                  <a:lnTo>
                    <a:pt x="4159" y="894"/>
                  </a:lnTo>
                  <a:lnTo>
                    <a:pt x="4149" y="877"/>
                  </a:lnTo>
                  <a:lnTo>
                    <a:pt x="4149" y="860"/>
                  </a:lnTo>
                  <a:lnTo>
                    <a:pt x="4140" y="843"/>
                  </a:lnTo>
                  <a:lnTo>
                    <a:pt x="4123" y="826"/>
                  </a:lnTo>
                  <a:lnTo>
                    <a:pt x="4116" y="814"/>
                  </a:lnTo>
                  <a:lnTo>
                    <a:pt x="4106" y="795"/>
                  </a:lnTo>
                  <a:lnTo>
                    <a:pt x="4090" y="778"/>
                  </a:lnTo>
                  <a:lnTo>
                    <a:pt x="4070" y="766"/>
                  </a:lnTo>
                  <a:lnTo>
                    <a:pt x="4046" y="735"/>
                  </a:lnTo>
                  <a:lnTo>
                    <a:pt x="4046" y="735"/>
                  </a:lnTo>
                  <a:lnTo>
                    <a:pt x="4053" y="718"/>
                  </a:lnTo>
                  <a:lnTo>
                    <a:pt x="4061" y="701"/>
                  </a:lnTo>
                  <a:lnTo>
                    <a:pt x="4070" y="683"/>
                  </a:lnTo>
                  <a:lnTo>
                    <a:pt x="4070" y="667"/>
                  </a:lnTo>
                  <a:lnTo>
                    <a:pt x="4080" y="649"/>
                  </a:lnTo>
                  <a:lnTo>
                    <a:pt x="4080" y="633"/>
                  </a:lnTo>
                  <a:lnTo>
                    <a:pt x="4080" y="615"/>
                  </a:lnTo>
                  <a:lnTo>
                    <a:pt x="4090" y="599"/>
                  </a:lnTo>
                  <a:lnTo>
                    <a:pt x="4080" y="568"/>
                  </a:lnTo>
                  <a:lnTo>
                    <a:pt x="4080" y="542"/>
                  </a:lnTo>
                  <a:lnTo>
                    <a:pt x="4070" y="511"/>
                  </a:lnTo>
                  <a:lnTo>
                    <a:pt x="4053" y="485"/>
                  </a:lnTo>
                  <a:lnTo>
                    <a:pt x="4046" y="460"/>
                  </a:lnTo>
                  <a:lnTo>
                    <a:pt x="4027" y="434"/>
                  </a:lnTo>
                  <a:lnTo>
                    <a:pt x="4000" y="408"/>
                  </a:lnTo>
                  <a:lnTo>
                    <a:pt x="3976" y="387"/>
                  </a:lnTo>
                  <a:lnTo>
                    <a:pt x="3948" y="366"/>
                  </a:lnTo>
                  <a:lnTo>
                    <a:pt x="3923" y="344"/>
                  </a:lnTo>
                  <a:lnTo>
                    <a:pt x="3897" y="327"/>
                  </a:lnTo>
                  <a:lnTo>
                    <a:pt x="3864" y="310"/>
                  </a:lnTo>
                  <a:lnTo>
                    <a:pt x="3827" y="297"/>
                  </a:lnTo>
                  <a:lnTo>
                    <a:pt x="3784" y="283"/>
                  </a:lnTo>
                  <a:lnTo>
                    <a:pt x="3748" y="271"/>
                  </a:lnTo>
                  <a:lnTo>
                    <a:pt x="3705" y="262"/>
                  </a:lnTo>
                  <a:lnTo>
                    <a:pt x="3705" y="262"/>
                  </a:lnTo>
                  <a:lnTo>
                    <a:pt x="3695" y="233"/>
                  </a:lnTo>
                  <a:lnTo>
                    <a:pt x="3687" y="206"/>
                  </a:lnTo>
                  <a:lnTo>
                    <a:pt x="3671" y="181"/>
                  </a:lnTo>
                  <a:lnTo>
                    <a:pt x="3652" y="159"/>
                  </a:lnTo>
                  <a:lnTo>
                    <a:pt x="3626" y="133"/>
                  </a:lnTo>
                  <a:lnTo>
                    <a:pt x="3601" y="112"/>
                  </a:lnTo>
                  <a:lnTo>
                    <a:pt x="3575" y="95"/>
                  </a:lnTo>
                  <a:lnTo>
                    <a:pt x="3549" y="77"/>
                  </a:lnTo>
                  <a:lnTo>
                    <a:pt x="3512" y="61"/>
                  </a:lnTo>
                  <a:lnTo>
                    <a:pt x="3478" y="43"/>
                  </a:lnTo>
                  <a:lnTo>
                    <a:pt x="3443" y="30"/>
                  </a:lnTo>
                  <a:lnTo>
                    <a:pt x="3409" y="21"/>
                  </a:lnTo>
                  <a:lnTo>
                    <a:pt x="3366" y="13"/>
                  </a:lnTo>
                  <a:lnTo>
                    <a:pt x="3329" y="9"/>
                  </a:lnTo>
                  <a:lnTo>
                    <a:pt x="3286" y="4"/>
                  </a:lnTo>
                  <a:lnTo>
                    <a:pt x="3245" y="0"/>
                  </a:lnTo>
                  <a:lnTo>
                    <a:pt x="3217" y="4"/>
                  </a:lnTo>
                  <a:lnTo>
                    <a:pt x="3190" y="4"/>
                  </a:lnTo>
                  <a:lnTo>
                    <a:pt x="3166" y="4"/>
                  </a:lnTo>
                  <a:lnTo>
                    <a:pt x="3140" y="9"/>
                  </a:lnTo>
                  <a:lnTo>
                    <a:pt x="3113" y="13"/>
                  </a:lnTo>
                  <a:lnTo>
                    <a:pt x="3095" y="18"/>
                  </a:lnTo>
                  <a:lnTo>
                    <a:pt x="3069" y="26"/>
                  </a:lnTo>
                  <a:lnTo>
                    <a:pt x="3043" y="30"/>
                  </a:lnTo>
                  <a:lnTo>
                    <a:pt x="3026" y="40"/>
                  </a:lnTo>
                  <a:lnTo>
                    <a:pt x="2997" y="47"/>
                  </a:lnTo>
                  <a:lnTo>
                    <a:pt x="2983" y="56"/>
                  </a:lnTo>
                  <a:lnTo>
                    <a:pt x="2957" y="64"/>
                  </a:lnTo>
                  <a:lnTo>
                    <a:pt x="2937" y="77"/>
                  </a:lnTo>
                  <a:lnTo>
                    <a:pt x="2920" y="90"/>
                  </a:lnTo>
                  <a:lnTo>
                    <a:pt x="2904" y="98"/>
                  </a:lnTo>
                  <a:lnTo>
                    <a:pt x="2887" y="112"/>
                  </a:lnTo>
                  <a:lnTo>
                    <a:pt x="2887" y="112"/>
                  </a:lnTo>
                  <a:lnTo>
                    <a:pt x="2867" y="98"/>
                  </a:lnTo>
                  <a:lnTo>
                    <a:pt x="2851" y="90"/>
                  </a:lnTo>
                  <a:lnTo>
                    <a:pt x="2834" y="77"/>
                  </a:lnTo>
                  <a:lnTo>
                    <a:pt x="2814" y="64"/>
                  </a:lnTo>
                  <a:lnTo>
                    <a:pt x="2800" y="56"/>
                  </a:lnTo>
                  <a:lnTo>
                    <a:pt x="2781" y="47"/>
                  </a:lnTo>
                  <a:lnTo>
                    <a:pt x="2755" y="40"/>
                  </a:lnTo>
                  <a:lnTo>
                    <a:pt x="2737" y="30"/>
                  </a:lnTo>
                  <a:lnTo>
                    <a:pt x="2711" y="26"/>
                  </a:lnTo>
                  <a:lnTo>
                    <a:pt x="2694" y="18"/>
                  </a:lnTo>
                  <a:lnTo>
                    <a:pt x="2668" y="13"/>
                  </a:lnTo>
                  <a:lnTo>
                    <a:pt x="2641" y="9"/>
                  </a:lnTo>
                  <a:lnTo>
                    <a:pt x="2625" y="4"/>
                  </a:lnTo>
                  <a:lnTo>
                    <a:pt x="2598" y="4"/>
                  </a:lnTo>
                  <a:lnTo>
                    <a:pt x="2572" y="4"/>
                  </a:lnTo>
                  <a:lnTo>
                    <a:pt x="2548" y="0"/>
                  </a:lnTo>
                  <a:lnTo>
                    <a:pt x="2519" y="4"/>
                  </a:lnTo>
                  <a:lnTo>
                    <a:pt x="2485" y="4"/>
                  </a:lnTo>
                  <a:lnTo>
                    <a:pt x="2458" y="9"/>
                  </a:lnTo>
                  <a:lnTo>
                    <a:pt x="2432" y="13"/>
                  </a:lnTo>
                  <a:lnTo>
                    <a:pt x="2408" y="21"/>
                  </a:lnTo>
                  <a:lnTo>
                    <a:pt x="2379" y="26"/>
                  </a:lnTo>
                  <a:lnTo>
                    <a:pt x="2355" y="34"/>
                  </a:lnTo>
                  <a:lnTo>
                    <a:pt x="2328" y="43"/>
                  </a:lnTo>
                  <a:lnTo>
                    <a:pt x="2302" y="56"/>
                  </a:lnTo>
                  <a:lnTo>
                    <a:pt x="2275" y="68"/>
                  </a:lnTo>
                  <a:lnTo>
                    <a:pt x="2259" y="82"/>
                  </a:lnTo>
                  <a:lnTo>
                    <a:pt x="2240" y="95"/>
                  </a:lnTo>
                  <a:lnTo>
                    <a:pt x="2216" y="108"/>
                  </a:lnTo>
                  <a:lnTo>
                    <a:pt x="2196" y="125"/>
                  </a:lnTo>
                  <a:lnTo>
                    <a:pt x="2179" y="142"/>
                  </a:lnTo>
                  <a:lnTo>
                    <a:pt x="2173" y="159"/>
                  </a:lnTo>
                  <a:lnTo>
                    <a:pt x="2173" y="164"/>
                  </a:lnTo>
                  <a:lnTo>
                    <a:pt x="2136" y="142"/>
                  </a:lnTo>
                  <a:lnTo>
                    <a:pt x="2120" y="133"/>
                  </a:lnTo>
                  <a:lnTo>
                    <a:pt x="2093" y="120"/>
                  </a:lnTo>
                  <a:lnTo>
                    <a:pt x="2076" y="112"/>
                  </a:lnTo>
                  <a:lnTo>
                    <a:pt x="2049" y="104"/>
                  </a:lnTo>
                  <a:lnTo>
                    <a:pt x="2033" y="98"/>
                  </a:lnTo>
                  <a:lnTo>
                    <a:pt x="2006" y="90"/>
                  </a:lnTo>
                  <a:lnTo>
                    <a:pt x="1980" y="86"/>
                  </a:lnTo>
                  <a:lnTo>
                    <a:pt x="1963" y="77"/>
                  </a:lnTo>
                  <a:lnTo>
                    <a:pt x="1937" y="74"/>
                  </a:lnTo>
                  <a:lnTo>
                    <a:pt x="1910" y="68"/>
                  </a:lnTo>
                  <a:lnTo>
                    <a:pt x="1884" y="68"/>
                  </a:lnTo>
                  <a:lnTo>
                    <a:pt x="1860" y="64"/>
                  </a:lnTo>
                  <a:lnTo>
                    <a:pt x="1831" y="64"/>
                  </a:lnTo>
                  <a:lnTo>
                    <a:pt x="1813" y="64"/>
                  </a:lnTo>
                  <a:lnTo>
                    <a:pt x="1770" y="64"/>
                  </a:lnTo>
                  <a:lnTo>
                    <a:pt x="1737" y="68"/>
                  </a:lnTo>
                  <a:lnTo>
                    <a:pt x="1701" y="74"/>
                  </a:lnTo>
                  <a:lnTo>
                    <a:pt x="1674" y="77"/>
                  </a:lnTo>
                  <a:lnTo>
                    <a:pt x="1640" y="86"/>
                  </a:lnTo>
                  <a:lnTo>
                    <a:pt x="1605" y="90"/>
                  </a:lnTo>
                  <a:lnTo>
                    <a:pt x="1571" y="104"/>
                  </a:lnTo>
                  <a:lnTo>
                    <a:pt x="1544" y="112"/>
                  </a:lnTo>
                  <a:lnTo>
                    <a:pt x="1518" y="125"/>
                  </a:lnTo>
                  <a:lnTo>
                    <a:pt x="1484" y="142"/>
                  </a:lnTo>
                  <a:lnTo>
                    <a:pt x="1457" y="154"/>
                  </a:lnTo>
                  <a:lnTo>
                    <a:pt x="1439" y="172"/>
                  </a:lnTo>
                  <a:lnTo>
                    <a:pt x="1414" y="189"/>
                  </a:lnTo>
                  <a:lnTo>
                    <a:pt x="1388" y="206"/>
                  </a:lnTo>
                  <a:lnTo>
                    <a:pt x="1369" y="228"/>
                  </a:lnTo>
                  <a:lnTo>
                    <a:pt x="1351" y="249"/>
                  </a:lnTo>
                  <a:lnTo>
                    <a:pt x="1351" y="249"/>
                  </a:lnTo>
                  <a:lnTo>
                    <a:pt x="1316" y="237"/>
                  </a:lnTo>
                  <a:lnTo>
                    <a:pt x="1275" y="223"/>
                  </a:lnTo>
                  <a:lnTo>
                    <a:pt x="1231" y="215"/>
                  </a:lnTo>
                  <a:lnTo>
                    <a:pt x="1196" y="206"/>
                  </a:lnTo>
                  <a:lnTo>
                    <a:pt x="1152" y="198"/>
                  </a:lnTo>
                  <a:lnTo>
                    <a:pt x="1109" y="194"/>
                  </a:lnTo>
                  <a:lnTo>
                    <a:pt x="1064" y="189"/>
                  </a:lnTo>
                  <a:lnTo>
                    <a:pt x="1020" y="189"/>
                  </a:lnTo>
                  <a:lnTo>
                    <a:pt x="987" y="189"/>
                  </a:lnTo>
                  <a:lnTo>
                    <a:pt x="950" y="194"/>
                  </a:lnTo>
                  <a:lnTo>
                    <a:pt x="924" y="198"/>
                  </a:lnTo>
                  <a:lnTo>
                    <a:pt x="890" y="198"/>
                  </a:lnTo>
                  <a:lnTo>
                    <a:pt x="857" y="206"/>
                  </a:lnTo>
                  <a:lnTo>
                    <a:pt x="830" y="211"/>
                  </a:lnTo>
                  <a:lnTo>
                    <a:pt x="796" y="215"/>
                  </a:lnTo>
                  <a:lnTo>
                    <a:pt x="767" y="223"/>
                  </a:lnTo>
                  <a:lnTo>
                    <a:pt x="741" y="233"/>
                  </a:lnTo>
                  <a:lnTo>
                    <a:pt x="708" y="245"/>
                  </a:lnTo>
                  <a:lnTo>
                    <a:pt x="681" y="254"/>
                  </a:lnTo>
                  <a:lnTo>
                    <a:pt x="655" y="267"/>
                  </a:lnTo>
                  <a:lnTo>
                    <a:pt x="628" y="279"/>
                  </a:lnTo>
                  <a:lnTo>
                    <a:pt x="604" y="293"/>
                  </a:lnTo>
                  <a:lnTo>
                    <a:pt x="584" y="305"/>
                  </a:lnTo>
                  <a:lnTo>
                    <a:pt x="558" y="319"/>
                  </a:lnTo>
                  <a:lnTo>
                    <a:pt x="534" y="335"/>
                  </a:lnTo>
                  <a:lnTo>
                    <a:pt x="515" y="349"/>
                  </a:lnTo>
                  <a:lnTo>
                    <a:pt x="498" y="366"/>
                  </a:lnTo>
                  <a:lnTo>
                    <a:pt x="481" y="384"/>
                  </a:lnTo>
                  <a:lnTo>
                    <a:pt x="464" y="403"/>
                  </a:lnTo>
                  <a:lnTo>
                    <a:pt x="445" y="421"/>
                  </a:lnTo>
                  <a:lnTo>
                    <a:pt x="428" y="439"/>
                  </a:lnTo>
                  <a:lnTo>
                    <a:pt x="421" y="460"/>
                  </a:lnTo>
                  <a:lnTo>
                    <a:pt x="411" y="477"/>
                  </a:lnTo>
                  <a:lnTo>
                    <a:pt x="395" y="498"/>
                  </a:lnTo>
                  <a:lnTo>
                    <a:pt x="385" y="520"/>
                  </a:lnTo>
                  <a:lnTo>
                    <a:pt x="385" y="542"/>
                  </a:lnTo>
                  <a:lnTo>
                    <a:pt x="375" y="563"/>
                  </a:lnTo>
                  <a:lnTo>
                    <a:pt x="366" y="584"/>
                  </a:lnTo>
                  <a:lnTo>
                    <a:pt x="366" y="606"/>
                  </a:lnTo>
                  <a:lnTo>
                    <a:pt x="366" y="628"/>
                  </a:lnTo>
                  <a:lnTo>
                    <a:pt x="366" y="658"/>
                  </a:lnTo>
                  <a:lnTo>
                    <a:pt x="375" y="68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75760" y="3215160"/>
              <a:ext cx="15066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180000" anchor="ctr" anchorCtr="1">
              <a:spAutoFit/>
            </a:bodyPr>
            <a:p>
              <a:pPr algn="ctr">
                <a:lnSpc>
                  <a:spcPts val="305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Job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8034480" y="4335480"/>
            <a:ext cx="714240" cy="557280"/>
            <a:chOff x="8034480" y="4335480"/>
            <a:chExt cx="714240" cy="557280"/>
          </a:xfrm>
        </p:grpSpPr>
        <p:sp>
          <p:nvSpPr>
            <p:cNvPr id="274" name=""/>
            <p:cNvSpPr/>
            <p:nvPr/>
          </p:nvSpPr>
          <p:spPr>
            <a:xfrm>
              <a:off x="8034480" y="4335480"/>
              <a:ext cx="714240" cy="557280"/>
            </a:xfrm>
            <a:prstGeom prst="roundRect">
              <a:avLst>
                <a:gd name="adj" fmla="val 15139"/>
              </a:avLst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66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66160" y="44305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754680" y="5052600"/>
            <a:ext cx="1282680" cy="1260720"/>
            <a:chOff x="6754680" y="5052600"/>
            <a:chExt cx="1282680" cy="1260720"/>
          </a:xfrm>
        </p:grpSpPr>
        <p:grpSp>
          <p:nvGrpSpPr>
            <p:cNvPr id="277" name=""/>
            <p:cNvGrpSpPr/>
            <p:nvPr/>
          </p:nvGrpSpPr>
          <p:grpSpPr>
            <a:xfrm>
              <a:off x="6754680" y="5052960"/>
              <a:ext cx="1282680" cy="1260360"/>
              <a:chOff x="6754680" y="5052960"/>
              <a:chExt cx="1282680" cy="1260360"/>
            </a:xfrm>
          </p:grpSpPr>
          <p:sp>
            <p:nvSpPr>
              <p:cNvPr id="278" name=""/>
              <p:cNvSpPr/>
              <p:nvPr/>
            </p:nvSpPr>
            <p:spPr>
              <a:xfrm>
                <a:off x="6754680" y="5052960"/>
                <a:ext cx="1282680" cy="1260360"/>
              </a:xfrm>
              <a:custGeom>
                <a:avLst/>
                <a:gdLst/>
                <a:ahLst/>
                <a:rect l="l" t="t" r="r" b="b"/>
                <a:pathLst>
                  <a:path w="3563" h="3501">
                    <a:moveTo>
                      <a:pt x="0" y="0"/>
                    </a:moveTo>
                    <a:lnTo>
                      <a:pt x="3562" y="0"/>
                    </a:lnTo>
                    <a:lnTo>
                      <a:pt x="3562" y="3062"/>
                    </a:lnTo>
                    <a:lnTo>
                      <a:pt x="3116" y="3500"/>
                    </a:lnTo>
                    <a:lnTo>
                      <a:pt x="0" y="35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cc99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77160" y="6154560"/>
                <a:ext cx="160200" cy="158760"/>
              </a:xfrm>
              <a:custGeom>
                <a:avLst/>
                <a:gdLst/>
                <a:ahLst/>
                <a:rect l="l" t="t" r="r" b="b"/>
                <a:pathLst>
                  <a:path w="447" h="439">
                    <a:moveTo>
                      <a:pt x="0" y="438"/>
                    </a:moveTo>
                    <a:lnTo>
                      <a:pt x="116" y="0"/>
                    </a:lnTo>
                    <a:cubicBezTo>
                      <a:pt x="227" y="62"/>
                      <a:pt x="223" y="26"/>
                      <a:pt x="446" y="0"/>
                    </a:cubicBezTo>
                    <a:lnTo>
                      <a:pt x="0" y="438"/>
                    </a:lnTo>
                  </a:path>
                </a:pathLst>
              </a:custGeom>
              <a:solidFill>
                <a:srgbClr val="dbaf83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778440" y="5052600"/>
              <a:ext cx="123516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Resour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6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requir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6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Ran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6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expr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8773200" y="5052960"/>
            <a:ext cx="1198800" cy="1260360"/>
            <a:chOff x="8773200" y="5052960"/>
            <a:chExt cx="1198800" cy="1260360"/>
          </a:xfrm>
        </p:grpSpPr>
        <p:grpSp>
          <p:nvGrpSpPr>
            <p:cNvPr id="282" name=""/>
            <p:cNvGrpSpPr/>
            <p:nvPr/>
          </p:nvGrpSpPr>
          <p:grpSpPr>
            <a:xfrm>
              <a:off x="8785080" y="5052960"/>
              <a:ext cx="1176480" cy="1260360"/>
              <a:chOff x="8785080" y="5052960"/>
              <a:chExt cx="1176480" cy="1260360"/>
            </a:xfrm>
          </p:grpSpPr>
          <p:sp>
            <p:nvSpPr>
              <p:cNvPr id="283" name=""/>
              <p:cNvSpPr/>
              <p:nvPr/>
            </p:nvSpPr>
            <p:spPr>
              <a:xfrm>
                <a:off x="8785080" y="5052960"/>
                <a:ext cx="1176480" cy="1260360"/>
              </a:xfrm>
              <a:custGeom>
                <a:avLst/>
                <a:gdLst/>
                <a:ahLst/>
                <a:rect l="l" t="t" r="r" b="b"/>
                <a:pathLst>
                  <a:path w="3267" h="3501">
                    <a:moveTo>
                      <a:pt x="0" y="0"/>
                    </a:moveTo>
                    <a:lnTo>
                      <a:pt x="3266" y="0"/>
                    </a:lnTo>
                    <a:lnTo>
                      <a:pt x="3266" y="3062"/>
                    </a:lnTo>
                    <a:lnTo>
                      <a:pt x="2857" y="3500"/>
                    </a:lnTo>
                    <a:lnTo>
                      <a:pt x="0" y="35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813960" y="6154560"/>
                <a:ext cx="147600" cy="158760"/>
              </a:xfrm>
              <a:custGeom>
                <a:avLst/>
                <a:gdLst/>
                <a:ahLst/>
                <a:rect l="l" t="t" r="r" b="b"/>
                <a:pathLst>
                  <a:path w="410" h="439">
                    <a:moveTo>
                      <a:pt x="0" y="438"/>
                    </a:moveTo>
                    <a:lnTo>
                      <a:pt x="106" y="0"/>
                    </a:lnTo>
                    <a:cubicBezTo>
                      <a:pt x="209" y="62"/>
                      <a:pt x="204" y="26"/>
                      <a:pt x="409" y="0"/>
                    </a:cubicBezTo>
                    <a:lnTo>
                      <a:pt x="0" y="438"/>
                    </a:lnTo>
                  </a:path>
                </a:pathLst>
              </a:custGeom>
              <a:solidFill>
                <a:srgbClr val="dbaf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8773200" y="5052960"/>
              <a:ext cx="11988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Perform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6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Pro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03680" y="671688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IIS/G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69800" y="663732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xecution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54000" y="10810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/>
          <p:nvPr/>
        </p:nvCxnSpPr>
        <p:spPr>
          <a:xfrm flipV="1" rot="10800000">
            <a:off x="8233560" y="4892400"/>
            <a:ext cx="194400" cy="716760"/>
          </a:xfrm>
          <a:prstGeom prst="bentConnector3">
            <a:avLst>
              <a:gd name="adj1" fmla="val 499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"/>
          <p:cNvCxnSpPr/>
          <p:nvPr/>
        </p:nvCxnSpPr>
        <p:spPr>
          <a:xfrm>
            <a:off x="8427600" y="4892400"/>
            <a:ext cx="135720" cy="789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/>
          <p:nvPr/>
        </p:nvCxnSpPr>
        <p:spPr>
          <a:xfrm flipV="1" rot="10800000">
            <a:off x="6230160" y="6391080"/>
            <a:ext cx="1167480" cy="19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"/>
          <p:cNvCxnSpPr/>
          <p:nvPr/>
        </p:nvCxnSpPr>
        <p:spPr>
          <a:xfrm flipV="1" rot="10800000">
            <a:off x="6230160" y="6311880"/>
            <a:ext cx="3142440" cy="278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62" idx="0"/>
          </p:cNvCxnSpPr>
          <p:nvPr/>
        </p:nvCxnSpPr>
        <p:spPr>
          <a:xfrm rot="10800000">
            <a:off x="4117320" y="5758560"/>
            <a:ext cx="605520" cy="766080"/>
          </a:xfrm>
          <a:prstGeom prst="curvedConnector5">
            <a:avLst>
              <a:gd name="adj1" fmla="val 49970"/>
              <a:gd name="adj2" fmla="val 49976"/>
              <a:gd name="adj3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62" idx="1"/>
          </p:cNvCxnSpPr>
          <p:nvPr/>
        </p:nvCxnSpPr>
        <p:spPr>
          <a:xfrm rot="10800000">
            <a:off x="1461240" y="4413960"/>
            <a:ext cx="3261600" cy="21092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"/>
          <p:cNvCxnSpPr/>
          <p:nvPr/>
        </p:nvCxnSpPr>
        <p:spPr>
          <a:xfrm flipV="1">
            <a:off x="6075000" y="3669480"/>
            <a:ext cx="253080" cy="110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6" name=""/>
          <p:cNvCxnSpPr/>
          <p:nvPr/>
        </p:nvCxnSpPr>
        <p:spPr>
          <a:xfrm>
            <a:off x="7596360" y="3670200"/>
            <a:ext cx="437040" cy="983520"/>
          </a:xfrm>
          <a:prstGeom prst="curvedConnector5">
            <a:avLst>
              <a:gd name="adj1" fmla="val 49958"/>
              <a:gd name="adj2" fmla="val 49981"/>
              <a:gd name="adj3" fmla="val 4995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"/>
          <p:cNvCxnSpPr/>
          <p:nvPr/>
        </p:nvCxnSpPr>
        <p:spPr>
          <a:xfrm flipV="1" rot="10800000">
            <a:off x="8748000" y="4017600"/>
            <a:ext cx="380160" cy="635760"/>
          </a:xfrm>
          <a:prstGeom prst="curvedConnector5">
            <a:avLst>
              <a:gd name="adj1" fmla="val 49952"/>
              <a:gd name="adj2" fmla="val 49971"/>
              <a:gd name="adj3" fmla="val 49952"/>
            </a:avLst>
          </a:prstGeom>
          <a:ln w="936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65" idx="0"/>
            <a:endCxn id="271" idx="0"/>
          </p:cNvCxnSpPr>
          <p:nvPr/>
        </p:nvCxnSpPr>
        <p:spPr>
          <a:xfrm flipV="1" rot="10800000">
            <a:off x="9127440" y="2526840"/>
            <a:ext cx="119880" cy="618480"/>
          </a:xfrm>
          <a:prstGeom prst="curvedConnector5">
            <a:avLst>
              <a:gd name="adj1" fmla="val 50000"/>
              <a:gd name="adj2" fmla="val 49970"/>
              <a:gd name="adj3" fmla="val 50000"/>
            </a:avLst>
          </a:prstGeom>
          <a:ln w="936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299" name=""/>
          <p:cNvCxnSpPr/>
          <p:nvPr/>
        </p:nvCxnSpPr>
        <p:spPr>
          <a:xfrm flipH="1">
            <a:off x="712440" y="3153960"/>
            <a:ext cx="8640" cy="2531160"/>
          </a:xfrm>
          <a:prstGeom prst="straightConnector1">
            <a:avLst/>
          </a:prstGeom>
          <a:ln w="936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33480" y="5432400"/>
            <a:ext cx="1950840" cy="1681200"/>
          </a:xfrm>
          <a:custGeom>
            <a:avLst/>
            <a:gdLst/>
            <a:ahLst/>
            <a:rect l="l" t="t" r="r" b="b"/>
            <a:pathLst>
              <a:path w="5418" h="4668">
                <a:moveTo>
                  <a:pt x="0" y="0"/>
                </a:moveTo>
                <a:cubicBezTo>
                  <a:pt x="261" y="67"/>
                  <a:pt x="1170" y="354"/>
                  <a:pt x="1588" y="416"/>
                </a:cubicBezTo>
                <a:cubicBezTo>
                  <a:pt x="2006" y="478"/>
                  <a:pt x="2224" y="388"/>
                  <a:pt x="2521" y="373"/>
                </a:cubicBezTo>
                <a:cubicBezTo>
                  <a:pt x="2818" y="358"/>
                  <a:pt x="3060" y="125"/>
                  <a:pt x="3356" y="325"/>
                </a:cubicBezTo>
                <a:cubicBezTo>
                  <a:pt x="3652" y="525"/>
                  <a:pt x="3954" y="1185"/>
                  <a:pt x="4289" y="1583"/>
                </a:cubicBezTo>
                <a:cubicBezTo>
                  <a:pt x="4624" y="1981"/>
                  <a:pt x="5309" y="2418"/>
                  <a:pt x="5363" y="2705"/>
                </a:cubicBezTo>
                <a:cubicBezTo>
                  <a:pt x="5417" y="2992"/>
                  <a:pt x="4886" y="2982"/>
                  <a:pt x="4619" y="3307"/>
                </a:cubicBezTo>
                <a:cubicBezTo>
                  <a:pt x="4352" y="3632"/>
                  <a:pt x="3938" y="4386"/>
                  <a:pt x="3759" y="4667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/>
          <p:nvPr/>
        </p:nvCxnSpPr>
        <p:spPr>
          <a:xfrm flipV="1">
            <a:off x="5292720" y="2193120"/>
            <a:ext cx="3240720" cy="20556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936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71" idx="1"/>
          </p:cNvCxnSpPr>
          <p:nvPr/>
        </p:nvCxnSpPr>
        <p:spPr>
          <a:xfrm rot="10800000">
            <a:off x="6563520" y="2734560"/>
            <a:ext cx="1812240" cy="781920"/>
          </a:xfrm>
          <a:prstGeom prst="curvedConnector5">
            <a:avLst>
              <a:gd name="adj1" fmla="val 49990"/>
              <a:gd name="adj2" fmla="val 49976"/>
              <a:gd name="adj3" fmla="val 49990"/>
            </a:avLst>
          </a:prstGeom>
          <a:ln w="936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4368960" y="1468440"/>
            <a:ext cx="5643360" cy="5591160"/>
          </a:xfrm>
          <a:custGeom>
            <a:avLst/>
            <a:gdLst/>
            <a:ahLst/>
            <a:rect l="l" t="t" r="r" b="b"/>
            <a:pathLst>
              <a:path w="15677" h="15530">
                <a:moveTo>
                  <a:pt x="0" y="15529"/>
                </a:moveTo>
                <a:cubicBezTo>
                  <a:pt x="218" y="15087"/>
                  <a:pt x="543" y="13463"/>
                  <a:pt x="1306" y="12871"/>
                </a:cubicBezTo>
                <a:cubicBezTo>
                  <a:pt x="2069" y="12279"/>
                  <a:pt x="3838" y="12395"/>
                  <a:pt x="4572" y="11982"/>
                </a:cubicBezTo>
                <a:cubicBezTo>
                  <a:pt x="5306" y="11569"/>
                  <a:pt x="5379" y="10834"/>
                  <a:pt x="5714" y="10398"/>
                </a:cubicBezTo>
                <a:cubicBezTo>
                  <a:pt x="6049" y="9962"/>
                  <a:pt x="6297" y="9649"/>
                  <a:pt x="6588" y="9347"/>
                </a:cubicBezTo>
                <a:cubicBezTo>
                  <a:pt x="6879" y="9045"/>
                  <a:pt x="7143" y="8764"/>
                  <a:pt x="7464" y="8590"/>
                </a:cubicBezTo>
                <a:cubicBezTo>
                  <a:pt x="7785" y="8416"/>
                  <a:pt x="8212" y="8424"/>
                  <a:pt x="8513" y="8298"/>
                </a:cubicBezTo>
                <a:cubicBezTo>
                  <a:pt x="8814" y="8172"/>
                  <a:pt x="9058" y="8011"/>
                  <a:pt x="9282" y="7831"/>
                </a:cubicBezTo>
                <a:cubicBezTo>
                  <a:pt x="9506" y="7651"/>
                  <a:pt x="9602" y="7680"/>
                  <a:pt x="9845" y="7224"/>
                </a:cubicBezTo>
                <a:cubicBezTo>
                  <a:pt x="10088" y="6768"/>
                  <a:pt x="10389" y="6145"/>
                  <a:pt x="10729" y="5081"/>
                </a:cubicBezTo>
                <a:cubicBezTo>
                  <a:pt x="11069" y="4017"/>
                  <a:pt x="11352" y="1664"/>
                  <a:pt x="11895" y="832"/>
                </a:cubicBezTo>
                <a:cubicBezTo>
                  <a:pt x="12438" y="0"/>
                  <a:pt x="13364" y="114"/>
                  <a:pt x="13995" y="84"/>
                </a:cubicBezTo>
                <a:cubicBezTo>
                  <a:pt x="14626" y="54"/>
                  <a:pt x="15327" y="531"/>
                  <a:pt x="15676" y="64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42800" y="189540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Arial"/>
              </a:rPr>
              <a:t>GRAM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5840" y="250992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Arial"/>
              </a:rPr>
              <a:t>GRAM call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05920" y="1382760"/>
            <a:ext cx="154152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Submis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077480" cy="757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id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y: Archite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39680" y="1708200"/>
            <a:ext cx="9798120" cy="2701800"/>
          </a:xfrm>
          <a:prstGeom prst="roundRect">
            <a:avLst>
              <a:gd name="adj" fmla="val 101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3760" y="1824120"/>
            <a:ext cx="9786960" cy="25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e to the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heterogeneo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dynami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ture of the Grid, users must establis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169920">
              <a:lnSpc>
                <a:spcPct val="129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The 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  <a:ea typeface="HG Mincho Light J"/>
              </a:rPr>
              <a:t>requirements</a:t>
            </a:r>
            <a:r>
              <a:rPr b="0" lang="en-GB" sz="1800" spc="-1" strike="noStrike">
                <a:solidFill>
                  <a:srgbClr val="f07800"/>
                </a:solidFill>
                <a:latin typeface="Arial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which must be met by the target resour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8920" indent="-180720">
              <a:lnSpc>
                <a:spcPct val="129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Characteristics: operating system, architecture, specific softwar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8920" indent="-180720">
              <a:lnSpc>
                <a:spcPct val="129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Implicit requirements: availability and autho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169920">
              <a:lnSpc>
                <a:spcPct val="129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The 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  <a:ea typeface="HG Mincho Light J"/>
              </a:rPr>
              <a:t>preferences</a:t>
            </a:r>
            <a:r>
              <a:rPr b="0" lang="en-GB" sz="1800" spc="-1" strike="noStrike">
                <a:solidFill>
                  <a:srgbClr val="f07800"/>
                </a:solidFill>
                <a:latin typeface="Arial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to classify the matching resour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8920" indent="-180720">
              <a:lnSpc>
                <a:spcPct val="129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Status: load, free memory, free storag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8920" indent="-180720">
              <a:lnSpc>
                <a:spcPct val="129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They can include 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  <a:ea typeface="HG Mincho Light J"/>
              </a:rPr>
              <a:t>performance mode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, in terms of application-specific 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1640" y="4802040"/>
            <a:ext cx="9660240" cy="18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Static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</a:rPr>
              <a:t> dynamic inform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thered from the information services availab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Predefined list of resources and probe scripts (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up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bsnod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Globus 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Network Weather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Replica Location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5880" y="2189160"/>
            <a:ext cx="238320" cy="2011320"/>
          </a:xfrm>
          <a:custGeom>
            <a:avLst/>
            <a:gdLst/>
            <a:ahLst/>
            <a:rect l="l" t="t" r="r" b="b"/>
            <a:pathLst>
              <a:path w="663" h="5589">
                <a:moveTo>
                  <a:pt x="662" y="0"/>
                </a:moveTo>
                <a:cubicBezTo>
                  <a:pt x="495" y="0"/>
                  <a:pt x="330" y="232"/>
                  <a:pt x="330" y="464"/>
                </a:cubicBezTo>
                <a:lnTo>
                  <a:pt x="330" y="2328"/>
                </a:lnTo>
                <a:cubicBezTo>
                  <a:pt x="330" y="2561"/>
                  <a:pt x="165" y="2794"/>
                  <a:pt x="0" y="2794"/>
                </a:cubicBezTo>
                <a:cubicBezTo>
                  <a:pt x="165" y="2794"/>
                  <a:pt x="330" y="3026"/>
                  <a:pt x="330" y="3260"/>
                </a:cubicBezTo>
                <a:lnTo>
                  <a:pt x="330" y="5122"/>
                </a:lnTo>
                <a:cubicBezTo>
                  <a:pt x="330" y="5355"/>
                  <a:pt x="495" y="5588"/>
                  <a:pt x="662" y="558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27160" y="5156280"/>
            <a:ext cx="252360" cy="1326960"/>
          </a:xfrm>
          <a:custGeom>
            <a:avLst/>
            <a:gdLst/>
            <a:ahLst/>
            <a:rect l="l" t="t" r="r" b="b"/>
            <a:pathLst>
              <a:path w="701" h="3685">
                <a:moveTo>
                  <a:pt x="700" y="0"/>
                </a:moveTo>
                <a:cubicBezTo>
                  <a:pt x="525" y="0"/>
                  <a:pt x="350" y="153"/>
                  <a:pt x="350" y="307"/>
                </a:cubicBezTo>
                <a:lnTo>
                  <a:pt x="350" y="1535"/>
                </a:lnTo>
                <a:cubicBezTo>
                  <a:pt x="350" y="1688"/>
                  <a:pt x="175" y="1841"/>
                  <a:pt x="0" y="1841"/>
                </a:cubicBezTo>
                <a:cubicBezTo>
                  <a:pt x="175" y="1841"/>
                  <a:pt x="350" y="1995"/>
                  <a:pt x="350" y="2149"/>
                </a:cubicBezTo>
                <a:lnTo>
                  <a:pt x="350" y="3376"/>
                </a:lnTo>
                <a:cubicBezTo>
                  <a:pt x="350" y="3530"/>
                  <a:pt x="525" y="3684"/>
                  <a:pt x="700" y="3684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1" idx="0"/>
            <a:endCxn id="312" idx="0"/>
          </p:cNvCxnSpPr>
          <p:nvPr/>
        </p:nvCxnSpPr>
        <p:spPr>
          <a:xfrm>
            <a:off x="515880" y="3195360"/>
            <a:ext cx="613440" cy="2626200"/>
          </a:xfrm>
          <a:prstGeom prst="bentConnector3">
            <a:avLst>
              <a:gd name="adj1" fmla="val 4997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14" name=""/>
          <p:cNvSpPr/>
          <p:nvPr/>
        </p:nvSpPr>
        <p:spPr>
          <a:xfrm>
            <a:off x="168120" y="852480"/>
            <a:ext cx="973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Arial"/>
              </a:rPr>
              <a:t>It is maybe the most important step in Grid scheduling and in turns relies completely on the information gathered from the Gr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077480" cy="757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id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y: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source Discovery and Selection (I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52360" y="4313160"/>
            <a:ext cx="5040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07800"/>
                </a:solidFill>
                <a:uFillTx/>
                <a:latin typeface="Arial Narrow"/>
              </a:rPr>
              <a:t>Dynamic inform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-168120">
              <a:lnSpc>
                <a:spcPct val="138000"/>
              </a:lnSpc>
              <a:buClr>
                <a:srgbClr val="3366cc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 Narrow"/>
                <a:ea typeface="HG Mincho Light J"/>
              </a:rPr>
              <a:t>Status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863880" y="828720"/>
            <a:ext cx="4368960" cy="1270080"/>
            <a:chOff x="3863880" y="828720"/>
            <a:chExt cx="4368960" cy="1270080"/>
          </a:xfrm>
        </p:grpSpPr>
        <p:grpSp>
          <p:nvGrpSpPr>
            <p:cNvPr id="318" name=""/>
            <p:cNvGrpSpPr/>
            <p:nvPr/>
          </p:nvGrpSpPr>
          <p:grpSpPr>
            <a:xfrm>
              <a:off x="3921120" y="828720"/>
              <a:ext cx="4202280" cy="1262160"/>
              <a:chOff x="3921120" y="828720"/>
              <a:chExt cx="4202280" cy="1262160"/>
            </a:xfrm>
          </p:grpSpPr>
          <p:sp>
            <p:nvSpPr>
              <p:cNvPr id="319" name=""/>
              <p:cNvSpPr/>
              <p:nvPr/>
            </p:nvSpPr>
            <p:spPr>
              <a:xfrm>
                <a:off x="3921120" y="828720"/>
                <a:ext cx="4200480" cy="1260360"/>
              </a:xfrm>
              <a:custGeom>
                <a:avLst/>
                <a:gdLst/>
                <a:ahLst/>
                <a:rect l="l" t="t" r="r" b="b"/>
                <a:pathLst>
                  <a:path w="11668" h="3501">
                    <a:moveTo>
                      <a:pt x="0" y="0"/>
                    </a:moveTo>
                    <a:lnTo>
                      <a:pt x="11667" y="0"/>
                    </a:lnTo>
                    <a:lnTo>
                      <a:pt x="11667" y="2987"/>
                    </a:lnTo>
                    <a:lnTo>
                      <a:pt x="9959" y="3500"/>
                    </a:lnTo>
                    <a:lnTo>
                      <a:pt x="0" y="350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d5a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7440" y="1905120"/>
                <a:ext cx="615960" cy="185760"/>
              </a:xfrm>
              <a:custGeom>
                <a:avLst/>
                <a:gdLst/>
                <a:ahLst/>
                <a:rect l="l" t="t" r="r" b="b"/>
                <a:pathLst>
                  <a:path w="1709" h="514">
                    <a:moveTo>
                      <a:pt x="0" y="513"/>
                    </a:moveTo>
                    <a:lnTo>
                      <a:pt x="443" y="0"/>
                    </a:lnTo>
                    <a:cubicBezTo>
                      <a:pt x="869" y="73"/>
                      <a:pt x="854" y="32"/>
                      <a:pt x="1708" y="0"/>
                    </a:cubicBezTo>
                    <a:lnTo>
                      <a:pt x="0" y="513"/>
                    </a:lnTo>
                  </a:path>
                </a:pathLst>
              </a:custGeom>
              <a:solidFill>
                <a:srgbClr val="dbb79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608960" y="1603440"/>
              <a:ext cx="623880" cy="403200"/>
              <a:chOff x="7608960" y="1603440"/>
              <a:chExt cx="623880" cy="403200"/>
            </a:xfrm>
          </p:grpSpPr>
          <p:sp>
            <p:nvSpPr>
              <p:cNvPr id="322" name=""/>
              <p:cNvSpPr/>
              <p:nvPr/>
            </p:nvSpPr>
            <p:spPr>
              <a:xfrm>
                <a:off x="7608960" y="1603440"/>
                <a:ext cx="623880" cy="40320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08960" y="1635480"/>
                <a:ext cx="62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Narrow"/>
                  </a:rPr>
                  <a:t>2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175440" y="1603440"/>
              <a:ext cx="1527120" cy="403200"/>
              <a:chOff x="6175440" y="1603440"/>
              <a:chExt cx="1527120" cy="403200"/>
            </a:xfrm>
          </p:grpSpPr>
          <p:sp>
            <p:nvSpPr>
              <p:cNvPr id="325" name=""/>
              <p:cNvSpPr/>
              <p:nvPr/>
            </p:nvSpPr>
            <p:spPr>
              <a:xfrm>
                <a:off x="6175440" y="1603440"/>
                <a:ext cx="1527120" cy="40320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75440" y="1635480"/>
                <a:ext cx="1527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Narrow"/>
                  </a:rPr>
                  <a:t>jobmanag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094360" y="1603440"/>
              <a:ext cx="1179360" cy="403200"/>
              <a:chOff x="5094360" y="1603440"/>
              <a:chExt cx="1179360" cy="403200"/>
            </a:xfrm>
          </p:grpSpPr>
          <p:sp>
            <p:nvSpPr>
              <p:cNvPr id="328" name=""/>
              <p:cNvSpPr/>
              <p:nvPr/>
            </p:nvSpPr>
            <p:spPr>
              <a:xfrm>
                <a:off x="5094360" y="1603440"/>
                <a:ext cx="1179360" cy="40320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094360" y="1635480"/>
                <a:ext cx="117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Narrow"/>
                  </a:rPr>
                  <a:t>jobmanag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863880" y="1603440"/>
              <a:ext cx="1317600" cy="403200"/>
              <a:chOff x="3863880" y="1603440"/>
              <a:chExt cx="1317600" cy="403200"/>
            </a:xfrm>
          </p:grpSpPr>
          <p:sp>
            <p:nvSpPr>
              <p:cNvPr id="331" name=""/>
              <p:cNvSpPr/>
              <p:nvPr/>
            </p:nvSpPr>
            <p:spPr>
              <a:xfrm>
                <a:off x="3863880" y="1603440"/>
                <a:ext cx="1317600" cy="40320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863880" y="1635480"/>
                <a:ext cx="131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Narrow"/>
                  </a:rPr>
                  <a:t>ursa.ucm.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7608960" y="1295280"/>
              <a:ext cx="623880" cy="403200"/>
              <a:chOff x="7608960" y="1295280"/>
              <a:chExt cx="623880" cy="403200"/>
            </a:xfrm>
          </p:grpSpPr>
          <p:sp>
            <p:nvSpPr>
              <p:cNvPr id="334" name=""/>
              <p:cNvSpPr/>
              <p:nvPr/>
            </p:nvSpPr>
            <p:spPr>
              <a:xfrm>
                <a:off x="7608960" y="1295280"/>
                <a:ext cx="623880" cy="40320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608960" y="1327680"/>
                <a:ext cx="62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Narrow"/>
                  </a:rPr>
                  <a:t>5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175440" y="1295280"/>
              <a:ext cx="1527120" cy="403200"/>
              <a:chOff x="6175440" y="1295280"/>
              <a:chExt cx="1527120" cy="403200"/>
            </a:xfrm>
          </p:grpSpPr>
          <p:sp>
            <p:nvSpPr>
              <p:cNvPr id="337" name=""/>
              <p:cNvSpPr/>
              <p:nvPr/>
            </p:nvSpPr>
            <p:spPr>
              <a:xfrm>
                <a:off x="6175440" y="1295280"/>
                <a:ext cx="1527120" cy="40320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5440" y="1327320"/>
                <a:ext cx="1527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Narrow"/>
                  </a:rPr>
                  <a:t>jobmanager-pb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5097600" y="1295280"/>
              <a:ext cx="1179360" cy="403200"/>
              <a:chOff x="5097600" y="1295280"/>
              <a:chExt cx="1179360" cy="403200"/>
            </a:xfrm>
          </p:grpSpPr>
          <p:sp>
            <p:nvSpPr>
              <p:cNvPr id="340" name=""/>
              <p:cNvSpPr/>
              <p:nvPr/>
            </p:nvSpPr>
            <p:spPr>
              <a:xfrm>
                <a:off x="5097600" y="1295280"/>
                <a:ext cx="1179360" cy="40320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097600" y="1327320"/>
                <a:ext cx="117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Narrow"/>
                  </a:rPr>
                  <a:t>jobmanag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3863880" y="1295280"/>
              <a:ext cx="1317600" cy="403200"/>
              <a:chOff x="3863880" y="1295280"/>
              <a:chExt cx="1317600" cy="403200"/>
            </a:xfrm>
          </p:grpSpPr>
          <p:sp>
            <p:nvSpPr>
              <p:cNvPr id="343" name=""/>
              <p:cNvSpPr/>
              <p:nvPr/>
            </p:nvSpPr>
            <p:spPr>
              <a:xfrm>
                <a:off x="3863880" y="1295280"/>
                <a:ext cx="1317600" cy="40320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863880" y="1327320"/>
                <a:ext cx="131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 Narrow"/>
                  </a:rPr>
                  <a:t>babieca.cab.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7534440" y="892080"/>
              <a:ext cx="623880" cy="403200"/>
              <a:chOff x="7534440" y="892080"/>
              <a:chExt cx="623880" cy="403200"/>
            </a:xfrm>
          </p:grpSpPr>
          <p:sp>
            <p:nvSpPr>
              <p:cNvPr id="346" name=""/>
              <p:cNvSpPr/>
              <p:nvPr/>
            </p:nvSpPr>
            <p:spPr>
              <a:xfrm>
                <a:off x="7534440" y="892080"/>
                <a:ext cx="623880" cy="40320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534440" y="925920"/>
                <a:ext cx="62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 Narrow"/>
                  </a:rPr>
                  <a:t>ra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6202440" y="892080"/>
              <a:ext cx="1527120" cy="403200"/>
              <a:chOff x="6202440" y="892080"/>
              <a:chExt cx="1527120" cy="403200"/>
            </a:xfrm>
          </p:grpSpPr>
          <p:sp>
            <p:nvSpPr>
              <p:cNvPr id="349" name=""/>
              <p:cNvSpPr/>
              <p:nvPr/>
            </p:nvSpPr>
            <p:spPr>
              <a:xfrm>
                <a:off x="6202440" y="892080"/>
                <a:ext cx="1527120" cy="40320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202440" y="925920"/>
                <a:ext cx="1527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 Narrow"/>
                  </a:rPr>
                  <a:t>exec-r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5126040" y="892080"/>
              <a:ext cx="1179360" cy="403200"/>
              <a:chOff x="5126040" y="892080"/>
              <a:chExt cx="1179360" cy="403200"/>
            </a:xfrm>
          </p:grpSpPr>
          <p:sp>
            <p:nvSpPr>
              <p:cNvPr id="352" name=""/>
              <p:cNvSpPr/>
              <p:nvPr/>
            </p:nvSpPr>
            <p:spPr>
              <a:xfrm>
                <a:off x="5126040" y="892080"/>
                <a:ext cx="1179360" cy="40320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126040" y="925920"/>
                <a:ext cx="117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 Narrow"/>
                  </a:rPr>
                  <a:t>stage-r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3863880" y="892080"/>
              <a:ext cx="1317600" cy="403200"/>
              <a:chOff x="3863880" y="892080"/>
              <a:chExt cx="1317600" cy="403200"/>
            </a:xfrm>
          </p:grpSpPr>
          <p:sp>
            <p:nvSpPr>
              <p:cNvPr id="355" name=""/>
              <p:cNvSpPr/>
              <p:nvPr/>
            </p:nvSpPr>
            <p:spPr>
              <a:xfrm>
                <a:off x="3863880" y="892080"/>
                <a:ext cx="1317600" cy="40320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63880" y="925920"/>
                <a:ext cx="131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 Narrow"/>
                  </a:rPr>
                  <a:t>FQD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3921120" y="1295280"/>
              <a:ext cx="42292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14880" y="1306440"/>
              <a:ext cx="180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15040" y="1306440"/>
              <a:ext cx="144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43880" y="1306440"/>
              <a:ext cx="144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04760" y="836640"/>
            <a:ext cx="2919600" cy="1001520"/>
            <a:chOff x="104760" y="836640"/>
            <a:chExt cx="2919600" cy="1001520"/>
          </a:xfrm>
        </p:grpSpPr>
        <p:sp>
          <p:nvSpPr>
            <p:cNvPr id="362" name=""/>
            <p:cNvSpPr/>
            <p:nvPr/>
          </p:nvSpPr>
          <p:spPr>
            <a:xfrm>
              <a:off x="104760" y="836640"/>
              <a:ext cx="2919600" cy="1001520"/>
            </a:xfrm>
            <a:custGeom>
              <a:avLst/>
              <a:gdLst/>
              <a:ahLst/>
              <a:rect l="l" t="t" r="r" b="b"/>
              <a:pathLst>
                <a:path w="8109" h="2781">
                  <a:moveTo>
                    <a:pt x="0" y="0"/>
                  </a:moveTo>
                  <a:lnTo>
                    <a:pt x="8108" y="0"/>
                  </a:lnTo>
                  <a:lnTo>
                    <a:pt x="8108" y="2431"/>
                  </a:lnTo>
                  <a:lnTo>
                    <a:pt x="7093" y="2780"/>
                  </a:lnTo>
                  <a:lnTo>
                    <a:pt x="0" y="2780"/>
                  </a:lnTo>
                  <a:lnTo>
                    <a:pt x="0" y="0"/>
                  </a:lnTo>
                </a:path>
              </a:pathLst>
            </a:custGeom>
            <a:solidFill>
              <a:srgbClr val="ffd5a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58960" y="1711440"/>
              <a:ext cx="365400" cy="125280"/>
            </a:xfrm>
            <a:custGeom>
              <a:avLst/>
              <a:gdLst/>
              <a:ahLst/>
              <a:rect l="l" t="t" r="r" b="b"/>
              <a:pathLst>
                <a:path w="1016" h="350">
                  <a:moveTo>
                    <a:pt x="0" y="349"/>
                  </a:moveTo>
                  <a:lnTo>
                    <a:pt x="263" y="0"/>
                  </a:lnTo>
                  <a:cubicBezTo>
                    <a:pt x="516" y="50"/>
                    <a:pt x="507" y="23"/>
                    <a:pt x="1015" y="0"/>
                  </a:cubicBezTo>
                  <a:lnTo>
                    <a:pt x="0" y="349"/>
                  </a:lnTo>
                </a:path>
              </a:pathLst>
            </a:custGeom>
            <a:solidFill>
              <a:srgbClr val="dbb79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14920" y="828720"/>
            <a:ext cx="2181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king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19240" y="1249200"/>
            <a:ext cx="2973240" cy="839880"/>
            <a:chOff x="219240" y="1249200"/>
            <a:chExt cx="2973240" cy="839880"/>
          </a:xfrm>
        </p:grpSpPr>
        <p:sp>
          <p:nvSpPr>
            <p:cNvPr id="366" name=""/>
            <p:cNvSpPr/>
            <p:nvPr/>
          </p:nvSpPr>
          <p:spPr>
            <a:xfrm>
              <a:off x="219240" y="1249200"/>
              <a:ext cx="2973240" cy="839880"/>
            </a:xfrm>
            <a:custGeom>
              <a:avLst/>
              <a:gdLst/>
              <a:ahLst/>
              <a:rect l="l" t="t" r="r" b="b"/>
              <a:pathLst>
                <a:path w="8260" h="2333">
                  <a:moveTo>
                    <a:pt x="0" y="0"/>
                  </a:moveTo>
                  <a:lnTo>
                    <a:pt x="8259" y="0"/>
                  </a:lnTo>
                  <a:lnTo>
                    <a:pt x="8259" y="2040"/>
                  </a:lnTo>
                  <a:lnTo>
                    <a:pt x="7227" y="2332"/>
                  </a:lnTo>
                  <a:lnTo>
                    <a:pt x="0" y="2332"/>
                  </a:lnTo>
                  <a:lnTo>
                    <a:pt x="0" y="0"/>
                  </a:lnTo>
                </a:path>
              </a:pathLst>
            </a:custGeom>
            <a:solidFill>
              <a:srgbClr val="ffd5a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20960" y="1984320"/>
              <a:ext cx="371520" cy="104760"/>
            </a:xfrm>
            <a:custGeom>
              <a:avLst/>
              <a:gdLst/>
              <a:ahLst/>
              <a:rect l="l" t="t" r="r" b="b"/>
              <a:pathLst>
                <a:path w="1033" h="293">
                  <a:moveTo>
                    <a:pt x="0" y="292"/>
                  </a:moveTo>
                  <a:lnTo>
                    <a:pt x="268" y="0"/>
                  </a:lnTo>
                  <a:cubicBezTo>
                    <a:pt x="526" y="42"/>
                    <a:pt x="516" y="18"/>
                    <a:pt x="1032" y="0"/>
                  </a:cubicBezTo>
                  <a:lnTo>
                    <a:pt x="0" y="292"/>
                  </a:lnTo>
                </a:path>
              </a:pathLst>
            </a:custGeom>
            <a:solidFill>
              <a:srgbClr val="dbb79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60360" y="1228680"/>
            <a:ext cx="26510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ment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92680" y="2219400"/>
            <a:ext cx="4129200" cy="3863880"/>
          </a:xfrm>
          <a:prstGeom prst="roundRect">
            <a:avLst>
              <a:gd name="adj" fmla="val 8009"/>
            </a:avLst>
          </a:prstGeom>
          <a:gradFill rotWithShape="0">
            <a:gsLst>
              <a:gs pos="0">
                <a:srgbClr val="dedef6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7048440" y="5014800"/>
            <a:ext cx="1349280" cy="743040"/>
            <a:chOff x="7048440" y="5014800"/>
            <a:chExt cx="1349280" cy="743040"/>
          </a:xfrm>
        </p:grpSpPr>
        <p:sp>
          <p:nvSpPr>
            <p:cNvPr id="371" name=""/>
            <p:cNvSpPr/>
            <p:nvPr/>
          </p:nvSpPr>
          <p:spPr>
            <a:xfrm>
              <a:off x="7048440" y="5014800"/>
              <a:ext cx="1349280" cy="743040"/>
            </a:xfrm>
            <a:custGeom>
              <a:avLst/>
              <a:gdLst/>
              <a:ahLst/>
              <a:rect l="l" t="t" r="r" b="b"/>
              <a:pathLst>
                <a:path w="3749" h="2065">
                  <a:moveTo>
                    <a:pt x="336" y="688"/>
                  </a:moveTo>
                  <a:lnTo>
                    <a:pt x="298" y="691"/>
                  </a:lnTo>
                  <a:lnTo>
                    <a:pt x="265" y="701"/>
                  </a:lnTo>
                  <a:lnTo>
                    <a:pt x="235" y="704"/>
                  </a:lnTo>
                  <a:lnTo>
                    <a:pt x="205" y="718"/>
                  </a:lnTo>
                  <a:lnTo>
                    <a:pt x="172" y="731"/>
                  </a:lnTo>
                  <a:lnTo>
                    <a:pt x="142" y="747"/>
                  </a:lnTo>
                  <a:lnTo>
                    <a:pt x="118" y="762"/>
                  </a:lnTo>
                  <a:lnTo>
                    <a:pt x="95" y="778"/>
                  </a:lnTo>
                  <a:lnTo>
                    <a:pt x="71" y="799"/>
                  </a:lnTo>
                  <a:lnTo>
                    <a:pt x="56" y="821"/>
                  </a:lnTo>
                  <a:lnTo>
                    <a:pt x="39" y="842"/>
                  </a:lnTo>
                  <a:lnTo>
                    <a:pt x="25" y="869"/>
                  </a:lnTo>
                  <a:lnTo>
                    <a:pt x="9" y="890"/>
                  </a:lnTo>
                  <a:lnTo>
                    <a:pt x="0" y="919"/>
                  </a:lnTo>
                  <a:lnTo>
                    <a:pt x="0" y="946"/>
                  </a:lnTo>
                  <a:lnTo>
                    <a:pt x="0" y="972"/>
                  </a:lnTo>
                  <a:lnTo>
                    <a:pt x="0" y="989"/>
                  </a:lnTo>
                  <a:lnTo>
                    <a:pt x="0" y="1011"/>
                  </a:lnTo>
                  <a:lnTo>
                    <a:pt x="0" y="1027"/>
                  </a:lnTo>
                  <a:lnTo>
                    <a:pt x="9" y="1044"/>
                  </a:lnTo>
                  <a:lnTo>
                    <a:pt x="18" y="1062"/>
                  </a:lnTo>
                  <a:lnTo>
                    <a:pt x="25" y="1078"/>
                  </a:lnTo>
                  <a:lnTo>
                    <a:pt x="32" y="1097"/>
                  </a:lnTo>
                  <a:lnTo>
                    <a:pt x="47" y="1113"/>
                  </a:lnTo>
                  <a:lnTo>
                    <a:pt x="65" y="1126"/>
                  </a:lnTo>
                  <a:lnTo>
                    <a:pt x="71" y="1142"/>
                  </a:lnTo>
                  <a:lnTo>
                    <a:pt x="88" y="1156"/>
                  </a:lnTo>
                  <a:lnTo>
                    <a:pt x="101" y="1169"/>
                  </a:lnTo>
                  <a:lnTo>
                    <a:pt x="127" y="1182"/>
                  </a:lnTo>
                  <a:lnTo>
                    <a:pt x="142" y="1195"/>
                  </a:lnTo>
                  <a:lnTo>
                    <a:pt x="164" y="1208"/>
                  </a:lnTo>
                  <a:lnTo>
                    <a:pt x="181" y="1216"/>
                  </a:lnTo>
                  <a:lnTo>
                    <a:pt x="181" y="1213"/>
                  </a:lnTo>
                  <a:lnTo>
                    <a:pt x="158" y="1234"/>
                  </a:lnTo>
                  <a:lnTo>
                    <a:pt x="142" y="1256"/>
                  </a:lnTo>
                  <a:lnTo>
                    <a:pt x="118" y="1277"/>
                  </a:lnTo>
                  <a:lnTo>
                    <a:pt x="110" y="1303"/>
                  </a:lnTo>
                  <a:lnTo>
                    <a:pt x="95" y="1327"/>
                  </a:lnTo>
                  <a:lnTo>
                    <a:pt x="88" y="1354"/>
                  </a:lnTo>
                  <a:lnTo>
                    <a:pt x="79" y="1380"/>
                  </a:lnTo>
                  <a:lnTo>
                    <a:pt x="79" y="1406"/>
                  </a:lnTo>
                  <a:lnTo>
                    <a:pt x="79" y="1418"/>
                  </a:lnTo>
                  <a:lnTo>
                    <a:pt x="79" y="1435"/>
                  </a:lnTo>
                  <a:lnTo>
                    <a:pt x="88" y="1449"/>
                  </a:lnTo>
                  <a:lnTo>
                    <a:pt x="88" y="1462"/>
                  </a:lnTo>
                  <a:lnTo>
                    <a:pt x="95" y="1475"/>
                  </a:lnTo>
                  <a:lnTo>
                    <a:pt x="95" y="1491"/>
                  </a:lnTo>
                  <a:lnTo>
                    <a:pt x="110" y="1518"/>
                  </a:lnTo>
                  <a:lnTo>
                    <a:pt x="127" y="1539"/>
                  </a:lnTo>
                  <a:lnTo>
                    <a:pt x="142" y="1565"/>
                  </a:lnTo>
                  <a:lnTo>
                    <a:pt x="164" y="1586"/>
                  </a:lnTo>
                  <a:lnTo>
                    <a:pt x="190" y="1607"/>
                  </a:lnTo>
                  <a:lnTo>
                    <a:pt x="219" y="1626"/>
                  </a:lnTo>
                  <a:lnTo>
                    <a:pt x="244" y="1643"/>
                  </a:lnTo>
                  <a:lnTo>
                    <a:pt x="273" y="1655"/>
                  </a:lnTo>
                  <a:lnTo>
                    <a:pt x="314" y="1667"/>
                  </a:lnTo>
                  <a:lnTo>
                    <a:pt x="345" y="1677"/>
                  </a:lnTo>
                  <a:lnTo>
                    <a:pt x="384" y="1681"/>
                  </a:lnTo>
                  <a:lnTo>
                    <a:pt x="398" y="1684"/>
                  </a:lnTo>
                  <a:lnTo>
                    <a:pt x="422" y="1690"/>
                  </a:lnTo>
                  <a:lnTo>
                    <a:pt x="438" y="1690"/>
                  </a:lnTo>
                  <a:lnTo>
                    <a:pt x="454" y="1690"/>
                  </a:lnTo>
                  <a:lnTo>
                    <a:pt x="478" y="1690"/>
                  </a:lnTo>
                  <a:lnTo>
                    <a:pt x="499" y="1684"/>
                  </a:lnTo>
                  <a:lnTo>
                    <a:pt x="499" y="1690"/>
                  </a:lnTo>
                  <a:lnTo>
                    <a:pt x="524" y="1720"/>
                  </a:lnTo>
                  <a:lnTo>
                    <a:pt x="547" y="1745"/>
                  </a:lnTo>
                  <a:lnTo>
                    <a:pt x="580" y="1771"/>
                  </a:lnTo>
                  <a:lnTo>
                    <a:pt x="610" y="1791"/>
                  </a:lnTo>
                  <a:lnTo>
                    <a:pt x="642" y="1818"/>
                  </a:lnTo>
                  <a:lnTo>
                    <a:pt x="672" y="1840"/>
                  </a:lnTo>
                  <a:lnTo>
                    <a:pt x="713" y="1856"/>
                  </a:lnTo>
                  <a:lnTo>
                    <a:pt x="743" y="1875"/>
                  </a:lnTo>
                  <a:lnTo>
                    <a:pt x="782" y="1892"/>
                  </a:lnTo>
                  <a:lnTo>
                    <a:pt x="820" y="1904"/>
                  </a:lnTo>
                  <a:lnTo>
                    <a:pt x="868" y="1913"/>
                  </a:lnTo>
                  <a:lnTo>
                    <a:pt x="907" y="1926"/>
                  </a:lnTo>
                  <a:lnTo>
                    <a:pt x="946" y="1930"/>
                  </a:lnTo>
                  <a:lnTo>
                    <a:pt x="993" y="1939"/>
                  </a:lnTo>
                  <a:lnTo>
                    <a:pt x="1041" y="1939"/>
                  </a:lnTo>
                  <a:lnTo>
                    <a:pt x="1077" y="1942"/>
                  </a:lnTo>
                  <a:lnTo>
                    <a:pt x="1124" y="1939"/>
                  </a:lnTo>
                  <a:lnTo>
                    <a:pt x="1172" y="1939"/>
                  </a:lnTo>
                  <a:lnTo>
                    <a:pt x="1219" y="1930"/>
                  </a:lnTo>
                  <a:lnTo>
                    <a:pt x="1258" y="1926"/>
                  </a:lnTo>
                  <a:lnTo>
                    <a:pt x="1305" y="1913"/>
                  </a:lnTo>
                  <a:lnTo>
                    <a:pt x="1342" y="1899"/>
                  </a:lnTo>
                  <a:lnTo>
                    <a:pt x="1382" y="1886"/>
                  </a:lnTo>
                  <a:lnTo>
                    <a:pt x="1430" y="1870"/>
                  </a:lnTo>
                  <a:lnTo>
                    <a:pt x="1422" y="1870"/>
                  </a:lnTo>
                  <a:lnTo>
                    <a:pt x="1443" y="1892"/>
                  </a:lnTo>
                  <a:lnTo>
                    <a:pt x="1469" y="1913"/>
                  </a:lnTo>
                  <a:lnTo>
                    <a:pt x="1493" y="1934"/>
                  </a:lnTo>
                  <a:lnTo>
                    <a:pt x="1522" y="1952"/>
                  </a:lnTo>
                  <a:lnTo>
                    <a:pt x="1547" y="1970"/>
                  </a:lnTo>
                  <a:lnTo>
                    <a:pt x="1576" y="1986"/>
                  </a:lnTo>
                  <a:lnTo>
                    <a:pt x="1601" y="2000"/>
                  </a:lnTo>
                  <a:lnTo>
                    <a:pt x="1633" y="2011"/>
                  </a:lnTo>
                  <a:lnTo>
                    <a:pt x="1669" y="2024"/>
                  </a:lnTo>
                  <a:lnTo>
                    <a:pt x="1702" y="2037"/>
                  </a:lnTo>
                  <a:lnTo>
                    <a:pt x="1734" y="2046"/>
                  </a:lnTo>
                  <a:lnTo>
                    <a:pt x="1773" y="2050"/>
                  </a:lnTo>
                  <a:lnTo>
                    <a:pt x="1803" y="2059"/>
                  </a:lnTo>
                  <a:lnTo>
                    <a:pt x="1835" y="2064"/>
                  </a:lnTo>
                  <a:lnTo>
                    <a:pt x="1874" y="2064"/>
                  </a:lnTo>
                  <a:lnTo>
                    <a:pt x="1913" y="2064"/>
                  </a:lnTo>
                  <a:lnTo>
                    <a:pt x="1937" y="2064"/>
                  </a:lnTo>
                  <a:lnTo>
                    <a:pt x="1960" y="2064"/>
                  </a:lnTo>
                  <a:lnTo>
                    <a:pt x="1984" y="2064"/>
                  </a:lnTo>
                  <a:lnTo>
                    <a:pt x="2005" y="2059"/>
                  </a:lnTo>
                  <a:lnTo>
                    <a:pt x="2029" y="2055"/>
                  </a:lnTo>
                  <a:lnTo>
                    <a:pt x="2055" y="2055"/>
                  </a:lnTo>
                  <a:lnTo>
                    <a:pt x="2100" y="2042"/>
                  </a:lnTo>
                  <a:lnTo>
                    <a:pt x="2139" y="2029"/>
                  </a:lnTo>
                  <a:lnTo>
                    <a:pt x="2186" y="2016"/>
                  </a:lnTo>
                  <a:lnTo>
                    <a:pt x="2226" y="2000"/>
                  </a:lnTo>
                  <a:lnTo>
                    <a:pt x="2264" y="1977"/>
                  </a:lnTo>
                  <a:lnTo>
                    <a:pt x="2294" y="1956"/>
                  </a:lnTo>
                  <a:lnTo>
                    <a:pt x="2326" y="1934"/>
                  </a:lnTo>
                  <a:lnTo>
                    <a:pt x="2357" y="1909"/>
                  </a:lnTo>
                  <a:lnTo>
                    <a:pt x="2389" y="1878"/>
                  </a:lnTo>
                  <a:lnTo>
                    <a:pt x="2413" y="1848"/>
                  </a:lnTo>
                  <a:lnTo>
                    <a:pt x="2436" y="1818"/>
                  </a:lnTo>
                  <a:lnTo>
                    <a:pt x="2458" y="1788"/>
                  </a:lnTo>
                  <a:lnTo>
                    <a:pt x="2466" y="1771"/>
                  </a:lnTo>
                  <a:lnTo>
                    <a:pt x="2475" y="1754"/>
                  </a:lnTo>
                  <a:lnTo>
                    <a:pt x="2475" y="1754"/>
                  </a:lnTo>
                  <a:lnTo>
                    <a:pt x="2507" y="1767"/>
                  </a:lnTo>
                  <a:lnTo>
                    <a:pt x="2538" y="1779"/>
                  </a:lnTo>
                  <a:lnTo>
                    <a:pt x="2567" y="1788"/>
                  </a:lnTo>
                  <a:lnTo>
                    <a:pt x="2600" y="1797"/>
                  </a:lnTo>
                  <a:lnTo>
                    <a:pt x="2630" y="1806"/>
                  </a:lnTo>
                  <a:lnTo>
                    <a:pt x="2671" y="1809"/>
                  </a:lnTo>
                  <a:lnTo>
                    <a:pt x="2701" y="1814"/>
                  </a:lnTo>
                  <a:lnTo>
                    <a:pt x="2740" y="1814"/>
                  </a:lnTo>
                  <a:lnTo>
                    <a:pt x="2764" y="1814"/>
                  </a:lnTo>
                  <a:lnTo>
                    <a:pt x="2788" y="1809"/>
                  </a:lnTo>
                  <a:lnTo>
                    <a:pt x="2811" y="1809"/>
                  </a:lnTo>
                  <a:lnTo>
                    <a:pt x="2843" y="1806"/>
                  </a:lnTo>
                  <a:lnTo>
                    <a:pt x="2865" y="1801"/>
                  </a:lnTo>
                  <a:lnTo>
                    <a:pt x="2888" y="1797"/>
                  </a:lnTo>
                  <a:lnTo>
                    <a:pt x="2912" y="1788"/>
                  </a:lnTo>
                  <a:lnTo>
                    <a:pt x="2936" y="1785"/>
                  </a:lnTo>
                  <a:lnTo>
                    <a:pt x="2951" y="1775"/>
                  </a:lnTo>
                  <a:lnTo>
                    <a:pt x="2975" y="1767"/>
                  </a:lnTo>
                  <a:lnTo>
                    <a:pt x="2998" y="1757"/>
                  </a:lnTo>
                  <a:lnTo>
                    <a:pt x="3020" y="1751"/>
                  </a:lnTo>
                  <a:lnTo>
                    <a:pt x="3037" y="1741"/>
                  </a:lnTo>
                  <a:lnTo>
                    <a:pt x="3052" y="1727"/>
                  </a:lnTo>
                  <a:lnTo>
                    <a:pt x="3091" y="1701"/>
                  </a:lnTo>
                  <a:lnTo>
                    <a:pt x="3123" y="1677"/>
                  </a:lnTo>
                  <a:lnTo>
                    <a:pt x="3138" y="1663"/>
                  </a:lnTo>
                  <a:lnTo>
                    <a:pt x="3154" y="1650"/>
                  </a:lnTo>
                  <a:lnTo>
                    <a:pt x="3170" y="1633"/>
                  </a:lnTo>
                  <a:lnTo>
                    <a:pt x="3177" y="1616"/>
                  </a:lnTo>
                  <a:lnTo>
                    <a:pt x="3192" y="1603"/>
                  </a:lnTo>
                  <a:lnTo>
                    <a:pt x="3201" y="1586"/>
                  </a:lnTo>
                  <a:lnTo>
                    <a:pt x="3208" y="1569"/>
                  </a:lnTo>
                  <a:lnTo>
                    <a:pt x="3216" y="1552"/>
                  </a:lnTo>
                  <a:lnTo>
                    <a:pt x="3224" y="1536"/>
                  </a:lnTo>
                  <a:lnTo>
                    <a:pt x="3233" y="1512"/>
                  </a:lnTo>
                  <a:lnTo>
                    <a:pt x="3233" y="1496"/>
                  </a:lnTo>
                  <a:lnTo>
                    <a:pt x="3240" y="1478"/>
                  </a:lnTo>
                  <a:lnTo>
                    <a:pt x="3240" y="1462"/>
                  </a:lnTo>
                  <a:lnTo>
                    <a:pt x="3240" y="1441"/>
                  </a:lnTo>
                  <a:lnTo>
                    <a:pt x="3240" y="1441"/>
                  </a:lnTo>
                  <a:lnTo>
                    <a:pt x="3263" y="1435"/>
                  </a:lnTo>
                  <a:lnTo>
                    <a:pt x="3296" y="1431"/>
                  </a:lnTo>
                  <a:lnTo>
                    <a:pt x="3317" y="1428"/>
                  </a:lnTo>
                  <a:lnTo>
                    <a:pt x="3341" y="1418"/>
                  </a:lnTo>
                  <a:lnTo>
                    <a:pt x="3371" y="1414"/>
                  </a:lnTo>
                  <a:lnTo>
                    <a:pt x="3396" y="1406"/>
                  </a:lnTo>
                  <a:lnTo>
                    <a:pt x="3418" y="1397"/>
                  </a:lnTo>
                  <a:lnTo>
                    <a:pt x="3443" y="1388"/>
                  </a:lnTo>
                  <a:lnTo>
                    <a:pt x="3466" y="1380"/>
                  </a:lnTo>
                  <a:lnTo>
                    <a:pt x="3481" y="1367"/>
                  </a:lnTo>
                  <a:lnTo>
                    <a:pt x="3504" y="1358"/>
                  </a:lnTo>
                  <a:lnTo>
                    <a:pt x="3529" y="1346"/>
                  </a:lnTo>
                  <a:lnTo>
                    <a:pt x="3567" y="1321"/>
                  </a:lnTo>
                  <a:lnTo>
                    <a:pt x="3599" y="1290"/>
                  </a:lnTo>
                  <a:lnTo>
                    <a:pt x="3615" y="1277"/>
                  </a:lnTo>
                  <a:lnTo>
                    <a:pt x="3630" y="1259"/>
                  </a:lnTo>
                  <a:lnTo>
                    <a:pt x="3644" y="1247"/>
                  </a:lnTo>
                  <a:lnTo>
                    <a:pt x="3662" y="1229"/>
                  </a:lnTo>
                  <a:lnTo>
                    <a:pt x="3677" y="1213"/>
                  </a:lnTo>
                  <a:lnTo>
                    <a:pt x="3685" y="1195"/>
                  </a:lnTo>
                  <a:lnTo>
                    <a:pt x="3692" y="1178"/>
                  </a:lnTo>
                  <a:lnTo>
                    <a:pt x="3707" y="1161"/>
                  </a:lnTo>
                  <a:lnTo>
                    <a:pt x="3716" y="1139"/>
                  </a:lnTo>
                  <a:lnTo>
                    <a:pt x="3725" y="1122"/>
                  </a:lnTo>
                  <a:lnTo>
                    <a:pt x="3730" y="1105"/>
                  </a:lnTo>
                  <a:lnTo>
                    <a:pt x="3730" y="1084"/>
                  </a:lnTo>
                  <a:lnTo>
                    <a:pt x="3739" y="1062"/>
                  </a:lnTo>
                  <a:lnTo>
                    <a:pt x="3739" y="1044"/>
                  </a:lnTo>
                  <a:lnTo>
                    <a:pt x="3739" y="1023"/>
                  </a:lnTo>
                  <a:lnTo>
                    <a:pt x="3748" y="1001"/>
                  </a:lnTo>
                  <a:lnTo>
                    <a:pt x="3739" y="983"/>
                  </a:lnTo>
                  <a:lnTo>
                    <a:pt x="3739" y="967"/>
                  </a:lnTo>
                  <a:lnTo>
                    <a:pt x="3739" y="949"/>
                  </a:lnTo>
                  <a:lnTo>
                    <a:pt x="3730" y="933"/>
                  </a:lnTo>
                  <a:lnTo>
                    <a:pt x="3730" y="912"/>
                  </a:lnTo>
                  <a:lnTo>
                    <a:pt x="3725" y="893"/>
                  </a:lnTo>
                  <a:lnTo>
                    <a:pt x="3716" y="876"/>
                  </a:lnTo>
                  <a:lnTo>
                    <a:pt x="3716" y="859"/>
                  </a:lnTo>
                  <a:lnTo>
                    <a:pt x="3707" y="842"/>
                  </a:lnTo>
                  <a:lnTo>
                    <a:pt x="3692" y="826"/>
                  </a:lnTo>
                  <a:lnTo>
                    <a:pt x="3685" y="812"/>
                  </a:lnTo>
                  <a:lnTo>
                    <a:pt x="3677" y="795"/>
                  </a:lnTo>
                  <a:lnTo>
                    <a:pt x="3662" y="778"/>
                  </a:lnTo>
                  <a:lnTo>
                    <a:pt x="3644" y="765"/>
                  </a:lnTo>
                  <a:lnTo>
                    <a:pt x="3623" y="734"/>
                  </a:lnTo>
                  <a:lnTo>
                    <a:pt x="3623" y="734"/>
                  </a:lnTo>
                  <a:lnTo>
                    <a:pt x="3630" y="718"/>
                  </a:lnTo>
                  <a:lnTo>
                    <a:pt x="3636" y="701"/>
                  </a:lnTo>
                  <a:lnTo>
                    <a:pt x="3644" y="683"/>
                  </a:lnTo>
                  <a:lnTo>
                    <a:pt x="3644" y="667"/>
                  </a:lnTo>
                  <a:lnTo>
                    <a:pt x="3653" y="649"/>
                  </a:lnTo>
                  <a:lnTo>
                    <a:pt x="3653" y="633"/>
                  </a:lnTo>
                  <a:lnTo>
                    <a:pt x="3653" y="615"/>
                  </a:lnTo>
                  <a:lnTo>
                    <a:pt x="3662" y="597"/>
                  </a:lnTo>
                  <a:lnTo>
                    <a:pt x="3653" y="567"/>
                  </a:lnTo>
                  <a:lnTo>
                    <a:pt x="3653" y="542"/>
                  </a:lnTo>
                  <a:lnTo>
                    <a:pt x="3644" y="511"/>
                  </a:lnTo>
                  <a:lnTo>
                    <a:pt x="3630" y="485"/>
                  </a:lnTo>
                  <a:lnTo>
                    <a:pt x="3623" y="460"/>
                  </a:lnTo>
                  <a:lnTo>
                    <a:pt x="3606" y="434"/>
                  </a:lnTo>
                  <a:lnTo>
                    <a:pt x="3583" y="408"/>
                  </a:lnTo>
                  <a:lnTo>
                    <a:pt x="3561" y="387"/>
                  </a:lnTo>
                  <a:lnTo>
                    <a:pt x="3535" y="366"/>
                  </a:lnTo>
                  <a:lnTo>
                    <a:pt x="3513" y="344"/>
                  </a:lnTo>
                  <a:lnTo>
                    <a:pt x="3490" y="327"/>
                  </a:lnTo>
                  <a:lnTo>
                    <a:pt x="3459" y="310"/>
                  </a:lnTo>
                  <a:lnTo>
                    <a:pt x="3427" y="297"/>
                  </a:lnTo>
                  <a:lnTo>
                    <a:pt x="3389" y="283"/>
                  </a:lnTo>
                  <a:lnTo>
                    <a:pt x="3356" y="270"/>
                  </a:lnTo>
                  <a:lnTo>
                    <a:pt x="3317" y="262"/>
                  </a:lnTo>
                  <a:lnTo>
                    <a:pt x="3317" y="262"/>
                  </a:lnTo>
                  <a:lnTo>
                    <a:pt x="3308" y="233"/>
                  </a:lnTo>
                  <a:lnTo>
                    <a:pt x="3303" y="206"/>
                  </a:lnTo>
                  <a:lnTo>
                    <a:pt x="3287" y="181"/>
                  </a:lnTo>
                  <a:lnTo>
                    <a:pt x="3270" y="159"/>
                  </a:lnTo>
                  <a:lnTo>
                    <a:pt x="3246" y="133"/>
                  </a:lnTo>
                  <a:lnTo>
                    <a:pt x="3224" y="112"/>
                  </a:lnTo>
                  <a:lnTo>
                    <a:pt x="3201" y="95"/>
                  </a:lnTo>
                  <a:lnTo>
                    <a:pt x="3177" y="77"/>
                  </a:lnTo>
                  <a:lnTo>
                    <a:pt x="3145" y="61"/>
                  </a:lnTo>
                  <a:lnTo>
                    <a:pt x="3115" y="43"/>
                  </a:lnTo>
                  <a:lnTo>
                    <a:pt x="3082" y="30"/>
                  </a:lnTo>
                  <a:lnTo>
                    <a:pt x="3052" y="21"/>
                  </a:lnTo>
                  <a:lnTo>
                    <a:pt x="3014" y="13"/>
                  </a:lnTo>
                  <a:lnTo>
                    <a:pt x="2981" y="9"/>
                  </a:lnTo>
                  <a:lnTo>
                    <a:pt x="2942" y="4"/>
                  </a:lnTo>
                  <a:lnTo>
                    <a:pt x="2906" y="0"/>
                  </a:lnTo>
                  <a:lnTo>
                    <a:pt x="2880" y="4"/>
                  </a:lnTo>
                  <a:lnTo>
                    <a:pt x="2856" y="4"/>
                  </a:lnTo>
                  <a:lnTo>
                    <a:pt x="2834" y="4"/>
                  </a:lnTo>
                  <a:lnTo>
                    <a:pt x="2811" y="9"/>
                  </a:lnTo>
                  <a:lnTo>
                    <a:pt x="2788" y="13"/>
                  </a:lnTo>
                  <a:lnTo>
                    <a:pt x="2772" y="18"/>
                  </a:lnTo>
                  <a:lnTo>
                    <a:pt x="2748" y="26"/>
                  </a:lnTo>
                  <a:lnTo>
                    <a:pt x="2725" y="30"/>
                  </a:lnTo>
                  <a:lnTo>
                    <a:pt x="2710" y="40"/>
                  </a:lnTo>
                  <a:lnTo>
                    <a:pt x="2684" y="47"/>
                  </a:lnTo>
                  <a:lnTo>
                    <a:pt x="2671" y="56"/>
                  </a:lnTo>
                  <a:lnTo>
                    <a:pt x="2647" y="64"/>
                  </a:lnTo>
                  <a:lnTo>
                    <a:pt x="2630" y="77"/>
                  </a:lnTo>
                  <a:lnTo>
                    <a:pt x="2615" y="90"/>
                  </a:lnTo>
                  <a:lnTo>
                    <a:pt x="2600" y="98"/>
                  </a:lnTo>
                  <a:lnTo>
                    <a:pt x="2585" y="112"/>
                  </a:lnTo>
                  <a:lnTo>
                    <a:pt x="2585" y="112"/>
                  </a:lnTo>
                  <a:lnTo>
                    <a:pt x="2567" y="98"/>
                  </a:lnTo>
                  <a:lnTo>
                    <a:pt x="2553" y="90"/>
                  </a:lnTo>
                  <a:lnTo>
                    <a:pt x="2538" y="77"/>
                  </a:lnTo>
                  <a:lnTo>
                    <a:pt x="2520" y="64"/>
                  </a:lnTo>
                  <a:lnTo>
                    <a:pt x="2507" y="56"/>
                  </a:lnTo>
                  <a:lnTo>
                    <a:pt x="2490" y="47"/>
                  </a:lnTo>
                  <a:lnTo>
                    <a:pt x="2466" y="40"/>
                  </a:lnTo>
                  <a:lnTo>
                    <a:pt x="2452" y="30"/>
                  </a:lnTo>
                  <a:lnTo>
                    <a:pt x="2427" y="26"/>
                  </a:lnTo>
                  <a:lnTo>
                    <a:pt x="2413" y="18"/>
                  </a:lnTo>
                  <a:lnTo>
                    <a:pt x="2389" y="13"/>
                  </a:lnTo>
                  <a:lnTo>
                    <a:pt x="2366" y="9"/>
                  </a:lnTo>
                  <a:lnTo>
                    <a:pt x="2350" y="4"/>
                  </a:lnTo>
                  <a:lnTo>
                    <a:pt x="2326" y="4"/>
                  </a:lnTo>
                  <a:lnTo>
                    <a:pt x="2303" y="4"/>
                  </a:lnTo>
                  <a:lnTo>
                    <a:pt x="2281" y="0"/>
                  </a:lnTo>
                  <a:lnTo>
                    <a:pt x="2255" y="4"/>
                  </a:lnTo>
                  <a:lnTo>
                    <a:pt x="2226" y="4"/>
                  </a:lnTo>
                  <a:lnTo>
                    <a:pt x="2201" y="9"/>
                  </a:lnTo>
                  <a:lnTo>
                    <a:pt x="2178" y="13"/>
                  </a:lnTo>
                  <a:lnTo>
                    <a:pt x="2156" y="21"/>
                  </a:lnTo>
                  <a:lnTo>
                    <a:pt x="2131" y="26"/>
                  </a:lnTo>
                  <a:lnTo>
                    <a:pt x="2109" y="34"/>
                  </a:lnTo>
                  <a:lnTo>
                    <a:pt x="2085" y="43"/>
                  </a:lnTo>
                  <a:lnTo>
                    <a:pt x="2061" y="56"/>
                  </a:lnTo>
                  <a:lnTo>
                    <a:pt x="2038" y="68"/>
                  </a:lnTo>
                  <a:lnTo>
                    <a:pt x="2023" y="82"/>
                  </a:lnTo>
                  <a:lnTo>
                    <a:pt x="2005" y="95"/>
                  </a:lnTo>
                  <a:lnTo>
                    <a:pt x="1984" y="108"/>
                  </a:lnTo>
                  <a:lnTo>
                    <a:pt x="1967" y="125"/>
                  </a:lnTo>
                  <a:lnTo>
                    <a:pt x="1951" y="142"/>
                  </a:lnTo>
                  <a:lnTo>
                    <a:pt x="1945" y="159"/>
                  </a:lnTo>
                  <a:lnTo>
                    <a:pt x="1945" y="164"/>
                  </a:lnTo>
                  <a:lnTo>
                    <a:pt x="1913" y="142"/>
                  </a:lnTo>
                  <a:lnTo>
                    <a:pt x="1897" y="133"/>
                  </a:lnTo>
                  <a:lnTo>
                    <a:pt x="1874" y="120"/>
                  </a:lnTo>
                  <a:lnTo>
                    <a:pt x="1859" y="112"/>
                  </a:lnTo>
                  <a:lnTo>
                    <a:pt x="1835" y="104"/>
                  </a:lnTo>
                  <a:lnTo>
                    <a:pt x="1820" y="98"/>
                  </a:lnTo>
                  <a:lnTo>
                    <a:pt x="1797" y="90"/>
                  </a:lnTo>
                  <a:lnTo>
                    <a:pt x="1773" y="85"/>
                  </a:lnTo>
                  <a:lnTo>
                    <a:pt x="1757" y="77"/>
                  </a:lnTo>
                  <a:lnTo>
                    <a:pt x="1734" y="74"/>
                  </a:lnTo>
                  <a:lnTo>
                    <a:pt x="1710" y="68"/>
                  </a:lnTo>
                  <a:lnTo>
                    <a:pt x="1687" y="68"/>
                  </a:lnTo>
                  <a:lnTo>
                    <a:pt x="1665" y="64"/>
                  </a:lnTo>
                  <a:lnTo>
                    <a:pt x="1639" y="64"/>
                  </a:lnTo>
                  <a:lnTo>
                    <a:pt x="1624" y="64"/>
                  </a:lnTo>
                  <a:lnTo>
                    <a:pt x="1585" y="64"/>
                  </a:lnTo>
                  <a:lnTo>
                    <a:pt x="1555" y="68"/>
                  </a:lnTo>
                  <a:lnTo>
                    <a:pt x="1522" y="74"/>
                  </a:lnTo>
                  <a:lnTo>
                    <a:pt x="1499" y="77"/>
                  </a:lnTo>
                  <a:lnTo>
                    <a:pt x="1469" y="85"/>
                  </a:lnTo>
                  <a:lnTo>
                    <a:pt x="1436" y="90"/>
                  </a:lnTo>
                  <a:lnTo>
                    <a:pt x="1407" y="104"/>
                  </a:lnTo>
                  <a:lnTo>
                    <a:pt x="1382" y="112"/>
                  </a:lnTo>
                  <a:lnTo>
                    <a:pt x="1359" y="125"/>
                  </a:lnTo>
                  <a:lnTo>
                    <a:pt x="1329" y="142"/>
                  </a:lnTo>
                  <a:lnTo>
                    <a:pt x="1305" y="154"/>
                  </a:lnTo>
                  <a:lnTo>
                    <a:pt x="1289" y="172"/>
                  </a:lnTo>
                  <a:lnTo>
                    <a:pt x="1267" y="189"/>
                  </a:lnTo>
                  <a:lnTo>
                    <a:pt x="1242" y="206"/>
                  </a:lnTo>
                  <a:lnTo>
                    <a:pt x="1226" y="228"/>
                  </a:lnTo>
                  <a:lnTo>
                    <a:pt x="1210" y="249"/>
                  </a:lnTo>
                  <a:lnTo>
                    <a:pt x="1210" y="249"/>
                  </a:lnTo>
                  <a:lnTo>
                    <a:pt x="1178" y="237"/>
                  </a:lnTo>
                  <a:lnTo>
                    <a:pt x="1142" y="223"/>
                  </a:lnTo>
                  <a:lnTo>
                    <a:pt x="1102" y="215"/>
                  </a:lnTo>
                  <a:lnTo>
                    <a:pt x="1070" y="206"/>
                  </a:lnTo>
                  <a:lnTo>
                    <a:pt x="1032" y="198"/>
                  </a:lnTo>
                  <a:lnTo>
                    <a:pt x="993" y="193"/>
                  </a:lnTo>
                  <a:lnTo>
                    <a:pt x="952" y="189"/>
                  </a:lnTo>
                  <a:lnTo>
                    <a:pt x="914" y="189"/>
                  </a:lnTo>
                  <a:lnTo>
                    <a:pt x="883" y="189"/>
                  </a:lnTo>
                  <a:lnTo>
                    <a:pt x="851" y="193"/>
                  </a:lnTo>
                  <a:lnTo>
                    <a:pt x="827" y="198"/>
                  </a:lnTo>
                  <a:lnTo>
                    <a:pt x="797" y="198"/>
                  </a:lnTo>
                  <a:lnTo>
                    <a:pt x="767" y="206"/>
                  </a:lnTo>
                  <a:lnTo>
                    <a:pt x="743" y="211"/>
                  </a:lnTo>
                  <a:lnTo>
                    <a:pt x="713" y="215"/>
                  </a:lnTo>
                  <a:lnTo>
                    <a:pt x="687" y="223"/>
                  </a:lnTo>
                  <a:lnTo>
                    <a:pt x="664" y="233"/>
                  </a:lnTo>
                  <a:lnTo>
                    <a:pt x="633" y="245"/>
                  </a:lnTo>
                  <a:lnTo>
                    <a:pt x="610" y="254"/>
                  </a:lnTo>
                  <a:lnTo>
                    <a:pt x="585" y="267"/>
                  </a:lnTo>
                  <a:lnTo>
                    <a:pt x="562" y="279"/>
                  </a:lnTo>
                  <a:lnTo>
                    <a:pt x="540" y="293"/>
                  </a:lnTo>
                  <a:lnTo>
                    <a:pt x="524" y="305"/>
                  </a:lnTo>
                  <a:lnTo>
                    <a:pt x="499" y="317"/>
                  </a:lnTo>
                  <a:lnTo>
                    <a:pt x="478" y="335"/>
                  </a:lnTo>
                  <a:lnTo>
                    <a:pt x="461" y="348"/>
                  </a:lnTo>
                  <a:lnTo>
                    <a:pt x="445" y="366"/>
                  </a:lnTo>
                  <a:lnTo>
                    <a:pt x="431" y="384"/>
                  </a:lnTo>
                  <a:lnTo>
                    <a:pt x="416" y="403"/>
                  </a:lnTo>
                  <a:lnTo>
                    <a:pt x="398" y="421"/>
                  </a:lnTo>
                  <a:lnTo>
                    <a:pt x="384" y="439"/>
                  </a:lnTo>
                  <a:lnTo>
                    <a:pt x="377" y="460"/>
                  </a:lnTo>
                  <a:lnTo>
                    <a:pt x="368" y="477"/>
                  </a:lnTo>
                  <a:lnTo>
                    <a:pt x="353" y="498"/>
                  </a:lnTo>
                  <a:lnTo>
                    <a:pt x="345" y="519"/>
                  </a:lnTo>
                  <a:lnTo>
                    <a:pt x="345" y="542"/>
                  </a:lnTo>
                  <a:lnTo>
                    <a:pt x="336" y="563"/>
                  </a:lnTo>
                  <a:lnTo>
                    <a:pt x="327" y="584"/>
                  </a:lnTo>
                  <a:lnTo>
                    <a:pt x="327" y="606"/>
                  </a:lnTo>
                  <a:lnTo>
                    <a:pt x="327" y="627"/>
                  </a:lnTo>
                  <a:lnTo>
                    <a:pt x="327" y="657"/>
                  </a:lnTo>
                  <a:lnTo>
                    <a:pt x="336" y="6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48440" y="5084280"/>
              <a:ext cx="134928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180000" anchor="ctr" anchorCtr="1">
              <a:spAutoFit/>
            </a:bodyPr>
            <a:p>
              <a:pPr algn="ctr">
                <a:lnSpc>
                  <a:spcPts val="305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GR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3" name=""/>
          <p:cNvCxnSpPr>
            <a:stCxn id="371" idx="0"/>
            <a:endCxn id="374" idx="0"/>
          </p:cNvCxnSpPr>
          <p:nvPr/>
        </p:nvCxnSpPr>
        <p:spPr>
          <a:xfrm flipV="1">
            <a:off x="7722720" y="3801240"/>
            <a:ext cx="2520" cy="12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5" name=""/>
          <p:cNvCxnSpPr>
            <a:endCxn id="376" idx="0"/>
          </p:cNvCxnSpPr>
          <p:nvPr/>
        </p:nvCxnSpPr>
        <p:spPr>
          <a:xfrm flipV="1">
            <a:off x="5265720" y="4653720"/>
            <a:ext cx="753120" cy="359640"/>
          </a:xfrm>
          <a:prstGeom prst="straightConnector1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7" name=""/>
          <p:cNvCxnSpPr>
            <a:endCxn id="371" idx="1"/>
          </p:cNvCxnSpPr>
          <p:nvPr/>
        </p:nvCxnSpPr>
        <p:spPr>
          <a:xfrm>
            <a:off x="5265720" y="5013360"/>
            <a:ext cx="1783440" cy="373680"/>
          </a:xfrm>
          <a:prstGeom prst="straightConnector1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5872320" y="302904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LDAP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2360" y="2887560"/>
            <a:ext cx="9337680" cy="1192320"/>
          </a:xfrm>
          <a:prstGeom prst="roundRect">
            <a:avLst>
              <a:gd name="adj" fmla="val 15065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2360" y="4235400"/>
            <a:ext cx="9337680" cy="1595520"/>
          </a:xfrm>
          <a:prstGeom prst="roundRect">
            <a:avLst>
              <a:gd name="adj" fmla="val 15139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4760" y="2892600"/>
            <a:ext cx="365760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07800"/>
                </a:solidFill>
                <a:uFillTx/>
                <a:latin typeface="Arial Narrow"/>
              </a:rPr>
              <a:t>Static Inform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2800">
              <a:lnSpc>
                <a:spcPct val="138000"/>
              </a:lnSpc>
              <a:buClr>
                <a:srgbClr val="3366cc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 Narrow"/>
                <a:ea typeface="HG Mincho Light J"/>
              </a:rPr>
              <a:t>Requirement fil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2800">
              <a:lnSpc>
                <a:spcPct val="138000"/>
              </a:lnSpc>
              <a:buClr>
                <a:srgbClr val="3366cc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 Narrow"/>
                <a:ea typeface="HG Mincho Light J"/>
              </a:rPr>
              <a:t>Authorization fil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34160" y="2184480"/>
            <a:ext cx="38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Globus Monitoring and Discovery Service (M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76720" y="1501920"/>
            <a:ext cx="587160" cy="144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endCxn id="385" idx="0"/>
          </p:cNvCxnSpPr>
          <p:nvPr/>
        </p:nvCxnSpPr>
        <p:spPr>
          <a:xfrm flipV="1">
            <a:off x="5265720" y="4799880"/>
            <a:ext cx="2898000" cy="213480"/>
          </a:xfrm>
          <a:prstGeom prst="straightConnector1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86" name=""/>
          <p:cNvGrpSpPr/>
          <p:nvPr/>
        </p:nvGrpSpPr>
        <p:grpSpPr>
          <a:xfrm>
            <a:off x="3805200" y="4618080"/>
            <a:ext cx="1461960" cy="793800"/>
            <a:chOff x="3805200" y="4618080"/>
            <a:chExt cx="1461960" cy="793800"/>
          </a:xfrm>
        </p:grpSpPr>
        <p:sp>
          <p:nvSpPr>
            <p:cNvPr id="387" name=""/>
            <p:cNvSpPr/>
            <p:nvPr/>
          </p:nvSpPr>
          <p:spPr>
            <a:xfrm>
              <a:off x="3805200" y="4618080"/>
              <a:ext cx="1461960" cy="7938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61800" y="4684680"/>
              <a:ext cx="114696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Resour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6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Monito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780000" y="6010200"/>
            <a:ext cx="1461960" cy="793800"/>
            <a:chOff x="3780000" y="6010200"/>
            <a:chExt cx="1461960" cy="793800"/>
          </a:xfrm>
        </p:grpSpPr>
        <p:sp>
          <p:nvSpPr>
            <p:cNvPr id="390" name=""/>
            <p:cNvSpPr/>
            <p:nvPr/>
          </p:nvSpPr>
          <p:spPr>
            <a:xfrm>
              <a:off x="3780000" y="6010200"/>
              <a:ext cx="1461960" cy="7938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94560" y="6078600"/>
              <a:ext cx="103428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Resour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6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Rank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65600" y="3105000"/>
            <a:ext cx="1538280" cy="793800"/>
            <a:chOff x="3765600" y="3105000"/>
            <a:chExt cx="1538280" cy="793800"/>
          </a:xfrm>
        </p:grpSpPr>
        <p:sp>
          <p:nvSpPr>
            <p:cNvPr id="393" name=""/>
            <p:cNvSpPr/>
            <p:nvPr/>
          </p:nvSpPr>
          <p:spPr>
            <a:xfrm>
              <a:off x="3765600" y="3105000"/>
              <a:ext cx="1538280" cy="7938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98520" y="3173400"/>
              <a:ext cx="107388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</a:rPr>
                <a:t>Resour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6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Discov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535640" y="2603520"/>
            <a:ext cx="1440" cy="45396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35640" y="3983040"/>
            <a:ext cx="1440" cy="58752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35640" y="5494320"/>
            <a:ext cx="1440" cy="46836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8534520" y="1081080"/>
            <a:ext cx="1461960" cy="793800"/>
            <a:chOff x="8534520" y="1081080"/>
            <a:chExt cx="1461960" cy="793800"/>
          </a:xfrm>
        </p:grpSpPr>
        <p:sp>
          <p:nvSpPr>
            <p:cNvPr id="399" name=""/>
            <p:cNvSpPr/>
            <p:nvPr/>
          </p:nvSpPr>
          <p:spPr>
            <a:xfrm>
              <a:off x="8534520" y="1081080"/>
              <a:ext cx="1461960" cy="79380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749080" y="1149480"/>
              <a:ext cx="103428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 Narrow"/>
                </a:rPr>
                <a:t>Resour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6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 Narrow"/>
                </a:rPr>
                <a:t>Sel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8231040" y="1585800"/>
            <a:ext cx="252720" cy="1800"/>
          </a:xfrm>
          <a:prstGeom prst="line">
            <a:avLst/>
          </a:prstGeom>
          <a:ln w="28440">
            <a:solidFill>
              <a:srgbClr val="f07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94280" y="53276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LDAP qu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>
            <a:off x="5303520" y="3501720"/>
            <a:ext cx="1747080" cy="65520"/>
          </a:xfrm>
          <a:prstGeom prst="straightConnector1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404" name=""/>
          <p:cNvGrpSpPr/>
          <p:nvPr/>
        </p:nvGrpSpPr>
        <p:grpSpPr>
          <a:xfrm>
            <a:off x="7050240" y="3059280"/>
            <a:ext cx="1349280" cy="744480"/>
            <a:chOff x="7050240" y="3059280"/>
            <a:chExt cx="1349280" cy="744480"/>
          </a:xfrm>
        </p:grpSpPr>
        <p:sp>
          <p:nvSpPr>
            <p:cNvPr id="374" name=""/>
            <p:cNvSpPr/>
            <p:nvPr/>
          </p:nvSpPr>
          <p:spPr>
            <a:xfrm>
              <a:off x="7050240" y="3059280"/>
              <a:ext cx="1349280" cy="744480"/>
            </a:xfrm>
            <a:custGeom>
              <a:avLst/>
              <a:gdLst/>
              <a:ahLst/>
              <a:rect l="l" t="t" r="r" b="b"/>
              <a:pathLst>
                <a:path w="3749" h="2066">
                  <a:moveTo>
                    <a:pt x="336" y="689"/>
                  </a:moveTo>
                  <a:lnTo>
                    <a:pt x="298" y="692"/>
                  </a:lnTo>
                  <a:lnTo>
                    <a:pt x="265" y="701"/>
                  </a:lnTo>
                  <a:lnTo>
                    <a:pt x="235" y="706"/>
                  </a:lnTo>
                  <a:lnTo>
                    <a:pt x="205" y="718"/>
                  </a:lnTo>
                  <a:lnTo>
                    <a:pt x="172" y="731"/>
                  </a:lnTo>
                  <a:lnTo>
                    <a:pt x="142" y="747"/>
                  </a:lnTo>
                  <a:lnTo>
                    <a:pt x="118" y="762"/>
                  </a:lnTo>
                  <a:lnTo>
                    <a:pt x="95" y="778"/>
                  </a:lnTo>
                  <a:lnTo>
                    <a:pt x="71" y="800"/>
                  </a:lnTo>
                  <a:lnTo>
                    <a:pt x="56" y="821"/>
                  </a:lnTo>
                  <a:lnTo>
                    <a:pt x="39" y="843"/>
                  </a:lnTo>
                  <a:lnTo>
                    <a:pt x="25" y="869"/>
                  </a:lnTo>
                  <a:lnTo>
                    <a:pt x="9" y="891"/>
                  </a:lnTo>
                  <a:lnTo>
                    <a:pt x="0" y="920"/>
                  </a:lnTo>
                  <a:lnTo>
                    <a:pt x="0" y="946"/>
                  </a:lnTo>
                  <a:lnTo>
                    <a:pt x="0" y="972"/>
                  </a:lnTo>
                  <a:lnTo>
                    <a:pt x="0" y="989"/>
                  </a:lnTo>
                  <a:lnTo>
                    <a:pt x="0" y="1011"/>
                  </a:lnTo>
                  <a:lnTo>
                    <a:pt x="0" y="1029"/>
                  </a:lnTo>
                  <a:lnTo>
                    <a:pt x="9" y="1045"/>
                  </a:lnTo>
                  <a:lnTo>
                    <a:pt x="18" y="1063"/>
                  </a:lnTo>
                  <a:lnTo>
                    <a:pt x="25" y="1079"/>
                  </a:lnTo>
                  <a:lnTo>
                    <a:pt x="32" y="1097"/>
                  </a:lnTo>
                  <a:lnTo>
                    <a:pt x="47" y="1113"/>
                  </a:lnTo>
                  <a:lnTo>
                    <a:pt x="65" y="1127"/>
                  </a:lnTo>
                  <a:lnTo>
                    <a:pt x="71" y="1143"/>
                  </a:lnTo>
                  <a:lnTo>
                    <a:pt x="88" y="1157"/>
                  </a:lnTo>
                  <a:lnTo>
                    <a:pt x="101" y="1170"/>
                  </a:lnTo>
                  <a:lnTo>
                    <a:pt x="127" y="1183"/>
                  </a:lnTo>
                  <a:lnTo>
                    <a:pt x="142" y="1195"/>
                  </a:lnTo>
                  <a:lnTo>
                    <a:pt x="164" y="1208"/>
                  </a:lnTo>
                  <a:lnTo>
                    <a:pt x="181" y="1217"/>
                  </a:lnTo>
                  <a:lnTo>
                    <a:pt x="181" y="1214"/>
                  </a:lnTo>
                  <a:lnTo>
                    <a:pt x="158" y="1235"/>
                  </a:lnTo>
                  <a:lnTo>
                    <a:pt x="142" y="1256"/>
                  </a:lnTo>
                  <a:lnTo>
                    <a:pt x="118" y="1278"/>
                  </a:lnTo>
                  <a:lnTo>
                    <a:pt x="110" y="1303"/>
                  </a:lnTo>
                  <a:lnTo>
                    <a:pt x="95" y="1328"/>
                  </a:lnTo>
                  <a:lnTo>
                    <a:pt x="88" y="1355"/>
                  </a:lnTo>
                  <a:lnTo>
                    <a:pt x="79" y="1380"/>
                  </a:lnTo>
                  <a:lnTo>
                    <a:pt x="79" y="1407"/>
                  </a:lnTo>
                  <a:lnTo>
                    <a:pt x="79" y="1419"/>
                  </a:lnTo>
                  <a:lnTo>
                    <a:pt x="79" y="1436"/>
                  </a:lnTo>
                  <a:lnTo>
                    <a:pt x="88" y="1450"/>
                  </a:lnTo>
                  <a:lnTo>
                    <a:pt x="88" y="1463"/>
                  </a:lnTo>
                  <a:lnTo>
                    <a:pt x="95" y="1475"/>
                  </a:lnTo>
                  <a:lnTo>
                    <a:pt x="95" y="1493"/>
                  </a:lnTo>
                  <a:lnTo>
                    <a:pt x="110" y="1518"/>
                  </a:lnTo>
                  <a:lnTo>
                    <a:pt x="127" y="1540"/>
                  </a:lnTo>
                  <a:lnTo>
                    <a:pt x="142" y="1565"/>
                  </a:lnTo>
                  <a:lnTo>
                    <a:pt x="164" y="1587"/>
                  </a:lnTo>
                  <a:lnTo>
                    <a:pt x="190" y="1608"/>
                  </a:lnTo>
                  <a:lnTo>
                    <a:pt x="219" y="1626"/>
                  </a:lnTo>
                  <a:lnTo>
                    <a:pt x="244" y="1643"/>
                  </a:lnTo>
                  <a:lnTo>
                    <a:pt x="273" y="1656"/>
                  </a:lnTo>
                  <a:lnTo>
                    <a:pt x="314" y="1668"/>
                  </a:lnTo>
                  <a:lnTo>
                    <a:pt x="345" y="1678"/>
                  </a:lnTo>
                  <a:lnTo>
                    <a:pt x="384" y="1682"/>
                  </a:lnTo>
                  <a:lnTo>
                    <a:pt x="398" y="1686"/>
                  </a:lnTo>
                  <a:lnTo>
                    <a:pt x="422" y="1690"/>
                  </a:lnTo>
                  <a:lnTo>
                    <a:pt x="438" y="1690"/>
                  </a:lnTo>
                  <a:lnTo>
                    <a:pt x="454" y="1690"/>
                  </a:lnTo>
                  <a:lnTo>
                    <a:pt x="478" y="1690"/>
                  </a:lnTo>
                  <a:lnTo>
                    <a:pt x="499" y="1686"/>
                  </a:lnTo>
                  <a:lnTo>
                    <a:pt x="499" y="1690"/>
                  </a:lnTo>
                  <a:lnTo>
                    <a:pt x="524" y="1720"/>
                  </a:lnTo>
                  <a:lnTo>
                    <a:pt x="547" y="1746"/>
                  </a:lnTo>
                  <a:lnTo>
                    <a:pt x="580" y="1773"/>
                  </a:lnTo>
                  <a:lnTo>
                    <a:pt x="610" y="1792"/>
                  </a:lnTo>
                  <a:lnTo>
                    <a:pt x="642" y="1819"/>
                  </a:lnTo>
                  <a:lnTo>
                    <a:pt x="672" y="1841"/>
                  </a:lnTo>
                  <a:lnTo>
                    <a:pt x="713" y="1857"/>
                  </a:lnTo>
                  <a:lnTo>
                    <a:pt x="743" y="1875"/>
                  </a:lnTo>
                  <a:lnTo>
                    <a:pt x="782" y="1892"/>
                  </a:lnTo>
                  <a:lnTo>
                    <a:pt x="820" y="1905"/>
                  </a:lnTo>
                  <a:lnTo>
                    <a:pt x="868" y="1914"/>
                  </a:lnTo>
                  <a:lnTo>
                    <a:pt x="907" y="1927"/>
                  </a:lnTo>
                  <a:lnTo>
                    <a:pt x="946" y="1931"/>
                  </a:lnTo>
                  <a:lnTo>
                    <a:pt x="993" y="1940"/>
                  </a:lnTo>
                  <a:lnTo>
                    <a:pt x="1041" y="1940"/>
                  </a:lnTo>
                  <a:lnTo>
                    <a:pt x="1077" y="1943"/>
                  </a:lnTo>
                  <a:lnTo>
                    <a:pt x="1124" y="1940"/>
                  </a:lnTo>
                  <a:lnTo>
                    <a:pt x="1172" y="1940"/>
                  </a:lnTo>
                  <a:lnTo>
                    <a:pt x="1219" y="1931"/>
                  </a:lnTo>
                  <a:lnTo>
                    <a:pt x="1258" y="1927"/>
                  </a:lnTo>
                  <a:lnTo>
                    <a:pt x="1305" y="1914"/>
                  </a:lnTo>
                  <a:lnTo>
                    <a:pt x="1342" y="1900"/>
                  </a:lnTo>
                  <a:lnTo>
                    <a:pt x="1382" y="1887"/>
                  </a:lnTo>
                  <a:lnTo>
                    <a:pt x="1430" y="1871"/>
                  </a:lnTo>
                  <a:lnTo>
                    <a:pt x="1422" y="1871"/>
                  </a:lnTo>
                  <a:lnTo>
                    <a:pt x="1443" y="1892"/>
                  </a:lnTo>
                  <a:lnTo>
                    <a:pt x="1469" y="1914"/>
                  </a:lnTo>
                  <a:lnTo>
                    <a:pt x="1493" y="1935"/>
                  </a:lnTo>
                  <a:lnTo>
                    <a:pt x="1522" y="1952"/>
                  </a:lnTo>
                  <a:lnTo>
                    <a:pt x="1547" y="1971"/>
                  </a:lnTo>
                  <a:lnTo>
                    <a:pt x="1576" y="1988"/>
                  </a:lnTo>
                  <a:lnTo>
                    <a:pt x="1601" y="2000"/>
                  </a:lnTo>
                  <a:lnTo>
                    <a:pt x="1633" y="2012"/>
                  </a:lnTo>
                  <a:lnTo>
                    <a:pt x="1669" y="2025"/>
                  </a:lnTo>
                  <a:lnTo>
                    <a:pt x="1702" y="2038"/>
                  </a:lnTo>
                  <a:lnTo>
                    <a:pt x="1734" y="2046"/>
                  </a:lnTo>
                  <a:lnTo>
                    <a:pt x="1773" y="2051"/>
                  </a:lnTo>
                  <a:lnTo>
                    <a:pt x="1803" y="2060"/>
                  </a:lnTo>
                  <a:lnTo>
                    <a:pt x="1835" y="2065"/>
                  </a:lnTo>
                  <a:lnTo>
                    <a:pt x="1874" y="2065"/>
                  </a:lnTo>
                  <a:lnTo>
                    <a:pt x="1913" y="2065"/>
                  </a:lnTo>
                  <a:lnTo>
                    <a:pt x="1937" y="2065"/>
                  </a:lnTo>
                  <a:lnTo>
                    <a:pt x="1960" y="2065"/>
                  </a:lnTo>
                  <a:lnTo>
                    <a:pt x="1984" y="2065"/>
                  </a:lnTo>
                  <a:lnTo>
                    <a:pt x="2005" y="2060"/>
                  </a:lnTo>
                  <a:lnTo>
                    <a:pt x="2029" y="2056"/>
                  </a:lnTo>
                  <a:lnTo>
                    <a:pt x="2055" y="2056"/>
                  </a:lnTo>
                  <a:lnTo>
                    <a:pt x="2100" y="2043"/>
                  </a:lnTo>
                  <a:lnTo>
                    <a:pt x="2139" y="2029"/>
                  </a:lnTo>
                  <a:lnTo>
                    <a:pt x="2186" y="2017"/>
                  </a:lnTo>
                  <a:lnTo>
                    <a:pt x="2226" y="2000"/>
                  </a:lnTo>
                  <a:lnTo>
                    <a:pt x="2264" y="1978"/>
                  </a:lnTo>
                  <a:lnTo>
                    <a:pt x="2294" y="1957"/>
                  </a:lnTo>
                  <a:lnTo>
                    <a:pt x="2326" y="1935"/>
                  </a:lnTo>
                  <a:lnTo>
                    <a:pt x="2357" y="1910"/>
                  </a:lnTo>
                  <a:lnTo>
                    <a:pt x="2389" y="1880"/>
                  </a:lnTo>
                  <a:lnTo>
                    <a:pt x="2413" y="1849"/>
                  </a:lnTo>
                  <a:lnTo>
                    <a:pt x="2436" y="1819"/>
                  </a:lnTo>
                  <a:lnTo>
                    <a:pt x="2458" y="1789"/>
                  </a:lnTo>
                  <a:lnTo>
                    <a:pt x="2466" y="1773"/>
                  </a:lnTo>
                  <a:lnTo>
                    <a:pt x="2475" y="1755"/>
                  </a:lnTo>
                  <a:lnTo>
                    <a:pt x="2475" y="1755"/>
                  </a:lnTo>
                  <a:lnTo>
                    <a:pt x="2507" y="1767"/>
                  </a:lnTo>
                  <a:lnTo>
                    <a:pt x="2538" y="1780"/>
                  </a:lnTo>
                  <a:lnTo>
                    <a:pt x="2567" y="1789"/>
                  </a:lnTo>
                  <a:lnTo>
                    <a:pt x="2600" y="1797"/>
                  </a:lnTo>
                  <a:lnTo>
                    <a:pt x="2630" y="1807"/>
                  </a:lnTo>
                  <a:lnTo>
                    <a:pt x="2671" y="1810"/>
                  </a:lnTo>
                  <a:lnTo>
                    <a:pt x="2701" y="1814"/>
                  </a:lnTo>
                  <a:lnTo>
                    <a:pt x="2740" y="1814"/>
                  </a:lnTo>
                  <a:lnTo>
                    <a:pt x="2764" y="1814"/>
                  </a:lnTo>
                  <a:lnTo>
                    <a:pt x="2788" y="1810"/>
                  </a:lnTo>
                  <a:lnTo>
                    <a:pt x="2811" y="1810"/>
                  </a:lnTo>
                  <a:lnTo>
                    <a:pt x="2843" y="1807"/>
                  </a:lnTo>
                  <a:lnTo>
                    <a:pt x="2865" y="1802"/>
                  </a:lnTo>
                  <a:lnTo>
                    <a:pt x="2888" y="1797"/>
                  </a:lnTo>
                  <a:lnTo>
                    <a:pt x="2912" y="1789"/>
                  </a:lnTo>
                  <a:lnTo>
                    <a:pt x="2936" y="1786"/>
                  </a:lnTo>
                  <a:lnTo>
                    <a:pt x="2951" y="1776"/>
                  </a:lnTo>
                  <a:lnTo>
                    <a:pt x="2975" y="1767"/>
                  </a:lnTo>
                  <a:lnTo>
                    <a:pt x="2998" y="1758"/>
                  </a:lnTo>
                  <a:lnTo>
                    <a:pt x="3020" y="1751"/>
                  </a:lnTo>
                  <a:lnTo>
                    <a:pt x="3037" y="1742"/>
                  </a:lnTo>
                  <a:lnTo>
                    <a:pt x="3052" y="1729"/>
                  </a:lnTo>
                  <a:lnTo>
                    <a:pt x="3091" y="1702"/>
                  </a:lnTo>
                  <a:lnTo>
                    <a:pt x="3123" y="1678"/>
                  </a:lnTo>
                  <a:lnTo>
                    <a:pt x="3138" y="1665"/>
                  </a:lnTo>
                  <a:lnTo>
                    <a:pt x="3154" y="1651"/>
                  </a:lnTo>
                  <a:lnTo>
                    <a:pt x="3170" y="1634"/>
                  </a:lnTo>
                  <a:lnTo>
                    <a:pt x="3177" y="1617"/>
                  </a:lnTo>
                  <a:lnTo>
                    <a:pt x="3192" y="1604"/>
                  </a:lnTo>
                  <a:lnTo>
                    <a:pt x="3201" y="1587"/>
                  </a:lnTo>
                  <a:lnTo>
                    <a:pt x="3208" y="1570"/>
                  </a:lnTo>
                  <a:lnTo>
                    <a:pt x="3216" y="1552"/>
                  </a:lnTo>
                  <a:lnTo>
                    <a:pt x="3224" y="1536"/>
                  </a:lnTo>
                  <a:lnTo>
                    <a:pt x="3233" y="1514"/>
                  </a:lnTo>
                  <a:lnTo>
                    <a:pt x="3233" y="1497"/>
                  </a:lnTo>
                  <a:lnTo>
                    <a:pt x="3240" y="1479"/>
                  </a:lnTo>
                  <a:lnTo>
                    <a:pt x="3240" y="1463"/>
                  </a:lnTo>
                  <a:lnTo>
                    <a:pt x="3240" y="1441"/>
                  </a:lnTo>
                  <a:lnTo>
                    <a:pt x="3240" y="1441"/>
                  </a:lnTo>
                  <a:lnTo>
                    <a:pt x="3263" y="1436"/>
                  </a:lnTo>
                  <a:lnTo>
                    <a:pt x="3296" y="1432"/>
                  </a:lnTo>
                  <a:lnTo>
                    <a:pt x="3317" y="1428"/>
                  </a:lnTo>
                  <a:lnTo>
                    <a:pt x="3341" y="1419"/>
                  </a:lnTo>
                  <a:lnTo>
                    <a:pt x="3371" y="1415"/>
                  </a:lnTo>
                  <a:lnTo>
                    <a:pt x="3396" y="1407"/>
                  </a:lnTo>
                  <a:lnTo>
                    <a:pt x="3418" y="1397"/>
                  </a:lnTo>
                  <a:lnTo>
                    <a:pt x="3443" y="1389"/>
                  </a:lnTo>
                  <a:lnTo>
                    <a:pt x="3466" y="1380"/>
                  </a:lnTo>
                  <a:lnTo>
                    <a:pt x="3481" y="1367"/>
                  </a:lnTo>
                  <a:lnTo>
                    <a:pt x="3504" y="1359"/>
                  </a:lnTo>
                  <a:lnTo>
                    <a:pt x="3529" y="1346"/>
                  </a:lnTo>
                  <a:lnTo>
                    <a:pt x="3567" y="1321"/>
                  </a:lnTo>
                  <a:lnTo>
                    <a:pt x="3599" y="1290"/>
                  </a:lnTo>
                  <a:lnTo>
                    <a:pt x="3615" y="1278"/>
                  </a:lnTo>
                  <a:lnTo>
                    <a:pt x="3630" y="1259"/>
                  </a:lnTo>
                  <a:lnTo>
                    <a:pt x="3644" y="1248"/>
                  </a:lnTo>
                  <a:lnTo>
                    <a:pt x="3662" y="1230"/>
                  </a:lnTo>
                  <a:lnTo>
                    <a:pt x="3677" y="1214"/>
                  </a:lnTo>
                  <a:lnTo>
                    <a:pt x="3685" y="1195"/>
                  </a:lnTo>
                  <a:lnTo>
                    <a:pt x="3692" y="1178"/>
                  </a:lnTo>
                  <a:lnTo>
                    <a:pt x="3707" y="1161"/>
                  </a:lnTo>
                  <a:lnTo>
                    <a:pt x="3716" y="1140"/>
                  </a:lnTo>
                  <a:lnTo>
                    <a:pt x="3725" y="1123"/>
                  </a:lnTo>
                  <a:lnTo>
                    <a:pt x="3730" y="1106"/>
                  </a:lnTo>
                  <a:lnTo>
                    <a:pt x="3730" y="1084"/>
                  </a:lnTo>
                  <a:lnTo>
                    <a:pt x="3739" y="1063"/>
                  </a:lnTo>
                  <a:lnTo>
                    <a:pt x="3739" y="1045"/>
                  </a:lnTo>
                  <a:lnTo>
                    <a:pt x="3739" y="1023"/>
                  </a:lnTo>
                  <a:lnTo>
                    <a:pt x="3748" y="1002"/>
                  </a:lnTo>
                  <a:lnTo>
                    <a:pt x="3739" y="984"/>
                  </a:lnTo>
                  <a:lnTo>
                    <a:pt x="3739" y="968"/>
                  </a:lnTo>
                  <a:lnTo>
                    <a:pt x="3739" y="949"/>
                  </a:lnTo>
                  <a:lnTo>
                    <a:pt x="3730" y="933"/>
                  </a:lnTo>
                  <a:lnTo>
                    <a:pt x="3730" y="912"/>
                  </a:lnTo>
                  <a:lnTo>
                    <a:pt x="3725" y="894"/>
                  </a:lnTo>
                  <a:lnTo>
                    <a:pt x="3716" y="877"/>
                  </a:lnTo>
                  <a:lnTo>
                    <a:pt x="3716" y="860"/>
                  </a:lnTo>
                  <a:lnTo>
                    <a:pt x="3707" y="843"/>
                  </a:lnTo>
                  <a:lnTo>
                    <a:pt x="3692" y="826"/>
                  </a:lnTo>
                  <a:lnTo>
                    <a:pt x="3685" y="814"/>
                  </a:lnTo>
                  <a:lnTo>
                    <a:pt x="3677" y="795"/>
                  </a:lnTo>
                  <a:lnTo>
                    <a:pt x="3662" y="778"/>
                  </a:lnTo>
                  <a:lnTo>
                    <a:pt x="3644" y="766"/>
                  </a:lnTo>
                  <a:lnTo>
                    <a:pt x="3623" y="735"/>
                  </a:lnTo>
                  <a:lnTo>
                    <a:pt x="3623" y="735"/>
                  </a:lnTo>
                  <a:lnTo>
                    <a:pt x="3630" y="718"/>
                  </a:lnTo>
                  <a:lnTo>
                    <a:pt x="3636" y="701"/>
                  </a:lnTo>
                  <a:lnTo>
                    <a:pt x="3644" y="683"/>
                  </a:lnTo>
                  <a:lnTo>
                    <a:pt x="3644" y="667"/>
                  </a:lnTo>
                  <a:lnTo>
                    <a:pt x="3653" y="649"/>
                  </a:lnTo>
                  <a:lnTo>
                    <a:pt x="3653" y="633"/>
                  </a:lnTo>
                  <a:lnTo>
                    <a:pt x="3653" y="615"/>
                  </a:lnTo>
                  <a:lnTo>
                    <a:pt x="3662" y="599"/>
                  </a:lnTo>
                  <a:lnTo>
                    <a:pt x="3653" y="568"/>
                  </a:lnTo>
                  <a:lnTo>
                    <a:pt x="3653" y="542"/>
                  </a:lnTo>
                  <a:lnTo>
                    <a:pt x="3644" y="511"/>
                  </a:lnTo>
                  <a:lnTo>
                    <a:pt x="3630" y="485"/>
                  </a:lnTo>
                  <a:lnTo>
                    <a:pt x="3623" y="460"/>
                  </a:lnTo>
                  <a:lnTo>
                    <a:pt x="3606" y="434"/>
                  </a:lnTo>
                  <a:lnTo>
                    <a:pt x="3583" y="408"/>
                  </a:lnTo>
                  <a:lnTo>
                    <a:pt x="3561" y="387"/>
                  </a:lnTo>
                  <a:lnTo>
                    <a:pt x="3535" y="366"/>
                  </a:lnTo>
                  <a:lnTo>
                    <a:pt x="3513" y="344"/>
                  </a:lnTo>
                  <a:lnTo>
                    <a:pt x="3490" y="327"/>
                  </a:lnTo>
                  <a:lnTo>
                    <a:pt x="3459" y="310"/>
                  </a:lnTo>
                  <a:lnTo>
                    <a:pt x="3427" y="297"/>
                  </a:lnTo>
                  <a:lnTo>
                    <a:pt x="3389" y="283"/>
                  </a:lnTo>
                  <a:lnTo>
                    <a:pt x="3356" y="271"/>
                  </a:lnTo>
                  <a:lnTo>
                    <a:pt x="3317" y="262"/>
                  </a:lnTo>
                  <a:lnTo>
                    <a:pt x="3317" y="262"/>
                  </a:lnTo>
                  <a:lnTo>
                    <a:pt x="3308" y="233"/>
                  </a:lnTo>
                  <a:lnTo>
                    <a:pt x="3303" y="206"/>
                  </a:lnTo>
                  <a:lnTo>
                    <a:pt x="3287" y="181"/>
                  </a:lnTo>
                  <a:lnTo>
                    <a:pt x="3270" y="159"/>
                  </a:lnTo>
                  <a:lnTo>
                    <a:pt x="3246" y="133"/>
                  </a:lnTo>
                  <a:lnTo>
                    <a:pt x="3224" y="112"/>
                  </a:lnTo>
                  <a:lnTo>
                    <a:pt x="3201" y="95"/>
                  </a:lnTo>
                  <a:lnTo>
                    <a:pt x="3177" y="77"/>
                  </a:lnTo>
                  <a:lnTo>
                    <a:pt x="3145" y="61"/>
                  </a:lnTo>
                  <a:lnTo>
                    <a:pt x="3115" y="43"/>
                  </a:lnTo>
                  <a:lnTo>
                    <a:pt x="3082" y="30"/>
                  </a:lnTo>
                  <a:lnTo>
                    <a:pt x="3052" y="21"/>
                  </a:lnTo>
                  <a:lnTo>
                    <a:pt x="3014" y="13"/>
                  </a:lnTo>
                  <a:lnTo>
                    <a:pt x="2981" y="9"/>
                  </a:lnTo>
                  <a:lnTo>
                    <a:pt x="2942" y="4"/>
                  </a:lnTo>
                  <a:lnTo>
                    <a:pt x="2906" y="0"/>
                  </a:lnTo>
                  <a:lnTo>
                    <a:pt x="2880" y="4"/>
                  </a:lnTo>
                  <a:lnTo>
                    <a:pt x="2856" y="4"/>
                  </a:lnTo>
                  <a:lnTo>
                    <a:pt x="2834" y="4"/>
                  </a:lnTo>
                  <a:lnTo>
                    <a:pt x="2811" y="9"/>
                  </a:lnTo>
                  <a:lnTo>
                    <a:pt x="2788" y="13"/>
                  </a:lnTo>
                  <a:lnTo>
                    <a:pt x="2772" y="18"/>
                  </a:lnTo>
                  <a:lnTo>
                    <a:pt x="2748" y="26"/>
                  </a:lnTo>
                  <a:lnTo>
                    <a:pt x="2725" y="30"/>
                  </a:lnTo>
                  <a:lnTo>
                    <a:pt x="2710" y="40"/>
                  </a:lnTo>
                  <a:lnTo>
                    <a:pt x="2684" y="47"/>
                  </a:lnTo>
                  <a:lnTo>
                    <a:pt x="2671" y="56"/>
                  </a:lnTo>
                  <a:lnTo>
                    <a:pt x="2647" y="64"/>
                  </a:lnTo>
                  <a:lnTo>
                    <a:pt x="2630" y="77"/>
                  </a:lnTo>
                  <a:lnTo>
                    <a:pt x="2615" y="90"/>
                  </a:lnTo>
                  <a:lnTo>
                    <a:pt x="2600" y="98"/>
                  </a:lnTo>
                  <a:lnTo>
                    <a:pt x="2585" y="112"/>
                  </a:lnTo>
                  <a:lnTo>
                    <a:pt x="2585" y="112"/>
                  </a:lnTo>
                  <a:lnTo>
                    <a:pt x="2567" y="98"/>
                  </a:lnTo>
                  <a:lnTo>
                    <a:pt x="2553" y="90"/>
                  </a:lnTo>
                  <a:lnTo>
                    <a:pt x="2538" y="77"/>
                  </a:lnTo>
                  <a:lnTo>
                    <a:pt x="2520" y="64"/>
                  </a:lnTo>
                  <a:lnTo>
                    <a:pt x="2507" y="56"/>
                  </a:lnTo>
                  <a:lnTo>
                    <a:pt x="2490" y="47"/>
                  </a:lnTo>
                  <a:lnTo>
                    <a:pt x="2466" y="40"/>
                  </a:lnTo>
                  <a:lnTo>
                    <a:pt x="2452" y="30"/>
                  </a:lnTo>
                  <a:lnTo>
                    <a:pt x="2427" y="26"/>
                  </a:lnTo>
                  <a:lnTo>
                    <a:pt x="2413" y="18"/>
                  </a:lnTo>
                  <a:lnTo>
                    <a:pt x="2389" y="13"/>
                  </a:lnTo>
                  <a:lnTo>
                    <a:pt x="2366" y="9"/>
                  </a:lnTo>
                  <a:lnTo>
                    <a:pt x="2350" y="4"/>
                  </a:lnTo>
                  <a:lnTo>
                    <a:pt x="2326" y="4"/>
                  </a:lnTo>
                  <a:lnTo>
                    <a:pt x="2303" y="4"/>
                  </a:lnTo>
                  <a:lnTo>
                    <a:pt x="2281" y="0"/>
                  </a:lnTo>
                  <a:lnTo>
                    <a:pt x="2255" y="4"/>
                  </a:lnTo>
                  <a:lnTo>
                    <a:pt x="2226" y="4"/>
                  </a:lnTo>
                  <a:lnTo>
                    <a:pt x="2201" y="9"/>
                  </a:lnTo>
                  <a:lnTo>
                    <a:pt x="2178" y="13"/>
                  </a:lnTo>
                  <a:lnTo>
                    <a:pt x="2156" y="21"/>
                  </a:lnTo>
                  <a:lnTo>
                    <a:pt x="2131" y="26"/>
                  </a:lnTo>
                  <a:lnTo>
                    <a:pt x="2109" y="34"/>
                  </a:lnTo>
                  <a:lnTo>
                    <a:pt x="2085" y="43"/>
                  </a:lnTo>
                  <a:lnTo>
                    <a:pt x="2061" y="56"/>
                  </a:lnTo>
                  <a:lnTo>
                    <a:pt x="2038" y="68"/>
                  </a:lnTo>
                  <a:lnTo>
                    <a:pt x="2023" y="82"/>
                  </a:lnTo>
                  <a:lnTo>
                    <a:pt x="2005" y="95"/>
                  </a:lnTo>
                  <a:lnTo>
                    <a:pt x="1984" y="108"/>
                  </a:lnTo>
                  <a:lnTo>
                    <a:pt x="1967" y="125"/>
                  </a:lnTo>
                  <a:lnTo>
                    <a:pt x="1951" y="142"/>
                  </a:lnTo>
                  <a:lnTo>
                    <a:pt x="1945" y="159"/>
                  </a:lnTo>
                  <a:lnTo>
                    <a:pt x="1945" y="164"/>
                  </a:lnTo>
                  <a:lnTo>
                    <a:pt x="1913" y="142"/>
                  </a:lnTo>
                  <a:lnTo>
                    <a:pt x="1897" y="133"/>
                  </a:lnTo>
                  <a:lnTo>
                    <a:pt x="1874" y="120"/>
                  </a:lnTo>
                  <a:lnTo>
                    <a:pt x="1859" y="112"/>
                  </a:lnTo>
                  <a:lnTo>
                    <a:pt x="1835" y="104"/>
                  </a:lnTo>
                  <a:lnTo>
                    <a:pt x="1820" y="98"/>
                  </a:lnTo>
                  <a:lnTo>
                    <a:pt x="1797" y="90"/>
                  </a:lnTo>
                  <a:lnTo>
                    <a:pt x="1773" y="86"/>
                  </a:lnTo>
                  <a:lnTo>
                    <a:pt x="1757" y="77"/>
                  </a:lnTo>
                  <a:lnTo>
                    <a:pt x="1734" y="74"/>
                  </a:lnTo>
                  <a:lnTo>
                    <a:pt x="1710" y="68"/>
                  </a:lnTo>
                  <a:lnTo>
                    <a:pt x="1687" y="68"/>
                  </a:lnTo>
                  <a:lnTo>
                    <a:pt x="1665" y="64"/>
                  </a:lnTo>
                  <a:lnTo>
                    <a:pt x="1639" y="64"/>
                  </a:lnTo>
                  <a:lnTo>
                    <a:pt x="1624" y="64"/>
                  </a:lnTo>
                  <a:lnTo>
                    <a:pt x="1585" y="64"/>
                  </a:lnTo>
                  <a:lnTo>
                    <a:pt x="1555" y="68"/>
                  </a:lnTo>
                  <a:lnTo>
                    <a:pt x="1522" y="74"/>
                  </a:lnTo>
                  <a:lnTo>
                    <a:pt x="1499" y="77"/>
                  </a:lnTo>
                  <a:lnTo>
                    <a:pt x="1469" y="86"/>
                  </a:lnTo>
                  <a:lnTo>
                    <a:pt x="1436" y="90"/>
                  </a:lnTo>
                  <a:lnTo>
                    <a:pt x="1407" y="104"/>
                  </a:lnTo>
                  <a:lnTo>
                    <a:pt x="1382" y="112"/>
                  </a:lnTo>
                  <a:lnTo>
                    <a:pt x="1359" y="125"/>
                  </a:lnTo>
                  <a:lnTo>
                    <a:pt x="1329" y="142"/>
                  </a:lnTo>
                  <a:lnTo>
                    <a:pt x="1305" y="154"/>
                  </a:lnTo>
                  <a:lnTo>
                    <a:pt x="1289" y="172"/>
                  </a:lnTo>
                  <a:lnTo>
                    <a:pt x="1267" y="189"/>
                  </a:lnTo>
                  <a:lnTo>
                    <a:pt x="1242" y="206"/>
                  </a:lnTo>
                  <a:lnTo>
                    <a:pt x="1226" y="228"/>
                  </a:lnTo>
                  <a:lnTo>
                    <a:pt x="1210" y="249"/>
                  </a:lnTo>
                  <a:lnTo>
                    <a:pt x="1210" y="249"/>
                  </a:lnTo>
                  <a:lnTo>
                    <a:pt x="1178" y="237"/>
                  </a:lnTo>
                  <a:lnTo>
                    <a:pt x="1142" y="223"/>
                  </a:lnTo>
                  <a:lnTo>
                    <a:pt x="1102" y="215"/>
                  </a:lnTo>
                  <a:lnTo>
                    <a:pt x="1070" y="206"/>
                  </a:lnTo>
                  <a:lnTo>
                    <a:pt x="1032" y="198"/>
                  </a:lnTo>
                  <a:lnTo>
                    <a:pt x="993" y="194"/>
                  </a:lnTo>
                  <a:lnTo>
                    <a:pt x="952" y="189"/>
                  </a:lnTo>
                  <a:lnTo>
                    <a:pt x="914" y="189"/>
                  </a:lnTo>
                  <a:lnTo>
                    <a:pt x="883" y="189"/>
                  </a:lnTo>
                  <a:lnTo>
                    <a:pt x="851" y="194"/>
                  </a:lnTo>
                  <a:lnTo>
                    <a:pt x="827" y="198"/>
                  </a:lnTo>
                  <a:lnTo>
                    <a:pt x="797" y="198"/>
                  </a:lnTo>
                  <a:lnTo>
                    <a:pt x="767" y="206"/>
                  </a:lnTo>
                  <a:lnTo>
                    <a:pt x="743" y="211"/>
                  </a:lnTo>
                  <a:lnTo>
                    <a:pt x="713" y="215"/>
                  </a:lnTo>
                  <a:lnTo>
                    <a:pt x="687" y="223"/>
                  </a:lnTo>
                  <a:lnTo>
                    <a:pt x="664" y="233"/>
                  </a:lnTo>
                  <a:lnTo>
                    <a:pt x="633" y="245"/>
                  </a:lnTo>
                  <a:lnTo>
                    <a:pt x="610" y="254"/>
                  </a:lnTo>
                  <a:lnTo>
                    <a:pt x="585" y="267"/>
                  </a:lnTo>
                  <a:lnTo>
                    <a:pt x="562" y="279"/>
                  </a:lnTo>
                  <a:lnTo>
                    <a:pt x="540" y="293"/>
                  </a:lnTo>
                  <a:lnTo>
                    <a:pt x="524" y="305"/>
                  </a:lnTo>
                  <a:lnTo>
                    <a:pt x="499" y="319"/>
                  </a:lnTo>
                  <a:lnTo>
                    <a:pt x="478" y="335"/>
                  </a:lnTo>
                  <a:lnTo>
                    <a:pt x="461" y="349"/>
                  </a:lnTo>
                  <a:lnTo>
                    <a:pt x="445" y="366"/>
                  </a:lnTo>
                  <a:lnTo>
                    <a:pt x="431" y="384"/>
                  </a:lnTo>
                  <a:lnTo>
                    <a:pt x="416" y="403"/>
                  </a:lnTo>
                  <a:lnTo>
                    <a:pt x="398" y="421"/>
                  </a:lnTo>
                  <a:lnTo>
                    <a:pt x="384" y="439"/>
                  </a:lnTo>
                  <a:lnTo>
                    <a:pt x="377" y="460"/>
                  </a:lnTo>
                  <a:lnTo>
                    <a:pt x="368" y="477"/>
                  </a:lnTo>
                  <a:lnTo>
                    <a:pt x="353" y="498"/>
                  </a:lnTo>
                  <a:lnTo>
                    <a:pt x="345" y="520"/>
                  </a:lnTo>
                  <a:lnTo>
                    <a:pt x="345" y="542"/>
                  </a:lnTo>
                  <a:lnTo>
                    <a:pt x="336" y="563"/>
                  </a:lnTo>
                  <a:lnTo>
                    <a:pt x="327" y="584"/>
                  </a:lnTo>
                  <a:lnTo>
                    <a:pt x="327" y="606"/>
                  </a:lnTo>
                  <a:lnTo>
                    <a:pt x="327" y="628"/>
                  </a:lnTo>
                  <a:lnTo>
                    <a:pt x="327" y="658"/>
                  </a:lnTo>
                  <a:lnTo>
                    <a:pt x="336" y="68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50240" y="3129480"/>
              <a:ext cx="134928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180000" anchor="ctr" anchorCtr="1">
              <a:spAutoFit/>
            </a:bodyPr>
            <a:p>
              <a:pPr algn="ctr">
                <a:lnSpc>
                  <a:spcPts val="305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GI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018120" y="4282920"/>
            <a:ext cx="1349640" cy="744840"/>
            <a:chOff x="6018120" y="4282920"/>
            <a:chExt cx="1349640" cy="744840"/>
          </a:xfrm>
        </p:grpSpPr>
        <p:sp>
          <p:nvSpPr>
            <p:cNvPr id="376" name=""/>
            <p:cNvSpPr/>
            <p:nvPr/>
          </p:nvSpPr>
          <p:spPr>
            <a:xfrm>
              <a:off x="6018120" y="4282920"/>
              <a:ext cx="1349640" cy="744840"/>
            </a:xfrm>
            <a:custGeom>
              <a:avLst/>
              <a:gdLst/>
              <a:ahLst/>
              <a:rect l="l" t="t" r="r" b="b"/>
              <a:pathLst>
                <a:path w="3749" h="2066">
                  <a:moveTo>
                    <a:pt x="336" y="689"/>
                  </a:moveTo>
                  <a:lnTo>
                    <a:pt x="298" y="692"/>
                  </a:lnTo>
                  <a:lnTo>
                    <a:pt x="265" y="701"/>
                  </a:lnTo>
                  <a:lnTo>
                    <a:pt x="235" y="706"/>
                  </a:lnTo>
                  <a:lnTo>
                    <a:pt x="205" y="718"/>
                  </a:lnTo>
                  <a:lnTo>
                    <a:pt x="172" y="731"/>
                  </a:lnTo>
                  <a:lnTo>
                    <a:pt x="142" y="747"/>
                  </a:lnTo>
                  <a:lnTo>
                    <a:pt x="118" y="762"/>
                  </a:lnTo>
                  <a:lnTo>
                    <a:pt x="95" y="778"/>
                  </a:lnTo>
                  <a:lnTo>
                    <a:pt x="71" y="800"/>
                  </a:lnTo>
                  <a:lnTo>
                    <a:pt x="56" y="821"/>
                  </a:lnTo>
                  <a:lnTo>
                    <a:pt x="39" y="843"/>
                  </a:lnTo>
                  <a:lnTo>
                    <a:pt x="25" y="869"/>
                  </a:lnTo>
                  <a:lnTo>
                    <a:pt x="9" y="891"/>
                  </a:lnTo>
                  <a:lnTo>
                    <a:pt x="0" y="920"/>
                  </a:lnTo>
                  <a:lnTo>
                    <a:pt x="0" y="946"/>
                  </a:lnTo>
                  <a:lnTo>
                    <a:pt x="0" y="972"/>
                  </a:lnTo>
                  <a:lnTo>
                    <a:pt x="0" y="989"/>
                  </a:lnTo>
                  <a:lnTo>
                    <a:pt x="0" y="1011"/>
                  </a:lnTo>
                  <a:lnTo>
                    <a:pt x="0" y="1029"/>
                  </a:lnTo>
                  <a:lnTo>
                    <a:pt x="9" y="1045"/>
                  </a:lnTo>
                  <a:lnTo>
                    <a:pt x="18" y="1063"/>
                  </a:lnTo>
                  <a:lnTo>
                    <a:pt x="25" y="1079"/>
                  </a:lnTo>
                  <a:lnTo>
                    <a:pt x="32" y="1097"/>
                  </a:lnTo>
                  <a:lnTo>
                    <a:pt x="47" y="1113"/>
                  </a:lnTo>
                  <a:lnTo>
                    <a:pt x="65" y="1127"/>
                  </a:lnTo>
                  <a:lnTo>
                    <a:pt x="71" y="1143"/>
                  </a:lnTo>
                  <a:lnTo>
                    <a:pt x="88" y="1157"/>
                  </a:lnTo>
                  <a:lnTo>
                    <a:pt x="101" y="1170"/>
                  </a:lnTo>
                  <a:lnTo>
                    <a:pt x="127" y="1183"/>
                  </a:lnTo>
                  <a:lnTo>
                    <a:pt x="142" y="1195"/>
                  </a:lnTo>
                  <a:lnTo>
                    <a:pt x="164" y="1208"/>
                  </a:lnTo>
                  <a:lnTo>
                    <a:pt x="181" y="1217"/>
                  </a:lnTo>
                  <a:lnTo>
                    <a:pt x="181" y="1214"/>
                  </a:lnTo>
                  <a:lnTo>
                    <a:pt x="158" y="1235"/>
                  </a:lnTo>
                  <a:lnTo>
                    <a:pt x="142" y="1256"/>
                  </a:lnTo>
                  <a:lnTo>
                    <a:pt x="118" y="1278"/>
                  </a:lnTo>
                  <a:lnTo>
                    <a:pt x="110" y="1303"/>
                  </a:lnTo>
                  <a:lnTo>
                    <a:pt x="95" y="1328"/>
                  </a:lnTo>
                  <a:lnTo>
                    <a:pt x="88" y="1355"/>
                  </a:lnTo>
                  <a:lnTo>
                    <a:pt x="79" y="1380"/>
                  </a:lnTo>
                  <a:lnTo>
                    <a:pt x="79" y="1407"/>
                  </a:lnTo>
                  <a:lnTo>
                    <a:pt x="79" y="1419"/>
                  </a:lnTo>
                  <a:lnTo>
                    <a:pt x="79" y="1436"/>
                  </a:lnTo>
                  <a:lnTo>
                    <a:pt x="88" y="1450"/>
                  </a:lnTo>
                  <a:lnTo>
                    <a:pt x="88" y="1463"/>
                  </a:lnTo>
                  <a:lnTo>
                    <a:pt x="95" y="1475"/>
                  </a:lnTo>
                  <a:lnTo>
                    <a:pt x="95" y="1493"/>
                  </a:lnTo>
                  <a:lnTo>
                    <a:pt x="110" y="1518"/>
                  </a:lnTo>
                  <a:lnTo>
                    <a:pt x="127" y="1540"/>
                  </a:lnTo>
                  <a:lnTo>
                    <a:pt x="142" y="1565"/>
                  </a:lnTo>
                  <a:lnTo>
                    <a:pt x="164" y="1587"/>
                  </a:lnTo>
                  <a:lnTo>
                    <a:pt x="190" y="1608"/>
                  </a:lnTo>
                  <a:lnTo>
                    <a:pt x="219" y="1626"/>
                  </a:lnTo>
                  <a:lnTo>
                    <a:pt x="244" y="1643"/>
                  </a:lnTo>
                  <a:lnTo>
                    <a:pt x="273" y="1656"/>
                  </a:lnTo>
                  <a:lnTo>
                    <a:pt x="314" y="1668"/>
                  </a:lnTo>
                  <a:lnTo>
                    <a:pt x="345" y="1678"/>
                  </a:lnTo>
                  <a:lnTo>
                    <a:pt x="384" y="1682"/>
                  </a:lnTo>
                  <a:lnTo>
                    <a:pt x="398" y="1686"/>
                  </a:lnTo>
                  <a:lnTo>
                    <a:pt x="422" y="1690"/>
                  </a:lnTo>
                  <a:lnTo>
                    <a:pt x="438" y="1690"/>
                  </a:lnTo>
                  <a:lnTo>
                    <a:pt x="454" y="1690"/>
                  </a:lnTo>
                  <a:lnTo>
                    <a:pt x="478" y="1690"/>
                  </a:lnTo>
                  <a:lnTo>
                    <a:pt x="499" y="1686"/>
                  </a:lnTo>
                  <a:lnTo>
                    <a:pt x="499" y="1690"/>
                  </a:lnTo>
                  <a:lnTo>
                    <a:pt x="524" y="1720"/>
                  </a:lnTo>
                  <a:lnTo>
                    <a:pt x="547" y="1746"/>
                  </a:lnTo>
                  <a:lnTo>
                    <a:pt x="580" y="1773"/>
                  </a:lnTo>
                  <a:lnTo>
                    <a:pt x="610" y="1792"/>
                  </a:lnTo>
                  <a:lnTo>
                    <a:pt x="642" y="1819"/>
                  </a:lnTo>
                  <a:lnTo>
                    <a:pt x="672" y="1841"/>
                  </a:lnTo>
                  <a:lnTo>
                    <a:pt x="713" y="1857"/>
                  </a:lnTo>
                  <a:lnTo>
                    <a:pt x="743" y="1875"/>
                  </a:lnTo>
                  <a:lnTo>
                    <a:pt x="782" y="1892"/>
                  </a:lnTo>
                  <a:lnTo>
                    <a:pt x="820" y="1905"/>
                  </a:lnTo>
                  <a:lnTo>
                    <a:pt x="868" y="1914"/>
                  </a:lnTo>
                  <a:lnTo>
                    <a:pt x="907" y="1927"/>
                  </a:lnTo>
                  <a:lnTo>
                    <a:pt x="946" y="1931"/>
                  </a:lnTo>
                  <a:lnTo>
                    <a:pt x="993" y="1940"/>
                  </a:lnTo>
                  <a:lnTo>
                    <a:pt x="1041" y="1940"/>
                  </a:lnTo>
                  <a:lnTo>
                    <a:pt x="1077" y="1943"/>
                  </a:lnTo>
                  <a:lnTo>
                    <a:pt x="1124" y="1940"/>
                  </a:lnTo>
                  <a:lnTo>
                    <a:pt x="1172" y="1940"/>
                  </a:lnTo>
                  <a:lnTo>
                    <a:pt x="1219" y="1931"/>
                  </a:lnTo>
                  <a:lnTo>
                    <a:pt x="1258" y="1927"/>
                  </a:lnTo>
                  <a:lnTo>
                    <a:pt x="1305" y="1914"/>
                  </a:lnTo>
                  <a:lnTo>
                    <a:pt x="1342" y="1900"/>
                  </a:lnTo>
                  <a:lnTo>
                    <a:pt x="1382" y="1887"/>
                  </a:lnTo>
                  <a:lnTo>
                    <a:pt x="1430" y="1871"/>
                  </a:lnTo>
                  <a:lnTo>
                    <a:pt x="1422" y="1871"/>
                  </a:lnTo>
                  <a:lnTo>
                    <a:pt x="1443" y="1892"/>
                  </a:lnTo>
                  <a:lnTo>
                    <a:pt x="1469" y="1914"/>
                  </a:lnTo>
                  <a:lnTo>
                    <a:pt x="1493" y="1935"/>
                  </a:lnTo>
                  <a:lnTo>
                    <a:pt x="1522" y="1952"/>
                  </a:lnTo>
                  <a:lnTo>
                    <a:pt x="1547" y="1971"/>
                  </a:lnTo>
                  <a:lnTo>
                    <a:pt x="1576" y="1988"/>
                  </a:lnTo>
                  <a:lnTo>
                    <a:pt x="1601" y="2000"/>
                  </a:lnTo>
                  <a:lnTo>
                    <a:pt x="1633" y="2012"/>
                  </a:lnTo>
                  <a:lnTo>
                    <a:pt x="1669" y="2025"/>
                  </a:lnTo>
                  <a:lnTo>
                    <a:pt x="1702" y="2038"/>
                  </a:lnTo>
                  <a:lnTo>
                    <a:pt x="1734" y="2046"/>
                  </a:lnTo>
                  <a:lnTo>
                    <a:pt x="1773" y="2051"/>
                  </a:lnTo>
                  <a:lnTo>
                    <a:pt x="1803" y="2060"/>
                  </a:lnTo>
                  <a:lnTo>
                    <a:pt x="1835" y="2065"/>
                  </a:lnTo>
                  <a:lnTo>
                    <a:pt x="1874" y="2065"/>
                  </a:lnTo>
                  <a:lnTo>
                    <a:pt x="1913" y="2065"/>
                  </a:lnTo>
                  <a:lnTo>
                    <a:pt x="1937" y="2065"/>
                  </a:lnTo>
                  <a:lnTo>
                    <a:pt x="1960" y="2065"/>
                  </a:lnTo>
                  <a:lnTo>
                    <a:pt x="1984" y="2065"/>
                  </a:lnTo>
                  <a:lnTo>
                    <a:pt x="2005" y="2060"/>
                  </a:lnTo>
                  <a:lnTo>
                    <a:pt x="2029" y="2056"/>
                  </a:lnTo>
                  <a:lnTo>
                    <a:pt x="2055" y="2056"/>
                  </a:lnTo>
                  <a:lnTo>
                    <a:pt x="2100" y="2043"/>
                  </a:lnTo>
                  <a:lnTo>
                    <a:pt x="2139" y="2029"/>
                  </a:lnTo>
                  <a:lnTo>
                    <a:pt x="2186" y="2017"/>
                  </a:lnTo>
                  <a:lnTo>
                    <a:pt x="2226" y="2000"/>
                  </a:lnTo>
                  <a:lnTo>
                    <a:pt x="2264" y="1978"/>
                  </a:lnTo>
                  <a:lnTo>
                    <a:pt x="2294" y="1957"/>
                  </a:lnTo>
                  <a:lnTo>
                    <a:pt x="2326" y="1935"/>
                  </a:lnTo>
                  <a:lnTo>
                    <a:pt x="2357" y="1910"/>
                  </a:lnTo>
                  <a:lnTo>
                    <a:pt x="2389" y="1880"/>
                  </a:lnTo>
                  <a:lnTo>
                    <a:pt x="2413" y="1849"/>
                  </a:lnTo>
                  <a:lnTo>
                    <a:pt x="2436" y="1819"/>
                  </a:lnTo>
                  <a:lnTo>
                    <a:pt x="2458" y="1789"/>
                  </a:lnTo>
                  <a:lnTo>
                    <a:pt x="2466" y="1773"/>
                  </a:lnTo>
                  <a:lnTo>
                    <a:pt x="2475" y="1755"/>
                  </a:lnTo>
                  <a:lnTo>
                    <a:pt x="2475" y="1755"/>
                  </a:lnTo>
                  <a:lnTo>
                    <a:pt x="2507" y="1767"/>
                  </a:lnTo>
                  <a:lnTo>
                    <a:pt x="2538" y="1780"/>
                  </a:lnTo>
                  <a:lnTo>
                    <a:pt x="2567" y="1789"/>
                  </a:lnTo>
                  <a:lnTo>
                    <a:pt x="2600" y="1797"/>
                  </a:lnTo>
                  <a:lnTo>
                    <a:pt x="2630" y="1807"/>
                  </a:lnTo>
                  <a:lnTo>
                    <a:pt x="2671" y="1810"/>
                  </a:lnTo>
                  <a:lnTo>
                    <a:pt x="2701" y="1814"/>
                  </a:lnTo>
                  <a:lnTo>
                    <a:pt x="2740" y="1814"/>
                  </a:lnTo>
                  <a:lnTo>
                    <a:pt x="2764" y="1814"/>
                  </a:lnTo>
                  <a:lnTo>
                    <a:pt x="2788" y="1810"/>
                  </a:lnTo>
                  <a:lnTo>
                    <a:pt x="2811" y="1810"/>
                  </a:lnTo>
                  <a:lnTo>
                    <a:pt x="2843" y="1807"/>
                  </a:lnTo>
                  <a:lnTo>
                    <a:pt x="2865" y="1802"/>
                  </a:lnTo>
                  <a:lnTo>
                    <a:pt x="2888" y="1797"/>
                  </a:lnTo>
                  <a:lnTo>
                    <a:pt x="2912" y="1789"/>
                  </a:lnTo>
                  <a:lnTo>
                    <a:pt x="2936" y="1786"/>
                  </a:lnTo>
                  <a:lnTo>
                    <a:pt x="2951" y="1776"/>
                  </a:lnTo>
                  <a:lnTo>
                    <a:pt x="2975" y="1767"/>
                  </a:lnTo>
                  <a:lnTo>
                    <a:pt x="2998" y="1758"/>
                  </a:lnTo>
                  <a:lnTo>
                    <a:pt x="3020" y="1751"/>
                  </a:lnTo>
                  <a:lnTo>
                    <a:pt x="3037" y="1742"/>
                  </a:lnTo>
                  <a:lnTo>
                    <a:pt x="3052" y="1729"/>
                  </a:lnTo>
                  <a:lnTo>
                    <a:pt x="3091" y="1702"/>
                  </a:lnTo>
                  <a:lnTo>
                    <a:pt x="3123" y="1678"/>
                  </a:lnTo>
                  <a:lnTo>
                    <a:pt x="3138" y="1665"/>
                  </a:lnTo>
                  <a:lnTo>
                    <a:pt x="3154" y="1651"/>
                  </a:lnTo>
                  <a:lnTo>
                    <a:pt x="3170" y="1634"/>
                  </a:lnTo>
                  <a:lnTo>
                    <a:pt x="3177" y="1617"/>
                  </a:lnTo>
                  <a:lnTo>
                    <a:pt x="3192" y="1604"/>
                  </a:lnTo>
                  <a:lnTo>
                    <a:pt x="3201" y="1587"/>
                  </a:lnTo>
                  <a:lnTo>
                    <a:pt x="3208" y="1570"/>
                  </a:lnTo>
                  <a:lnTo>
                    <a:pt x="3216" y="1552"/>
                  </a:lnTo>
                  <a:lnTo>
                    <a:pt x="3224" y="1536"/>
                  </a:lnTo>
                  <a:lnTo>
                    <a:pt x="3233" y="1514"/>
                  </a:lnTo>
                  <a:lnTo>
                    <a:pt x="3233" y="1497"/>
                  </a:lnTo>
                  <a:lnTo>
                    <a:pt x="3240" y="1479"/>
                  </a:lnTo>
                  <a:lnTo>
                    <a:pt x="3240" y="1463"/>
                  </a:lnTo>
                  <a:lnTo>
                    <a:pt x="3240" y="1441"/>
                  </a:lnTo>
                  <a:lnTo>
                    <a:pt x="3240" y="1441"/>
                  </a:lnTo>
                  <a:lnTo>
                    <a:pt x="3263" y="1436"/>
                  </a:lnTo>
                  <a:lnTo>
                    <a:pt x="3296" y="1432"/>
                  </a:lnTo>
                  <a:lnTo>
                    <a:pt x="3317" y="1428"/>
                  </a:lnTo>
                  <a:lnTo>
                    <a:pt x="3341" y="1419"/>
                  </a:lnTo>
                  <a:lnTo>
                    <a:pt x="3371" y="1415"/>
                  </a:lnTo>
                  <a:lnTo>
                    <a:pt x="3396" y="1407"/>
                  </a:lnTo>
                  <a:lnTo>
                    <a:pt x="3418" y="1397"/>
                  </a:lnTo>
                  <a:lnTo>
                    <a:pt x="3443" y="1389"/>
                  </a:lnTo>
                  <a:lnTo>
                    <a:pt x="3466" y="1380"/>
                  </a:lnTo>
                  <a:lnTo>
                    <a:pt x="3481" y="1367"/>
                  </a:lnTo>
                  <a:lnTo>
                    <a:pt x="3504" y="1359"/>
                  </a:lnTo>
                  <a:lnTo>
                    <a:pt x="3529" y="1346"/>
                  </a:lnTo>
                  <a:lnTo>
                    <a:pt x="3567" y="1321"/>
                  </a:lnTo>
                  <a:lnTo>
                    <a:pt x="3599" y="1290"/>
                  </a:lnTo>
                  <a:lnTo>
                    <a:pt x="3615" y="1278"/>
                  </a:lnTo>
                  <a:lnTo>
                    <a:pt x="3630" y="1259"/>
                  </a:lnTo>
                  <a:lnTo>
                    <a:pt x="3644" y="1248"/>
                  </a:lnTo>
                  <a:lnTo>
                    <a:pt x="3662" y="1230"/>
                  </a:lnTo>
                  <a:lnTo>
                    <a:pt x="3677" y="1214"/>
                  </a:lnTo>
                  <a:lnTo>
                    <a:pt x="3685" y="1195"/>
                  </a:lnTo>
                  <a:lnTo>
                    <a:pt x="3692" y="1178"/>
                  </a:lnTo>
                  <a:lnTo>
                    <a:pt x="3707" y="1161"/>
                  </a:lnTo>
                  <a:lnTo>
                    <a:pt x="3716" y="1140"/>
                  </a:lnTo>
                  <a:lnTo>
                    <a:pt x="3725" y="1123"/>
                  </a:lnTo>
                  <a:lnTo>
                    <a:pt x="3730" y="1106"/>
                  </a:lnTo>
                  <a:lnTo>
                    <a:pt x="3730" y="1084"/>
                  </a:lnTo>
                  <a:lnTo>
                    <a:pt x="3739" y="1063"/>
                  </a:lnTo>
                  <a:lnTo>
                    <a:pt x="3739" y="1045"/>
                  </a:lnTo>
                  <a:lnTo>
                    <a:pt x="3739" y="1023"/>
                  </a:lnTo>
                  <a:lnTo>
                    <a:pt x="3748" y="1002"/>
                  </a:lnTo>
                  <a:lnTo>
                    <a:pt x="3739" y="984"/>
                  </a:lnTo>
                  <a:lnTo>
                    <a:pt x="3739" y="968"/>
                  </a:lnTo>
                  <a:lnTo>
                    <a:pt x="3739" y="949"/>
                  </a:lnTo>
                  <a:lnTo>
                    <a:pt x="3730" y="933"/>
                  </a:lnTo>
                  <a:lnTo>
                    <a:pt x="3730" y="912"/>
                  </a:lnTo>
                  <a:lnTo>
                    <a:pt x="3725" y="894"/>
                  </a:lnTo>
                  <a:lnTo>
                    <a:pt x="3716" y="877"/>
                  </a:lnTo>
                  <a:lnTo>
                    <a:pt x="3716" y="860"/>
                  </a:lnTo>
                  <a:lnTo>
                    <a:pt x="3707" y="843"/>
                  </a:lnTo>
                  <a:lnTo>
                    <a:pt x="3692" y="826"/>
                  </a:lnTo>
                  <a:lnTo>
                    <a:pt x="3685" y="814"/>
                  </a:lnTo>
                  <a:lnTo>
                    <a:pt x="3677" y="795"/>
                  </a:lnTo>
                  <a:lnTo>
                    <a:pt x="3662" y="778"/>
                  </a:lnTo>
                  <a:lnTo>
                    <a:pt x="3644" y="766"/>
                  </a:lnTo>
                  <a:lnTo>
                    <a:pt x="3623" y="735"/>
                  </a:lnTo>
                  <a:lnTo>
                    <a:pt x="3623" y="735"/>
                  </a:lnTo>
                  <a:lnTo>
                    <a:pt x="3630" y="718"/>
                  </a:lnTo>
                  <a:lnTo>
                    <a:pt x="3636" y="701"/>
                  </a:lnTo>
                  <a:lnTo>
                    <a:pt x="3644" y="683"/>
                  </a:lnTo>
                  <a:lnTo>
                    <a:pt x="3644" y="667"/>
                  </a:lnTo>
                  <a:lnTo>
                    <a:pt x="3653" y="649"/>
                  </a:lnTo>
                  <a:lnTo>
                    <a:pt x="3653" y="633"/>
                  </a:lnTo>
                  <a:lnTo>
                    <a:pt x="3653" y="615"/>
                  </a:lnTo>
                  <a:lnTo>
                    <a:pt x="3662" y="599"/>
                  </a:lnTo>
                  <a:lnTo>
                    <a:pt x="3653" y="568"/>
                  </a:lnTo>
                  <a:lnTo>
                    <a:pt x="3653" y="542"/>
                  </a:lnTo>
                  <a:lnTo>
                    <a:pt x="3644" y="511"/>
                  </a:lnTo>
                  <a:lnTo>
                    <a:pt x="3630" y="485"/>
                  </a:lnTo>
                  <a:lnTo>
                    <a:pt x="3623" y="460"/>
                  </a:lnTo>
                  <a:lnTo>
                    <a:pt x="3606" y="434"/>
                  </a:lnTo>
                  <a:lnTo>
                    <a:pt x="3583" y="408"/>
                  </a:lnTo>
                  <a:lnTo>
                    <a:pt x="3561" y="387"/>
                  </a:lnTo>
                  <a:lnTo>
                    <a:pt x="3535" y="366"/>
                  </a:lnTo>
                  <a:lnTo>
                    <a:pt x="3513" y="344"/>
                  </a:lnTo>
                  <a:lnTo>
                    <a:pt x="3490" y="327"/>
                  </a:lnTo>
                  <a:lnTo>
                    <a:pt x="3459" y="310"/>
                  </a:lnTo>
                  <a:lnTo>
                    <a:pt x="3427" y="297"/>
                  </a:lnTo>
                  <a:lnTo>
                    <a:pt x="3389" y="283"/>
                  </a:lnTo>
                  <a:lnTo>
                    <a:pt x="3356" y="271"/>
                  </a:lnTo>
                  <a:lnTo>
                    <a:pt x="3317" y="262"/>
                  </a:lnTo>
                  <a:lnTo>
                    <a:pt x="3317" y="262"/>
                  </a:lnTo>
                  <a:lnTo>
                    <a:pt x="3308" y="233"/>
                  </a:lnTo>
                  <a:lnTo>
                    <a:pt x="3303" y="206"/>
                  </a:lnTo>
                  <a:lnTo>
                    <a:pt x="3287" y="181"/>
                  </a:lnTo>
                  <a:lnTo>
                    <a:pt x="3270" y="159"/>
                  </a:lnTo>
                  <a:lnTo>
                    <a:pt x="3246" y="133"/>
                  </a:lnTo>
                  <a:lnTo>
                    <a:pt x="3224" y="112"/>
                  </a:lnTo>
                  <a:lnTo>
                    <a:pt x="3201" y="95"/>
                  </a:lnTo>
                  <a:lnTo>
                    <a:pt x="3177" y="77"/>
                  </a:lnTo>
                  <a:lnTo>
                    <a:pt x="3145" y="61"/>
                  </a:lnTo>
                  <a:lnTo>
                    <a:pt x="3115" y="43"/>
                  </a:lnTo>
                  <a:lnTo>
                    <a:pt x="3082" y="30"/>
                  </a:lnTo>
                  <a:lnTo>
                    <a:pt x="3052" y="21"/>
                  </a:lnTo>
                  <a:lnTo>
                    <a:pt x="3014" y="13"/>
                  </a:lnTo>
                  <a:lnTo>
                    <a:pt x="2981" y="9"/>
                  </a:lnTo>
                  <a:lnTo>
                    <a:pt x="2942" y="4"/>
                  </a:lnTo>
                  <a:lnTo>
                    <a:pt x="2906" y="0"/>
                  </a:lnTo>
                  <a:lnTo>
                    <a:pt x="2880" y="4"/>
                  </a:lnTo>
                  <a:lnTo>
                    <a:pt x="2856" y="4"/>
                  </a:lnTo>
                  <a:lnTo>
                    <a:pt x="2834" y="4"/>
                  </a:lnTo>
                  <a:lnTo>
                    <a:pt x="2811" y="9"/>
                  </a:lnTo>
                  <a:lnTo>
                    <a:pt x="2788" y="13"/>
                  </a:lnTo>
                  <a:lnTo>
                    <a:pt x="2772" y="18"/>
                  </a:lnTo>
                  <a:lnTo>
                    <a:pt x="2748" y="26"/>
                  </a:lnTo>
                  <a:lnTo>
                    <a:pt x="2725" y="30"/>
                  </a:lnTo>
                  <a:lnTo>
                    <a:pt x="2710" y="40"/>
                  </a:lnTo>
                  <a:lnTo>
                    <a:pt x="2684" y="47"/>
                  </a:lnTo>
                  <a:lnTo>
                    <a:pt x="2671" y="56"/>
                  </a:lnTo>
                  <a:lnTo>
                    <a:pt x="2647" y="64"/>
                  </a:lnTo>
                  <a:lnTo>
                    <a:pt x="2630" y="77"/>
                  </a:lnTo>
                  <a:lnTo>
                    <a:pt x="2615" y="90"/>
                  </a:lnTo>
                  <a:lnTo>
                    <a:pt x="2600" y="98"/>
                  </a:lnTo>
                  <a:lnTo>
                    <a:pt x="2585" y="112"/>
                  </a:lnTo>
                  <a:lnTo>
                    <a:pt x="2585" y="112"/>
                  </a:lnTo>
                  <a:lnTo>
                    <a:pt x="2567" y="98"/>
                  </a:lnTo>
                  <a:lnTo>
                    <a:pt x="2553" y="90"/>
                  </a:lnTo>
                  <a:lnTo>
                    <a:pt x="2538" y="77"/>
                  </a:lnTo>
                  <a:lnTo>
                    <a:pt x="2520" y="64"/>
                  </a:lnTo>
                  <a:lnTo>
                    <a:pt x="2507" y="56"/>
                  </a:lnTo>
                  <a:lnTo>
                    <a:pt x="2490" y="47"/>
                  </a:lnTo>
                  <a:lnTo>
                    <a:pt x="2466" y="40"/>
                  </a:lnTo>
                  <a:lnTo>
                    <a:pt x="2452" y="30"/>
                  </a:lnTo>
                  <a:lnTo>
                    <a:pt x="2427" y="26"/>
                  </a:lnTo>
                  <a:lnTo>
                    <a:pt x="2413" y="18"/>
                  </a:lnTo>
                  <a:lnTo>
                    <a:pt x="2389" y="13"/>
                  </a:lnTo>
                  <a:lnTo>
                    <a:pt x="2366" y="9"/>
                  </a:lnTo>
                  <a:lnTo>
                    <a:pt x="2350" y="4"/>
                  </a:lnTo>
                  <a:lnTo>
                    <a:pt x="2326" y="4"/>
                  </a:lnTo>
                  <a:lnTo>
                    <a:pt x="2303" y="4"/>
                  </a:lnTo>
                  <a:lnTo>
                    <a:pt x="2281" y="0"/>
                  </a:lnTo>
                  <a:lnTo>
                    <a:pt x="2255" y="4"/>
                  </a:lnTo>
                  <a:lnTo>
                    <a:pt x="2226" y="4"/>
                  </a:lnTo>
                  <a:lnTo>
                    <a:pt x="2201" y="9"/>
                  </a:lnTo>
                  <a:lnTo>
                    <a:pt x="2178" y="13"/>
                  </a:lnTo>
                  <a:lnTo>
                    <a:pt x="2156" y="21"/>
                  </a:lnTo>
                  <a:lnTo>
                    <a:pt x="2131" y="26"/>
                  </a:lnTo>
                  <a:lnTo>
                    <a:pt x="2109" y="34"/>
                  </a:lnTo>
                  <a:lnTo>
                    <a:pt x="2085" y="43"/>
                  </a:lnTo>
                  <a:lnTo>
                    <a:pt x="2061" y="56"/>
                  </a:lnTo>
                  <a:lnTo>
                    <a:pt x="2038" y="68"/>
                  </a:lnTo>
                  <a:lnTo>
                    <a:pt x="2023" y="82"/>
                  </a:lnTo>
                  <a:lnTo>
                    <a:pt x="2005" y="95"/>
                  </a:lnTo>
                  <a:lnTo>
                    <a:pt x="1984" y="108"/>
                  </a:lnTo>
                  <a:lnTo>
                    <a:pt x="1967" y="125"/>
                  </a:lnTo>
                  <a:lnTo>
                    <a:pt x="1951" y="142"/>
                  </a:lnTo>
                  <a:lnTo>
                    <a:pt x="1945" y="159"/>
                  </a:lnTo>
                  <a:lnTo>
                    <a:pt x="1945" y="164"/>
                  </a:lnTo>
                  <a:lnTo>
                    <a:pt x="1913" y="142"/>
                  </a:lnTo>
                  <a:lnTo>
                    <a:pt x="1897" y="133"/>
                  </a:lnTo>
                  <a:lnTo>
                    <a:pt x="1874" y="120"/>
                  </a:lnTo>
                  <a:lnTo>
                    <a:pt x="1859" y="112"/>
                  </a:lnTo>
                  <a:lnTo>
                    <a:pt x="1835" y="104"/>
                  </a:lnTo>
                  <a:lnTo>
                    <a:pt x="1820" y="98"/>
                  </a:lnTo>
                  <a:lnTo>
                    <a:pt x="1797" y="90"/>
                  </a:lnTo>
                  <a:lnTo>
                    <a:pt x="1773" y="86"/>
                  </a:lnTo>
                  <a:lnTo>
                    <a:pt x="1757" y="77"/>
                  </a:lnTo>
                  <a:lnTo>
                    <a:pt x="1734" y="74"/>
                  </a:lnTo>
                  <a:lnTo>
                    <a:pt x="1710" y="68"/>
                  </a:lnTo>
                  <a:lnTo>
                    <a:pt x="1687" y="68"/>
                  </a:lnTo>
                  <a:lnTo>
                    <a:pt x="1665" y="64"/>
                  </a:lnTo>
                  <a:lnTo>
                    <a:pt x="1639" y="64"/>
                  </a:lnTo>
                  <a:lnTo>
                    <a:pt x="1624" y="64"/>
                  </a:lnTo>
                  <a:lnTo>
                    <a:pt x="1585" y="64"/>
                  </a:lnTo>
                  <a:lnTo>
                    <a:pt x="1555" y="68"/>
                  </a:lnTo>
                  <a:lnTo>
                    <a:pt x="1522" y="74"/>
                  </a:lnTo>
                  <a:lnTo>
                    <a:pt x="1499" y="77"/>
                  </a:lnTo>
                  <a:lnTo>
                    <a:pt x="1469" y="86"/>
                  </a:lnTo>
                  <a:lnTo>
                    <a:pt x="1436" y="90"/>
                  </a:lnTo>
                  <a:lnTo>
                    <a:pt x="1407" y="104"/>
                  </a:lnTo>
                  <a:lnTo>
                    <a:pt x="1382" y="112"/>
                  </a:lnTo>
                  <a:lnTo>
                    <a:pt x="1359" y="125"/>
                  </a:lnTo>
                  <a:lnTo>
                    <a:pt x="1329" y="142"/>
                  </a:lnTo>
                  <a:lnTo>
                    <a:pt x="1305" y="154"/>
                  </a:lnTo>
                  <a:lnTo>
                    <a:pt x="1289" y="172"/>
                  </a:lnTo>
                  <a:lnTo>
                    <a:pt x="1267" y="189"/>
                  </a:lnTo>
                  <a:lnTo>
                    <a:pt x="1242" y="206"/>
                  </a:lnTo>
                  <a:lnTo>
                    <a:pt x="1226" y="228"/>
                  </a:lnTo>
                  <a:lnTo>
                    <a:pt x="1210" y="249"/>
                  </a:lnTo>
                  <a:lnTo>
                    <a:pt x="1210" y="249"/>
                  </a:lnTo>
                  <a:lnTo>
                    <a:pt x="1178" y="237"/>
                  </a:lnTo>
                  <a:lnTo>
                    <a:pt x="1142" y="223"/>
                  </a:lnTo>
                  <a:lnTo>
                    <a:pt x="1102" y="215"/>
                  </a:lnTo>
                  <a:lnTo>
                    <a:pt x="1070" y="206"/>
                  </a:lnTo>
                  <a:lnTo>
                    <a:pt x="1032" y="198"/>
                  </a:lnTo>
                  <a:lnTo>
                    <a:pt x="993" y="194"/>
                  </a:lnTo>
                  <a:lnTo>
                    <a:pt x="952" y="189"/>
                  </a:lnTo>
                  <a:lnTo>
                    <a:pt x="914" y="189"/>
                  </a:lnTo>
                  <a:lnTo>
                    <a:pt x="883" y="189"/>
                  </a:lnTo>
                  <a:lnTo>
                    <a:pt x="851" y="194"/>
                  </a:lnTo>
                  <a:lnTo>
                    <a:pt x="827" y="198"/>
                  </a:lnTo>
                  <a:lnTo>
                    <a:pt x="797" y="198"/>
                  </a:lnTo>
                  <a:lnTo>
                    <a:pt x="767" y="206"/>
                  </a:lnTo>
                  <a:lnTo>
                    <a:pt x="743" y="211"/>
                  </a:lnTo>
                  <a:lnTo>
                    <a:pt x="713" y="215"/>
                  </a:lnTo>
                  <a:lnTo>
                    <a:pt x="687" y="223"/>
                  </a:lnTo>
                  <a:lnTo>
                    <a:pt x="664" y="233"/>
                  </a:lnTo>
                  <a:lnTo>
                    <a:pt x="633" y="245"/>
                  </a:lnTo>
                  <a:lnTo>
                    <a:pt x="610" y="254"/>
                  </a:lnTo>
                  <a:lnTo>
                    <a:pt x="585" y="267"/>
                  </a:lnTo>
                  <a:lnTo>
                    <a:pt x="562" y="279"/>
                  </a:lnTo>
                  <a:lnTo>
                    <a:pt x="540" y="293"/>
                  </a:lnTo>
                  <a:lnTo>
                    <a:pt x="524" y="305"/>
                  </a:lnTo>
                  <a:lnTo>
                    <a:pt x="499" y="319"/>
                  </a:lnTo>
                  <a:lnTo>
                    <a:pt x="478" y="335"/>
                  </a:lnTo>
                  <a:lnTo>
                    <a:pt x="461" y="349"/>
                  </a:lnTo>
                  <a:lnTo>
                    <a:pt x="445" y="366"/>
                  </a:lnTo>
                  <a:lnTo>
                    <a:pt x="431" y="384"/>
                  </a:lnTo>
                  <a:lnTo>
                    <a:pt x="416" y="403"/>
                  </a:lnTo>
                  <a:lnTo>
                    <a:pt x="398" y="421"/>
                  </a:lnTo>
                  <a:lnTo>
                    <a:pt x="384" y="439"/>
                  </a:lnTo>
                  <a:lnTo>
                    <a:pt x="377" y="460"/>
                  </a:lnTo>
                  <a:lnTo>
                    <a:pt x="368" y="477"/>
                  </a:lnTo>
                  <a:lnTo>
                    <a:pt x="353" y="498"/>
                  </a:lnTo>
                  <a:lnTo>
                    <a:pt x="345" y="520"/>
                  </a:lnTo>
                  <a:lnTo>
                    <a:pt x="345" y="542"/>
                  </a:lnTo>
                  <a:lnTo>
                    <a:pt x="336" y="563"/>
                  </a:lnTo>
                  <a:lnTo>
                    <a:pt x="327" y="584"/>
                  </a:lnTo>
                  <a:lnTo>
                    <a:pt x="327" y="606"/>
                  </a:lnTo>
                  <a:lnTo>
                    <a:pt x="327" y="628"/>
                  </a:lnTo>
                  <a:lnTo>
                    <a:pt x="327" y="658"/>
                  </a:lnTo>
                  <a:lnTo>
                    <a:pt x="336" y="68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18120" y="4353480"/>
              <a:ext cx="13496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180000" anchor="ctr" anchorCtr="1">
              <a:spAutoFit/>
            </a:bodyPr>
            <a:p>
              <a:pPr algn="ctr">
                <a:lnSpc>
                  <a:spcPts val="305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GR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8161200" y="4429080"/>
            <a:ext cx="1349640" cy="744480"/>
            <a:chOff x="8161200" y="4429080"/>
            <a:chExt cx="1349640" cy="744480"/>
          </a:xfrm>
        </p:grpSpPr>
        <p:sp>
          <p:nvSpPr>
            <p:cNvPr id="385" name=""/>
            <p:cNvSpPr/>
            <p:nvPr/>
          </p:nvSpPr>
          <p:spPr>
            <a:xfrm>
              <a:off x="8161200" y="4429080"/>
              <a:ext cx="1349640" cy="744480"/>
            </a:xfrm>
            <a:custGeom>
              <a:avLst/>
              <a:gdLst/>
              <a:ahLst/>
              <a:rect l="l" t="t" r="r" b="b"/>
              <a:pathLst>
                <a:path w="3749" h="2066">
                  <a:moveTo>
                    <a:pt x="336" y="689"/>
                  </a:moveTo>
                  <a:lnTo>
                    <a:pt x="298" y="692"/>
                  </a:lnTo>
                  <a:lnTo>
                    <a:pt x="265" y="701"/>
                  </a:lnTo>
                  <a:lnTo>
                    <a:pt x="235" y="706"/>
                  </a:lnTo>
                  <a:lnTo>
                    <a:pt x="205" y="718"/>
                  </a:lnTo>
                  <a:lnTo>
                    <a:pt x="172" y="731"/>
                  </a:lnTo>
                  <a:lnTo>
                    <a:pt x="142" y="747"/>
                  </a:lnTo>
                  <a:lnTo>
                    <a:pt x="118" y="762"/>
                  </a:lnTo>
                  <a:lnTo>
                    <a:pt x="95" y="778"/>
                  </a:lnTo>
                  <a:lnTo>
                    <a:pt x="71" y="800"/>
                  </a:lnTo>
                  <a:lnTo>
                    <a:pt x="56" y="821"/>
                  </a:lnTo>
                  <a:lnTo>
                    <a:pt x="39" y="843"/>
                  </a:lnTo>
                  <a:lnTo>
                    <a:pt x="25" y="869"/>
                  </a:lnTo>
                  <a:lnTo>
                    <a:pt x="9" y="891"/>
                  </a:lnTo>
                  <a:lnTo>
                    <a:pt x="0" y="920"/>
                  </a:lnTo>
                  <a:lnTo>
                    <a:pt x="0" y="946"/>
                  </a:lnTo>
                  <a:lnTo>
                    <a:pt x="0" y="972"/>
                  </a:lnTo>
                  <a:lnTo>
                    <a:pt x="0" y="989"/>
                  </a:lnTo>
                  <a:lnTo>
                    <a:pt x="0" y="1011"/>
                  </a:lnTo>
                  <a:lnTo>
                    <a:pt x="0" y="1029"/>
                  </a:lnTo>
                  <a:lnTo>
                    <a:pt x="9" y="1045"/>
                  </a:lnTo>
                  <a:lnTo>
                    <a:pt x="18" y="1063"/>
                  </a:lnTo>
                  <a:lnTo>
                    <a:pt x="25" y="1079"/>
                  </a:lnTo>
                  <a:lnTo>
                    <a:pt x="32" y="1097"/>
                  </a:lnTo>
                  <a:lnTo>
                    <a:pt x="47" y="1113"/>
                  </a:lnTo>
                  <a:lnTo>
                    <a:pt x="65" y="1127"/>
                  </a:lnTo>
                  <a:lnTo>
                    <a:pt x="71" y="1143"/>
                  </a:lnTo>
                  <a:lnTo>
                    <a:pt x="88" y="1157"/>
                  </a:lnTo>
                  <a:lnTo>
                    <a:pt x="101" y="1170"/>
                  </a:lnTo>
                  <a:lnTo>
                    <a:pt x="127" y="1183"/>
                  </a:lnTo>
                  <a:lnTo>
                    <a:pt x="142" y="1195"/>
                  </a:lnTo>
                  <a:lnTo>
                    <a:pt x="164" y="1208"/>
                  </a:lnTo>
                  <a:lnTo>
                    <a:pt x="181" y="1217"/>
                  </a:lnTo>
                  <a:lnTo>
                    <a:pt x="181" y="1214"/>
                  </a:lnTo>
                  <a:lnTo>
                    <a:pt x="158" y="1235"/>
                  </a:lnTo>
                  <a:lnTo>
                    <a:pt x="142" y="1256"/>
                  </a:lnTo>
                  <a:lnTo>
                    <a:pt x="118" y="1278"/>
                  </a:lnTo>
                  <a:lnTo>
                    <a:pt x="110" y="1303"/>
                  </a:lnTo>
                  <a:lnTo>
                    <a:pt x="95" y="1328"/>
                  </a:lnTo>
                  <a:lnTo>
                    <a:pt x="88" y="1355"/>
                  </a:lnTo>
                  <a:lnTo>
                    <a:pt x="79" y="1380"/>
                  </a:lnTo>
                  <a:lnTo>
                    <a:pt x="79" y="1407"/>
                  </a:lnTo>
                  <a:lnTo>
                    <a:pt x="79" y="1419"/>
                  </a:lnTo>
                  <a:lnTo>
                    <a:pt x="79" y="1436"/>
                  </a:lnTo>
                  <a:lnTo>
                    <a:pt x="88" y="1450"/>
                  </a:lnTo>
                  <a:lnTo>
                    <a:pt x="88" y="1463"/>
                  </a:lnTo>
                  <a:lnTo>
                    <a:pt x="95" y="1475"/>
                  </a:lnTo>
                  <a:lnTo>
                    <a:pt x="95" y="1493"/>
                  </a:lnTo>
                  <a:lnTo>
                    <a:pt x="110" y="1518"/>
                  </a:lnTo>
                  <a:lnTo>
                    <a:pt x="127" y="1540"/>
                  </a:lnTo>
                  <a:lnTo>
                    <a:pt x="142" y="1565"/>
                  </a:lnTo>
                  <a:lnTo>
                    <a:pt x="164" y="1587"/>
                  </a:lnTo>
                  <a:lnTo>
                    <a:pt x="190" y="1608"/>
                  </a:lnTo>
                  <a:lnTo>
                    <a:pt x="219" y="1626"/>
                  </a:lnTo>
                  <a:lnTo>
                    <a:pt x="244" y="1643"/>
                  </a:lnTo>
                  <a:lnTo>
                    <a:pt x="273" y="1656"/>
                  </a:lnTo>
                  <a:lnTo>
                    <a:pt x="314" y="1668"/>
                  </a:lnTo>
                  <a:lnTo>
                    <a:pt x="345" y="1678"/>
                  </a:lnTo>
                  <a:lnTo>
                    <a:pt x="384" y="1682"/>
                  </a:lnTo>
                  <a:lnTo>
                    <a:pt x="398" y="1686"/>
                  </a:lnTo>
                  <a:lnTo>
                    <a:pt x="422" y="1690"/>
                  </a:lnTo>
                  <a:lnTo>
                    <a:pt x="438" y="1690"/>
                  </a:lnTo>
                  <a:lnTo>
                    <a:pt x="454" y="1690"/>
                  </a:lnTo>
                  <a:lnTo>
                    <a:pt x="478" y="1690"/>
                  </a:lnTo>
                  <a:lnTo>
                    <a:pt x="499" y="1686"/>
                  </a:lnTo>
                  <a:lnTo>
                    <a:pt x="499" y="1690"/>
                  </a:lnTo>
                  <a:lnTo>
                    <a:pt x="524" y="1720"/>
                  </a:lnTo>
                  <a:lnTo>
                    <a:pt x="547" y="1746"/>
                  </a:lnTo>
                  <a:lnTo>
                    <a:pt x="580" y="1773"/>
                  </a:lnTo>
                  <a:lnTo>
                    <a:pt x="610" y="1792"/>
                  </a:lnTo>
                  <a:lnTo>
                    <a:pt x="642" y="1819"/>
                  </a:lnTo>
                  <a:lnTo>
                    <a:pt x="672" y="1841"/>
                  </a:lnTo>
                  <a:lnTo>
                    <a:pt x="713" y="1857"/>
                  </a:lnTo>
                  <a:lnTo>
                    <a:pt x="743" y="1875"/>
                  </a:lnTo>
                  <a:lnTo>
                    <a:pt x="782" y="1892"/>
                  </a:lnTo>
                  <a:lnTo>
                    <a:pt x="820" y="1905"/>
                  </a:lnTo>
                  <a:lnTo>
                    <a:pt x="868" y="1914"/>
                  </a:lnTo>
                  <a:lnTo>
                    <a:pt x="907" y="1927"/>
                  </a:lnTo>
                  <a:lnTo>
                    <a:pt x="946" y="1931"/>
                  </a:lnTo>
                  <a:lnTo>
                    <a:pt x="993" y="1940"/>
                  </a:lnTo>
                  <a:lnTo>
                    <a:pt x="1041" y="1940"/>
                  </a:lnTo>
                  <a:lnTo>
                    <a:pt x="1077" y="1943"/>
                  </a:lnTo>
                  <a:lnTo>
                    <a:pt x="1124" y="1940"/>
                  </a:lnTo>
                  <a:lnTo>
                    <a:pt x="1172" y="1940"/>
                  </a:lnTo>
                  <a:lnTo>
                    <a:pt x="1219" y="1931"/>
                  </a:lnTo>
                  <a:lnTo>
                    <a:pt x="1258" y="1927"/>
                  </a:lnTo>
                  <a:lnTo>
                    <a:pt x="1305" y="1914"/>
                  </a:lnTo>
                  <a:lnTo>
                    <a:pt x="1342" y="1900"/>
                  </a:lnTo>
                  <a:lnTo>
                    <a:pt x="1382" y="1887"/>
                  </a:lnTo>
                  <a:lnTo>
                    <a:pt x="1430" y="1871"/>
                  </a:lnTo>
                  <a:lnTo>
                    <a:pt x="1422" y="1871"/>
                  </a:lnTo>
                  <a:lnTo>
                    <a:pt x="1443" y="1892"/>
                  </a:lnTo>
                  <a:lnTo>
                    <a:pt x="1469" y="1914"/>
                  </a:lnTo>
                  <a:lnTo>
                    <a:pt x="1493" y="1935"/>
                  </a:lnTo>
                  <a:lnTo>
                    <a:pt x="1522" y="1952"/>
                  </a:lnTo>
                  <a:lnTo>
                    <a:pt x="1547" y="1971"/>
                  </a:lnTo>
                  <a:lnTo>
                    <a:pt x="1576" y="1988"/>
                  </a:lnTo>
                  <a:lnTo>
                    <a:pt x="1601" y="2000"/>
                  </a:lnTo>
                  <a:lnTo>
                    <a:pt x="1633" y="2012"/>
                  </a:lnTo>
                  <a:lnTo>
                    <a:pt x="1669" y="2025"/>
                  </a:lnTo>
                  <a:lnTo>
                    <a:pt x="1702" y="2038"/>
                  </a:lnTo>
                  <a:lnTo>
                    <a:pt x="1734" y="2046"/>
                  </a:lnTo>
                  <a:lnTo>
                    <a:pt x="1773" y="2051"/>
                  </a:lnTo>
                  <a:lnTo>
                    <a:pt x="1803" y="2060"/>
                  </a:lnTo>
                  <a:lnTo>
                    <a:pt x="1835" y="2065"/>
                  </a:lnTo>
                  <a:lnTo>
                    <a:pt x="1874" y="2065"/>
                  </a:lnTo>
                  <a:lnTo>
                    <a:pt x="1913" y="2065"/>
                  </a:lnTo>
                  <a:lnTo>
                    <a:pt x="1937" y="2065"/>
                  </a:lnTo>
                  <a:lnTo>
                    <a:pt x="1960" y="2065"/>
                  </a:lnTo>
                  <a:lnTo>
                    <a:pt x="1984" y="2065"/>
                  </a:lnTo>
                  <a:lnTo>
                    <a:pt x="2005" y="2060"/>
                  </a:lnTo>
                  <a:lnTo>
                    <a:pt x="2029" y="2056"/>
                  </a:lnTo>
                  <a:lnTo>
                    <a:pt x="2055" y="2056"/>
                  </a:lnTo>
                  <a:lnTo>
                    <a:pt x="2100" y="2043"/>
                  </a:lnTo>
                  <a:lnTo>
                    <a:pt x="2139" y="2029"/>
                  </a:lnTo>
                  <a:lnTo>
                    <a:pt x="2186" y="2017"/>
                  </a:lnTo>
                  <a:lnTo>
                    <a:pt x="2226" y="2000"/>
                  </a:lnTo>
                  <a:lnTo>
                    <a:pt x="2264" y="1978"/>
                  </a:lnTo>
                  <a:lnTo>
                    <a:pt x="2294" y="1957"/>
                  </a:lnTo>
                  <a:lnTo>
                    <a:pt x="2326" y="1935"/>
                  </a:lnTo>
                  <a:lnTo>
                    <a:pt x="2357" y="1910"/>
                  </a:lnTo>
                  <a:lnTo>
                    <a:pt x="2389" y="1880"/>
                  </a:lnTo>
                  <a:lnTo>
                    <a:pt x="2413" y="1849"/>
                  </a:lnTo>
                  <a:lnTo>
                    <a:pt x="2436" y="1819"/>
                  </a:lnTo>
                  <a:lnTo>
                    <a:pt x="2458" y="1789"/>
                  </a:lnTo>
                  <a:lnTo>
                    <a:pt x="2466" y="1773"/>
                  </a:lnTo>
                  <a:lnTo>
                    <a:pt x="2475" y="1755"/>
                  </a:lnTo>
                  <a:lnTo>
                    <a:pt x="2475" y="1755"/>
                  </a:lnTo>
                  <a:lnTo>
                    <a:pt x="2507" y="1767"/>
                  </a:lnTo>
                  <a:lnTo>
                    <a:pt x="2538" y="1780"/>
                  </a:lnTo>
                  <a:lnTo>
                    <a:pt x="2567" y="1789"/>
                  </a:lnTo>
                  <a:lnTo>
                    <a:pt x="2600" y="1797"/>
                  </a:lnTo>
                  <a:lnTo>
                    <a:pt x="2630" y="1807"/>
                  </a:lnTo>
                  <a:lnTo>
                    <a:pt x="2671" y="1810"/>
                  </a:lnTo>
                  <a:lnTo>
                    <a:pt x="2701" y="1814"/>
                  </a:lnTo>
                  <a:lnTo>
                    <a:pt x="2740" y="1814"/>
                  </a:lnTo>
                  <a:lnTo>
                    <a:pt x="2764" y="1814"/>
                  </a:lnTo>
                  <a:lnTo>
                    <a:pt x="2788" y="1810"/>
                  </a:lnTo>
                  <a:lnTo>
                    <a:pt x="2811" y="1810"/>
                  </a:lnTo>
                  <a:lnTo>
                    <a:pt x="2843" y="1807"/>
                  </a:lnTo>
                  <a:lnTo>
                    <a:pt x="2865" y="1802"/>
                  </a:lnTo>
                  <a:lnTo>
                    <a:pt x="2888" y="1797"/>
                  </a:lnTo>
                  <a:lnTo>
                    <a:pt x="2912" y="1789"/>
                  </a:lnTo>
                  <a:lnTo>
                    <a:pt x="2936" y="1786"/>
                  </a:lnTo>
                  <a:lnTo>
                    <a:pt x="2951" y="1776"/>
                  </a:lnTo>
                  <a:lnTo>
                    <a:pt x="2975" y="1767"/>
                  </a:lnTo>
                  <a:lnTo>
                    <a:pt x="2998" y="1758"/>
                  </a:lnTo>
                  <a:lnTo>
                    <a:pt x="3020" y="1751"/>
                  </a:lnTo>
                  <a:lnTo>
                    <a:pt x="3037" y="1742"/>
                  </a:lnTo>
                  <a:lnTo>
                    <a:pt x="3052" y="1729"/>
                  </a:lnTo>
                  <a:lnTo>
                    <a:pt x="3091" y="1702"/>
                  </a:lnTo>
                  <a:lnTo>
                    <a:pt x="3123" y="1678"/>
                  </a:lnTo>
                  <a:lnTo>
                    <a:pt x="3138" y="1665"/>
                  </a:lnTo>
                  <a:lnTo>
                    <a:pt x="3154" y="1651"/>
                  </a:lnTo>
                  <a:lnTo>
                    <a:pt x="3170" y="1634"/>
                  </a:lnTo>
                  <a:lnTo>
                    <a:pt x="3177" y="1617"/>
                  </a:lnTo>
                  <a:lnTo>
                    <a:pt x="3192" y="1604"/>
                  </a:lnTo>
                  <a:lnTo>
                    <a:pt x="3201" y="1587"/>
                  </a:lnTo>
                  <a:lnTo>
                    <a:pt x="3208" y="1570"/>
                  </a:lnTo>
                  <a:lnTo>
                    <a:pt x="3216" y="1552"/>
                  </a:lnTo>
                  <a:lnTo>
                    <a:pt x="3224" y="1536"/>
                  </a:lnTo>
                  <a:lnTo>
                    <a:pt x="3233" y="1514"/>
                  </a:lnTo>
                  <a:lnTo>
                    <a:pt x="3233" y="1497"/>
                  </a:lnTo>
                  <a:lnTo>
                    <a:pt x="3240" y="1479"/>
                  </a:lnTo>
                  <a:lnTo>
                    <a:pt x="3240" y="1463"/>
                  </a:lnTo>
                  <a:lnTo>
                    <a:pt x="3240" y="1441"/>
                  </a:lnTo>
                  <a:lnTo>
                    <a:pt x="3240" y="1441"/>
                  </a:lnTo>
                  <a:lnTo>
                    <a:pt x="3263" y="1436"/>
                  </a:lnTo>
                  <a:lnTo>
                    <a:pt x="3296" y="1432"/>
                  </a:lnTo>
                  <a:lnTo>
                    <a:pt x="3317" y="1428"/>
                  </a:lnTo>
                  <a:lnTo>
                    <a:pt x="3341" y="1419"/>
                  </a:lnTo>
                  <a:lnTo>
                    <a:pt x="3371" y="1415"/>
                  </a:lnTo>
                  <a:lnTo>
                    <a:pt x="3396" y="1407"/>
                  </a:lnTo>
                  <a:lnTo>
                    <a:pt x="3418" y="1397"/>
                  </a:lnTo>
                  <a:lnTo>
                    <a:pt x="3443" y="1389"/>
                  </a:lnTo>
                  <a:lnTo>
                    <a:pt x="3466" y="1380"/>
                  </a:lnTo>
                  <a:lnTo>
                    <a:pt x="3481" y="1367"/>
                  </a:lnTo>
                  <a:lnTo>
                    <a:pt x="3504" y="1359"/>
                  </a:lnTo>
                  <a:lnTo>
                    <a:pt x="3529" y="1346"/>
                  </a:lnTo>
                  <a:lnTo>
                    <a:pt x="3567" y="1321"/>
                  </a:lnTo>
                  <a:lnTo>
                    <a:pt x="3599" y="1290"/>
                  </a:lnTo>
                  <a:lnTo>
                    <a:pt x="3615" y="1278"/>
                  </a:lnTo>
                  <a:lnTo>
                    <a:pt x="3630" y="1259"/>
                  </a:lnTo>
                  <a:lnTo>
                    <a:pt x="3644" y="1248"/>
                  </a:lnTo>
                  <a:lnTo>
                    <a:pt x="3662" y="1230"/>
                  </a:lnTo>
                  <a:lnTo>
                    <a:pt x="3677" y="1214"/>
                  </a:lnTo>
                  <a:lnTo>
                    <a:pt x="3685" y="1195"/>
                  </a:lnTo>
                  <a:lnTo>
                    <a:pt x="3692" y="1178"/>
                  </a:lnTo>
                  <a:lnTo>
                    <a:pt x="3707" y="1161"/>
                  </a:lnTo>
                  <a:lnTo>
                    <a:pt x="3716" y="1140"/>
                  </a:lnTo>
                  <a:lnTo>
                    <a:pt x="3725" y="1123"/>
                  </a:lnTo>
                  <a:lnTo>
                    <a:pt x="3730" y="1106"/>
                  </a:lnTo>
                  <a:lnTo>
                    <a:pt x="3730" y="1084"/>
                  </a:lnTo>
                  <a:lnTo>
                    <a:pt x="3739" y="1063"/>
                  </a:lnTo>
                  <a:lnTo>
                    <a:pt x="3739" y="1045"/>
                  </a:lnTo>
                  <a:lnTo>
                    <a:pt x="3739" y="1023"/>
                  </a:lnTo>
                  <a:lnTo>
                    <a:pt x="3748" y="1002"/>
                  </a:lnTo>
                  <a:lnTo>
                    <a:pt x="3739" y="984"/>
                  </a:lnTo>
                  <a:lnTo>
                    <a:pt x="3739" y="968"/>
                  </a:lnTo>
                  <a:lnTo>
                    <a:pt x="3739" y="949"/>
                  </a:lnTo>
                  <a:lnTo>
                    <a:pt x="3730" y="933"/>
                  </a:lnTo>
                  <a:lnTo>
                    <a:pt x="3730" y="912"/>
                  </a:lnTo>
                  <a:lnTo>
                    <a:pt x="3725" y="894"/>
                  </a:lnTo>
                  <a:lnTo>
                    <a:pt x="3716" y="877"/>
                  </a:lnTo>
                  <a:lnTo>
                    <a:pt x="3716" y="860"/>
                  </a:lnTo>
                  <a:lnTo>
                    <a:pt x="3707" y="843"/>
                  </a:lnTo>
                  <a:lnTo>
                    <a:pt x="3692" y="826"/>
                  </a:lnTo>
                  <a:lnTo>
                    <a:pt x="3685" y="814"/>
                  </a:lnTo>
                  <a:lnTo>
                    <a:pt x="3677" y="795"/>
                  </a:lnTo>
                  <a:lnTo>
                    <a:pt x="3662" y="778"/>
                  </a:lnTo>
                  <a:lnTo>
                    <a:pt x="3644" y="766"/>
                  </a:lnTo>
                  <a:lnTo>
                    <a:pt x="3623" y="735"/>
                  </a:lnTo>
                  <a:lnTo>
                    <a:pt x="3623" y="735"/>
                  </a:lnTo>
                  <a:lnTo>
                    <a:pt x="3630" y="718"/>
                  </a:lnTo>
                  <a:lnTo>
                    <a:pt x="3636" y="701"/>
                  </a:lnTo>
                  <a:lnTo>
                    <a:pt x="3644" y="683"/>
                  </a:lnTo>
                  <a:lnTo>
                    <a:pt x="3644" y="667"/>
                  </a:lnTo>
                  <a:lnTo>
                    <a:pt x="3653" y="649"/>
                  </a:lnTo>
                  <a:lnTo>
                    <a:pt x="3653" y="633"/>
                  </a:lnTo>
                  <a:lnTo>
                    <a:pt x="3653" y="615"/>
                  </a:lnTo>
                  <a:lnTo>
                    <a:pt x="3662" y="599"/>
                  </a:lnTo>
                  <a:lnTo>
                    <a:pt x="3653" y="568"/>
                  </a:lnTo>
                  <a:lnTo>
                    <a:pt x="3653" y="542"/>
                  </a:lnTo>
                  <a:lnTo>
                    <a:pt x="3644" y="511"/>
                  </a:lnTo>
                  <a:lnTo>
                    <a:pt x="3630" y="485"/>
                  </a:lnTo>
                  <a:lnTo>
                    <a:pt x="3623" y="460"/>
                  </a:lnTo>
                  <a:lnTo>
                    <a:pt x="3606" y="434"/>
                  </a:lnTo>
                  <a:lnTo>
                    <a:pt x="3583" y="408"/>
                  </a:lnTo>
                  <a:lnTo>
                    <a:pt x="3561" y="387"/>
                  </a:lnTo>
                  <a:lnTo>
                    <a:pt x="3535" y="366"/>
                  </a:lnTo>
                  <a:lnTo>
                    <a:pt x="3513" y="344"/>
                  </a:lnTo>
                  <a:lnTo>
                    <a:pt x="3490" y="327"/>
                  </a:lnTo>
                  <a:lnTo>
                    <a:pt x="3459" y="310"/>
                  </a:lnTo>
                  <a:lnTo>
                    <a:pt x="3427" y="297"/>
                  </a:lnTo>
                  <a:lnTo>
                    <a:pt x="3389" y="283"/>
                  </a:lnTo>
                  <a:lnTo>
                    <a:pt x="3356" y="271"/>
                  </a:lnTo>
                  <a:lnTo>
                    <a:pt x="3317" y="262"/>
                  </a:lnTo>
                  <a:lnTo>
                    <a:pt x="3317" y="262"/>
                  </a:lnTo>
                  <a:lnTo>
                    <a:pt x="3308" y="233"/>
                  </a:lnTo>
                  <a:lnTo>
                    <a:pt x="3303" y="206"/>
                  </a:lnTo>
                  <a:lnTo>
                    <a:pt x="3287" y="181"/>
                  </a:lnTo>
                  <a:lnTo>
                    <a:pt x="3270" y="159"/>
                  </a:lnTo>
                  <a:lnTo>
                    <a:pt x="3246" y="133"/>
                  </a:lnTo>
                  <a:lnTo>
                    <a:pt x="3224" y="112"/>
                  </a:lnTo>
                  <a:lnTo>
                    <a:pt x="3201" y="95"/>
                  </a:lnTo>
                  <a:lnTo>
                    <a:pt x="3177" y="77"/>
                  </a:lnTo>
                  <a:lnTo>
                    <a:pt x="3145" y="61"/>
                  </a:lnTo>
                  <a:lnTo>
                    <a:pt x="3115" y="43"/>
                  </a:lnTo>
                  <a:lnTo>
                    <a:pt x="3082" y="30"/>
                  </a:lnTo>
                  <a:lnTo>
                    <a:pt x="3052" y="21"/>
                  </a:lnTo>
                  <a:lnTo>
                    <a:pt x="3014" y="13"/>
                  </a:lnTo>
                  <a:lnTo>
                    <a:pt x="2981" y="9"/>
                  </a:lnTo>
                  <a:lnTo>
                    <a:pt x="2942" y="4"/>
                  </a:lnTo>
                  <a:lnTo>
                    <a:pt x="2906" y="0"/>
                  </a:lnTo>
                  <a:lnTo>
                    <a:pt x="2880" y="4"/>
                  </a:lnTo>
                  <a:lnTo>
                    <a:pt x="2856" y="4"/>
                  </a:lnTo>
                  <a:lnTo>
                    <a:pt x="2834" y="4"/>
                  </a:lnTo>
                  <a:lnTo>
                    <a:pt x="2811" y="9"/>
                  </a:lnTo>
                  <a:lnTo>
                    <a:pt x="2788" y="13"/>
                  </a:lnTo>
                  <a:lnTo>
                    <a:pt x="2772" y="18"/>
                  </a:lnTo>
                  <a:lnTo>
                    <a:pt x="2748" y="26"/>
                  </a:lnTo>
                  <a:lnTo>
                    <a:pt x="2725" y="30"/>
                  </a:lnTo>
                  <a:lnTo>
                    <a:pt x="2710" y="40"/>
                  </a:lnTo>
                  <a:lnTo>
                    <a:pt x="2684" y="47"/>
                  </a:lnTo>
                  <a:lnTo>
                    <a:pt x="2671" y="56"/>
                  </a:lnTo>
                  <a:lnTo>
                    <a:pt x="2647" y="64"/>
                  </a:lnTo>
                  <a:lnTo>
                    <a:pt x="2630" y="77"/>
                  </a:lnTo>
                  <a:lnTo>
                    <a:pt x="2615" y="90"/>
                  </a:lnTo>
                  <a:lnTo>
                    <a:pt x="2600" y="98"/>
                  </a:lnTo>
                  <a:lnTo>
                    <a:pt x="2585" y="112"/>
                  </a:lnTo>
                  <a:lnTo>
                    <a:pt x="2585" y="112"/>
                  </a:lnTo>
                  <a:lnTo>
                    <a:pt x="2567" y="98"/>
                  </a:lnTo>
                  <a:lnTo>
                    <a:pt x="2553" y="90"/>
                  </a:lnTo>
                  <a:lnTo>
                    <a:pt x="2538" y="77"/>
                  </a:lnTo>
                  <a:lnTo>
                    <a:pt x="2520" y="64"/>
                  </a:lnTo>
                  <a:lnTo>
                    <a:pt x="2507" y="56"/>
                  </a:lnTo>
                  <a:lnTo>
                    <a:pt x="2490" y="47"/>
                  </a:lnTo>
                  <a:lnTo>
                    <a:pt x="2466" y="40"/>
                  </a:lnTo>
                  <a:lnTo>
                    <a:pt x="2452" y="30"/>
                  </a:lnTo>
                  <a:lnTo>
                    <a:pt x="2427" y="26"/>
                  </a:lnTo>
                  <a:lnTo>
                    <a:pt x="2413" y="18"/>
                  </a:lnTo>
                  <a:lnTo>
                    <a:pt x="2389" y="13"/>
                  </a:lnTo>
                  <a:lnTo>
                    <a:pt x="2366" y="9"/>
                  </a:lnTo>
                  <a:lnTo>
                    <a:pt x="2350" y="4"/>
                  </a:lnTo>
                  <a:lnTo>
                    <a:pt x="2326" y="4"/>
                  </a:lnTo>
                  <a:lnTo>
                    <a:pt x="2303" y="4"/>
                  </a:lnTo>
                  <a:lnTo>
                    <a:pt x="2281" y="0"/>
                  </a:lnTo>
                  <a:lnTo>
                    <a:pt x="2255" y="4"/>
                  </a:lnTo>
                  <a:lnTo>
                    <a:pt x="2226" y="4"/>
                  </a:lnTo>
                  <a:lnTo>
                    <a:pt x="2201" y="9"/>
                  </a:lnTo>
                  <a:lnTo>
                    <a:pt x="2178" y="13"/>
                  </a:lnTo>
                  <a:lnTo>
                    <a:pt x="2156" y="21"/>
                  </a:lnTo>
                  <a:lnTo>
                    <a:pt x="2131" y="26"/>
                  </a:lnTo>
                  <a:lnTo>
                    <a:pt x="2109" y="34"/>
                  </a:lnTo>
                  <a:lnTo>
                    <a:pt x="2085" y="43"/>
                  </a:lnTo>
                  <a:lnTo>
                    <a:pt x="2061" y="56"/>
                  </a:lnTo>
                  <a:lnTo>
                    <a:pt x="2038" y="68"/>
                  </a:lnTo>
                  <a:lnTo>
                    <a:pt x="2023" y="82"/>
                  </a:lnTo>
                  <a:lnTo>
                    <a:pt x="2005" y="95"/>
                  </a:lnTo>
                  <a:lnTo>
                    <a:pt x="1984" y="108"/>
                  </a:lnTo>
                  <a:lnTo>
                    <a:pt x="1967" y="125"/>
                  </a:lnTo>
                  <a:lnTo>
                    <a:pt x="1951" y="142"/>
                  </a:lnTo>
                  <a:lnTo>
                    <a:pt x="1945" y="159"/>
                  </a:lnTo>
                  <a:lnTo>
                    <a:pt x="1945" y="164"/>
                  </a:lnTo>
                  <a:lnTo>
                    <a:pt x="1913" y="142"/>
                  </a:lnTo>
                  <a:lnTo>
                    <a:pt x="1897" y="133"/>
                  </a:lnTo>
                  <a:lnTo>
                    <a:pt x="1874" y="120"/>
                  </a:lnTo>
                  <a:lnTo>
                    <a:pt x="1859" y="112"/>
                  </a:lnTo>
                  <a:lnTo>
                    <a:pt x="1835" y="104"/>
                  </a:lnTo>
                  <a:lnTo>
                    <a:pt x="1820" y="98"/>
                  </a:lnTo>
                  <a:lnTo>
                    <a:pt x="1797" y="90"/>
                  </a:lnTo>
                  <a:lnTo>
                    <a:pt x="1773" y="86"/>
                  </a:lnTo>
                  <a:lnTo>
                    <a:pt x="1757" y="77"/>
                  </a:lnTo>
                  <a:lnTo>
                    <a:pt x="1734" y="74"/>
                  </a:lnTo>
                  <a:lnTo>
                    <a:pt x="1710" y="68"/>
                  </a:lnTo>
                  <a:lnTo>
                    <a:pt x="1687" y="68"/>
                  </a:lnTo>
                  <a:lnTo>
                    <a:pt x="1665" y="64"/>
                  </a:lnTo>
                  <a:lnTo>
                    <a:pt x="1639" y="64"/>
                  </a:lnTo>
                  <a:lnTo>
                    <a:pt x="1624" y="64"/>
                  </a:lnTo>
                  <a:lnTo>
                    <a:pt x="1585" y="64"/>
                  </a:lnTo>
                  <a:lnTo>
                    <a:pt x="1555" y="68"/>
                  </a:lnTo>
                  <a:lnTo>
                    <a:pt x="1522" y="74"/>
                  </a:lnTo>
                  <a:lnTo>
                    <a:pt x="1499" y="77"/>
                  </a:lnTo>
                  <a:lnTo>
                    <a:pt x="1469" y="86"/>
                  </a:lnTo>
                  <a:lnTo>
                    <a:pt x="1436" y="90"/>
                  </a:lnTo>
                  <a:lnTo>
                    <a:pt x="1407" y="104"/>
                  </a:lnTo>
                  <a:lnTo>
                    <a:pt x="1382" y="112"/>
                  </a:lnTo>
                  <a:lnTo>
                    <a:pt x="1359" y="125"/>
                  </a:lnTo>
                  <a:lnTo>
                    <a:pt x="1329" y="142"/>
                  </a:lnTo>
                  <a:lnTo>
                    <a:pt x="1305" y="154"/>
                  </a:lnTo>
                  <a:lnTo>
                    <a:pt x="1289" y="172"/>
                  </a:lnTo>
                  <a:lnTo>
                    <a:pt x="1267" y="189"/>
                  </a:lnTo>
                  <a:lnTo>
                    <a:pt x="1242" y="206"/>
                  </a:lnTo>
                  <a:lnTo>
                    <a:pt x="1226" y="228"/>
                  </a:lnTo>
                  <a:lnTo>
                    <a:pt x="1210" y="249"/>
                  </a:lnTo>
                  <a:lnTo>
                    <a:pt x="1210" y="249"/>
                  </a:lnTo>
                  <a:lnTo>
                    <a:pt x="1178" y="237"/>
                  </a:lnTo>
                  <a:lnTo>
                    <a:pt x="1142" y="223"/>
                  </a:lnTo>
                  <a:lnTo>
                    <a:pt x="1102" y="215"/>
                  </a:lnTo>
                  <a:lnTo>
                    <a:pt x="1070" y="206"/>
                  </a:lnTo>
                  <a:lnTo>
                    <a:pt x="1032" y="198"/>
                  </a:lnTo>
                  <a:lnTo>
                    <a:pt x="993" y="194"/>
                  </a:lnTo>
                  <a:lnTo>
                    <a:pt x="952" y="189"/>
                  </a:lnTo>
                  <a:lnTo>
                    <a:pt x="914" y="189"/>
                  </a:lnTo>
                  <a:lnTo>
                    <a:pt x="883" y="189"/>
                  </a:lnTo>
                  <a:lnTo>
                    <a:pt x="851" y="194"/>
                  </a:lnTo>
                  <a:lnTo>
                    <a:pt x="827" y="198"/>
                  </a:lnTo>
                  <a:lnTo>
                    <a:pt x="797" y="198"/>
                  </a:lnTo>
                  <a:lnTo>
                    <a:pt x="767" y="206"/>
                  </a:lnTo>
                  <a:lnTo>
                    <a:pt x="743" y="211"/>
                  </a:lnTo>
                  <a:lnTo>
                    <a:pt x="713" y="215"/>
                  </a:lnTo>
                  <a:lnTo>
                    <a:pt x="687" y="223"/>
                  </a:lnTo>
                  <a:lnTo>
                    <a:pt x="664" y="233"/>
                  </a:lnTo>
                  <a:lnTo>
                    <a:pt x="633" y="245"/>
                  </a:lnTo>
                  <a:lnTo>
                    <a:pt x="610" y="254"/>
                  </a:lnTo>
                  <a:lnTo>
                    <a:pt x="585" y="267"/>
                  </a:lnTo>
                  <a:lnTo>
                    <a:pt x="562" y="279"/>
                  </a:lnTo>
                  <a:lnTo>
                    <a:pt x="540" y="293"/>
                  </a:lnTo>
                  <a:lnTo>
                    <a:pt x="524" y="305"/>
                  </a:lnTo>
                  <a:lnTo>
                    <a:pt x="499" y="319"/>
                  </a:lnTo>
                  <a:lnTo>
                    <a:pt x="478" y="335"/>
                  </a:lnTo>
                  <a:lnTo>
                    <a:pt x="461" y="349"/>
                  </a:lnTo>
                  <a:lnTo>
                    <a:pt x="445" y="366"/>
                  </a:lnTo>
                  <a:lnTo>
                    <a:pt x="431" y="384"/>
                  </a:lnTo>
                  <a:lnTo>
                    <a:pt x="416" y="403"/>
                  </a:lnTo>
                  <a:lnTo>
                    <a:pt x="398" y="421"/>
                  </a:lnTo>
                  <a:lnTo>
                    <a:pt x="384" y="439"/>
                  </a:lnTo>
                  <a:lnTo>
                    <a:pt x="377" y="460"/>
                  </a:lnTo>
                  <a:lnTo>
                    <a:pt x="368" y="477"/>
                  </a:lnTo>
                  <a:lnTo>
                    <a:pt x="353" y="498"/>
                  </a:lnTo>
                  <a:lnTo>
                    <a:pt x="345" y="520"/>
                  </a:lnTo>
                  <a:lnTo>
                    <a:pt x="345" y="542"/>
                  </a:lnTo>
                  <a:lnTo>
                    <a:pt x="336" y="563"/>
                  </a:lnTo>
                  <a:lnTo>
                    <a:pt x="327" y="584"/>
                  </a:lnTo>
                  <a:lnTo>
                    <a:pt x="327" y="606"/>
                  </a:lnTo>
                  <a:lnTo>
                    <a:pt x="327" y="628"/>
                  </a:lnTo>
                  <a:lnTo>
                    <a:pt x="327" y="658"/>
                  </a:lnTo>
                  <a:lnTo>
                    <a:pt x="336" y="68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161200" y="4499280"/>
              <a:ext cx="13496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180000" anchor="ctr" anchorCtr="1">
              <a:spAutoFit/>
            </a:bodyPr>
            <a:p>
              <a:pPr algn="ctr">
                <a:lnSpc>
                  <a:spcPts val="305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GR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693000" y="6083280"/>
            <a:ext cx="2168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7120" indent="-183960">
              <a:lnSpc>
                <a:spcPts val="2324"/>
              </a:lnSpc>
              <a:buClr>
                <a:srgbClr val="3366cc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 Narrow"/>
              </a:rPr>
              <a:t>Candidate ra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35640" y="6853320"/>
            <a:ext cx="1440" cy="287280"/>
          </a:xfrm>
          <a:prstGeom prst="line">
            <a:avLst/>
          </a:prstGeom>
          <a:ln w="2844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527280" y="2771640"/>
            <a:ext cx="2016360" cy="4116600"/>
          </a:xfrm>
          <a:custGeom>
            <a:avLst/>
            <a:gdLst>
              <a:gd name="textAreaLeft" fmla="*/ 89280 w 2016360"/>
              <a:gd name="textAreaRight" fmla="*/ 1927080 w 2016360"/>
              <a:gd name="textAreaTop" fmla="*/ 89280 h 4116600"/>
              <a:gd name="textAreaBottom" fmla="*/ 4027320 h 4116600"/>
            </a:gdLst>
            <a:ahLst/>
            <a:rect l="textAreaLeft" t="textAreaTop" r="textAreaRight" b="textAreaBottom"/>
            <a:pathLst>
              <a:path w="21600" h="44095">
                <a:moveTo>
                  <a:pt x="3265" y="0"/>
                </a:moveTo>
                <a:arcTo wR="3265" hR="3265" stAng="16200000" swAng="-5400000"/>
                <a:lnTo>
                  <a:pt x="0" y="40830"/>
                </a:lnTo>
                <a:arcTo wR="3265" hR="3265" stAng="10800000" swAng="-5400000"/>
                <a:lnTo>
                  <a:pt x="18335" y="44095"/>
                </a:lnTo>
                <a:arcTo wR="3265" hR="3265" stAng="5400000" swAng="-5400000"/>
                <a:lnTo>
                  <a:pt x="21600" y="3265"/>
                </a:lnTo>
                <a:arcTo wR="3265" hR="3265" stAng="0" swAng="-5400000"/>
                <a:close/>
              </a:path>
            </a:pathLst>
          </a:custGeom>
          <a:noFill/>
          <a:ln w="25560">
            <a:solidFill>
              <a:srgbClr val="f078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11520" y="1932120"/>
            <a:ext cx="335160" cy="755640"/>
          </a:xfrm>
          <a:prstGeom prst="line">
            <a:avLst/>
          </a:prstGeom>
          <a:ln w="38160">
            <a:solidFill>
              <a:srgbClr val="f078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60600" y="1165320"/>
            <a:ext cx="252720" cy="671400"/>
          </a:xfrm>
          <a:custGeom>
            <a:avLst/>
            <a:gdLst>
              <a:gd name="textAreaLeft" fmla="*/ 11160 w 252720"/>
              <a:gd name="textAreaRight" fmla="*/ 241560 w 252720"/>
              <a:gd name="textAreaTop" fmla="*/ 11160 h 671400"/>
              <a:gd name="textAreaBottom" fmla="*/ 660240 h 671400"/>
            </a:gdLst>
            <a:ahLst/>
            <a:rect l="textAreaLeft" t="textAreaTop" r="textAreaRight" b="textAreaBottom"/>
            <a:pathLst>
              <a:path w="21600" h="57334">
                <a:moveTo>
                  <a:pt x="3281" y="0"/>
                </a:moveTo>
                <a:arcTo wR="3281" hR="3281" stAng="16200000" swAng="-5400000"/>
                <a:lnTo>
                  <a:pt x="0" y="54053"/>
                </a:lnTo>
                <a:arcTo wR="3281" hR="3281" stAng="10800000" swAng="-5400000"/>
                <a:lnTo>
                  <a:pt x="18319" y="57334"/>
                </a:lnTo>
                <a:arcTo wR="3281" hR="3281" stAng="5400000" swAng="-5400000"/>
                <a:lnTo>
                  <a:pt x="21600" y="3281"/>
                </a:lnTo>
                <a:arcTo wR="3281" hR="3281" stAng="0" swAng="-5400000"/>
                <a:close/>
              </a:path>
            </a:pathLst>
          </a:custGeom>
          <a:noFill/>
          <a:ln w="25560">
            <a:solidFill>
              <a:srgbClr val="f078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385" idx="1"/>
            <a:endCxn id="374" idx="1"/>
          </p:cNvCxnSpPr>
          <p:nvPr/>
        </p:nvCxnSpPr>
        <p:spPr>
          <a:xfrm flipH="1" flipV="1">
            <a:off x="7724160" y="3801600"/>
            <a:ext cx="1112040" cy="62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76" idx="1"/>
            <a:endCxn id="374" idx="2"/>
          </p:cNvCxnSpPr>
          <p:nvPr/>
        </p:nvCxnSpPr>
        <p:spPr>
          <a:xfrm flipV="1">
            <a:off x="6692400" y="3801600"/>
            <a:ext cx="1033920" cy="4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077480" cy="757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id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y: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source Discovery and Selection (II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52280" y="946080"/>
            <a:ext cx="9720360" cy="5827680"/>
          </a:xfrm>
          <a:prstGeom prst="roundRect">
            <a:avLst>
              <a:gd name="adj" fmla="val 6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3200" y="1084320"/>
            <a:ext cx="928692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Job execution in three steps by the following modu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6800"/>
                </a:solidFill>
                <a:latin typeface="Arial"/>
                <a:ea typeface="HG Mincho Light J"/>
              </a:rPr>
              <a:t>Prol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, which prepares the remote system and stages the input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6800"/>
                </a:solidFill>
                <a:latin typeface="Arial"/>
                <a:ea typeface="HG Mincho Light J"/>
              </a:rPr>
              <a:t>Wrapp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, which executes the actual job and obtains its exit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6800"/>
                </a:solidFill>
                <a:latin typeface="Arial"/>
                <a:ea typeface="HG Mincho Light J"/>
              </a:rPr>
              <a:t>Epil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, which stages the output files and cleans up the remot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Transfer strategie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Use of the </a:t>
            </a:r>
            <a:r>
              <a:rPr b="1" lang="en-GB" sz="1800" spc="-1" strike="noStrike">
                <a:solidFill>
                  <a:srgbClr val="ff6800"/>
                </a:solidFill>
                <a:latin typeface="Arial"/>
              </a:rPr>
              <a:t>fork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ff6800"/>
                </a:solidFill>
                <a:latin typeface="Arial"/>
              </a:rPr>
              <a:t>jobmanager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6800"/>
                </a:solidFill>
                <a:latin typeface="Arial"/>
              </a:rPr>
              <a:t>reverse server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el (file server is started on the submission clien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800"/>
                </a:solidFill>
                <a:latin typeface="Arial"/>
                <a:ea typeface="HG Mincho Light J"/>
              </a:rPr>
              <a:t>Dire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 transfers (files stored in the client or in a remote server) </a:t>
            </a:r>
            <a:r>
              <a:rPr b="1" lang="en-GB" sz="1800" spc="-1" strike="noStrike">
                <a:solidFill>
                  <a:srgbClr val="ff68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Use of </a:t>
            </a:r>
            <a:r>
              <a:rPr b="1" lang="en-GB" sz="1800" spc="-1" strike="noStrike">
                <a:solidFill>
                  <a:srgbClr val="ff6800"/>
                </a:solidFill>
                <a:latin typeface="Arial"/>
                <a:ea typeface="HG Mincho Light J"/>
              </a:rPr>
              <a:t>GASS-cach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 (critical for parameter sweep applications) </a:t>
            </a:r>
            <a:r>
              <a:rPr b="1" lang="en-GB" sz="1800" spc="-1" strike="noStrike">
                <a:solidFill>
                  <a:srgbClr val="ff68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Data </a:t>
            </a:r>
            <a:r>
              <a:rPr b="1" lang="en-GB" sz="1800" spc="-1" strike="noStrike">
                <a:solidFill>
                  <a:srgbClr val="ff6800"/>
                </a:solidFill>
                <a:latin typeface="Arial"/>
                <a:ea typeface="HG Mincho Light J"/>
              </a:rPr>
              <a:t>compression</a:t>
            </a:r>
            <a:r>
              <a:rPr b="1" lang="en-GB" sz="1800" spc="-1" strike="noStrike">
                <a:solidFill>
                  <a:srgbClr val="f07800"/>
                </a:solidFill>
                <a:latin typeface="Arial"/>
                <a:ea typeface="HG Mincho Light J"/>
              </a:rPr>
              <a:t> </a:t>
            </a:r>
            <a:r>
              <a:rPr b="1" lang="en-GB" sz="1800" spc="-1" strike="noStrike">
                <a:solidFill>
                  <a:srgbClr val="ff68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800"/>
                </a:solidFill>
                <a:latin typeface="Arial"/>
                <a:ea typeface="HG Mincho Light J"/>
              </a:rPr>
              <a:t>Replic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 management (selection and dissemination) and </a:t>
            </a:r>
            <a:r>
              <a:rPr b="1" lang="en-GB" sz="1800" spc="-1" strike="noStrike">
                <a:solidFill>
                  <a:srgbClr val="ff6800"/>
                </a:solidFill>
                <a:latin typeface="Arial"/>
                <a:ea typeface="HG Mincho Light J"/>
              </a:rPr>
              <a:t>3</a:t>
            </a:r>
            <a:r>
              <a:rPr b="1" lang="en-GB" sz="1800" spc="-1" strike="noStrike" baseline="33000">
                <a:solidFill>
                  <a:srgbClr val="ff6800"/>
                </a:solidFill>
                <a:latin typeface="Arial"/>
                <a:ea typeface="HG Mincho Light J"/>
              </a:rPr>
              <a:t>rd</a:t>
            </a:r>
            <a:r>
              <a:rPr b="1" lang="en-GB" sz="1800" spc="-1" strike="noStrike">
                <a:solidFill>
                  <a:srgbClr val="ff6800"/>
                </a:solidFill>
                <a:latin typeface="Arial"/>
                <a:ea typeface="HG Mincho Light J"/>
              </a:rPr>
              <a:t> par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 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Access to </a:t>
            </a:r>
            <a:r>
              <a:rPr b="1" lang="en-GB" sz="1800" spc="-1" strike="noStrike">
                <a:solidFill>
                  <a:srgbClr val="ff6800"/>
                </a:solidFill>
                <a:latin typeface="Arial"/>
                <a:ea typeface="HG Mincho Light J"/>
              </a:rPr>
              <a:t>data bas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 (e.g.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Protein Data Ba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Advantages versus transfers and execution at once (Nimrod/G, Condor-G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Valid for close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Better adjustment of RSL parameters (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ax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Possibility to separately schedule transfers and exec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1796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Easy and efficient way to implement job mi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077480" cy="757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id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y: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Job Exec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228680" y="3586320"/>
            <a:ext cx="180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